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BA7-D3AC-4A49-A059-4E29B4BD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B56-5C4E-4236-A390-BEB617A6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790B3-4975-4B95-AF68-C6055080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2CE35-4686-4A4B-AC2F-52B574DE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2A028-AE48-4E9E-84ED-164A6598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DD62A-165C-4299-8206-5B5F1A3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3FA04-5E99-4542-A86F-3383E744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50E6F-AD44-444C-8C85-49253C5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0FC20-89A4-47E5-BDF8-356A66B7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8EB93-499C-4197-91B1-B0DCCF1C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A7E9F-04B9-46E4-8914-328A8B0D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75F29-520B-45D7-B1DE-B088B38D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283-EE23-447C-85EB-317E6577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D3216-BBBD-4713-80C5-1BCD750E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FC3DF-0505-4951-B84B-1E6BEEAD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3A8BA-2CBB-4D04-87DB-85BC00C8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18979-D0E0-40C6-AFD5-A63C8CB9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4F166-732C-4663-8D7E-431B7C2A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7761D-C1AE-4C14-8C29-5743E256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7AB65-7A66-48BF-B6F6-D272C6B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436F8-89F9-4A48-8903-7BB2AD7D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12220-FC0A-405F-98DD-9DE3151D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AC920-2209-4488-A453-4C9EE5FF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AA8-AFB7-47AD-B285-1155627F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40B75-1F36-46B6-8ED6-4032385C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36831-0718-48F5-95A8-48395524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C341A-4DAA-4A62-B675-69EEA987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E1FF3-282B-410B-86D7-07C7CE56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E5B35-1E10-4F73-9212-1442BC54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6A02D-4C49-412D-A93B-645E2CAA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D894B-9375-4DC6-B01C-0A9ED000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9EBF7-875E-4FFD-AFDA-6B3E7651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32993-D016-434E-9748-9010BFB0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93958-C428-4877-AF1D-9331A0F9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36DA1-DD52-4432-8FDC-8EC8EADF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40E89-6CFA-40FA-8A80-6FFFE216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461C6-41E5-4313-A754-66190DC0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BFDFC-4146-4937-A5FB-B897DDE3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4E434-755C-4672-B5BE-7CAA78CF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12662-D133-4BA6-A922-7C8F624E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7B186-5CCF-44CB-A7DA-B72E24BF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7C3F7-3D37-48F9-A438-9EEFD4A4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5E827-E43E-48FE-8574-8C3C3D52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BC518-2AD2-4ADC-BF72-90A23B6C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92C8B-3EC1-40B6-9BAD-E0FA2A1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1A149-A6EE-4A75-B9A5-0DE74FC3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19A21-6ECC-47B0-B34B-4F171313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4E732-6FDD-4CDD-80BF-BAB7B19A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5427D-8729-495E-96F1-0B130D0E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D4DF5-1B81-4CF5-ABDA-75695575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DA0D5-AC9A-4FD8-91BE-5CFB2A6D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AD76A-2F96-4701-8332-BDA35A98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25238-ECBA-4ED8-BD9C-00A48713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D7CCA-19D5-42DA-80AB-7873C801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F467F-F0AD-46C8-8B74-2819386C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F0EF2-E8F7-443D-8F1A-03C21CF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6E12A-DEF3-4928-9016-5A9A4AA4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30E83-A331-40A5-8D7D-45FA03A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CEE1F-C3A7-4C85-93F9-6FCD4609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9D510-72A3-42A8-92FB-77EF52FB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96574-4549-41B4-9D50-F2D0F63F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E3B-9102-4E77-857B-91052E80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8950-3458-45DE-AC6A-776DA524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766A-32CC-4B64-9649-225B4B18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34E4-96F0-44E4-9467-D7E8E406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690F-C98F-44B4-BE8C-1C47AF7D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E426-65C0-4752-AA1C-937A34FF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D12-6799-44AC-A935-5F3D278E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AC84-CAA0-4A50-A678-788158F9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C232-006C-42D6-9201-81706DCD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24E-AFE6-4164-A9CD-C143B984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A5D8-E263-4D27-BE89-62BA3164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9750-82C7-4C53-861F-0D6B513B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F782-4F0D-4E7F-BC16-845FA1A8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0001-9977-47CA-B718-CC8DA134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761B-A34B-4F17-B288-47FAC6EA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1674-9DDA-49EE-B0F5-A73C25E5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F0AE-E231-4E4D-A15D-2DCBD0CB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DE4-88BB-4FA8-82DF-A46F128E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189F-134D-4723-8EF9-8DFEC561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3130-3BAD-4726-B026-04767C21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6CA3-D1AE-4619-B432-F35505D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1C55-1B12-48A6-8D8A-D0A6AC50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33B7-2838-43CB-867C-72B347DC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2CAD-BD2C-48C4-ACDE-50C815A4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60D6-62DA-4F69-8D46-6235E2BA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56D82-9EE2-4336-84B9-58428D9B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EAA72-61A1-44CE-9C28-FF393027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CBD95-2332-4AA1-80C2-CCCFA9AE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44C-5400-4B42-BAB2-DDE4068C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4D2D5-9591-4114-ABDF-5CB6345E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AE09-B165-4E93-A6D5-84CAF101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DAF2-DC65-4966-A9A6-9431668F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FA677-5405-4291-A98C-57DA5346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7BB6E-35ED-4661-9ADE-E2123FB9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7845E-FD1E-42F2-B374-5AA700C9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15DAD-50EF-44EB-B796-34B0E5F7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B6AE-2EF6-4CAE-84CE-6735AA17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1D48F-1973-4BA8-A5D6-4069114B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1E356-4CAE-42B7-8420-98FBE365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1DF-A989-404F-A63B-E4A0FB14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39B06-CC14-4CF9-9EB9-F2F6C1F7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621B7-288C-443E-863C-CCAABA50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630B-9795-4C3E-9055-13993183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1DFCE-97C9-4A3D-93B5-3E83ABC5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3B94E-938B-4B59-A824-BEDCD050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A3EAB-CFC9-4465-B64B-A7237DEA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B9F23-0338-45D7-B10C-52431D3B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41D80-B01C-4C63-951C-2169FA44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18935-AB71-4EC7-B91E-13671718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A28E3-2ED0-4E2D-BC93-C804383F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F59-655C-444D-81C2-57388727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F32BD-5E89-4EB6-9A17-2F095F8F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5395D-58D9-4985-BB56-0ED5ACBD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85297-5FAE-4043-B6B8-3537E599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53468-E931-4BD0-8BE7-406ECE45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77DAA-7585-4AED-AC1E-C080099E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977F3-1E80-4A59-B696-AD5A583E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A538-EC32-4CB9-87F7-047F6240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D9C10-ACBB-4D55-9438-53384119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C1A5F-8BA7-4CF9-BAFE-F1E92D13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61F1-B6B9-4E02-AF16-E70D0106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DC1-58D9-4CD6-B62C-7C4BD4E9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89B1C-3492-448B-87F3-1A42E4E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659B8-4F40-4446-BF6A-C1869D8E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7E669-EABC-4C3D-AE5C-65085318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E575-457C-41CF-BD3D-BAE589E3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AE5CC-F2CB-4453-AC69-1B9727D9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62BAF-4F47-4542-9330-AFB6BB74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D1C19-0E05-4455-8EE1-3583204B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19231-F2CB-4240-8A65-38F66124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AE175-C9BD-48F3-BD6C-54281ADC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7ECFD-2BE8-4148-ABEC-DD5DA464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BBC-BB0A-4ADF-B332-7EE18A5B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71F3-C749-42E7-B331-7D5C5FE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739BA-AEB1-427F-973C-D9961F17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E439B-E843-477A-94A0-447076B6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02889-CD41-4971-A6E0-61DED9B9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8F621-73F1-4AD3-99DA-33970145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8835-5270-4403-B151-FE68858E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796CE-025E-422B-A7F8-DAF8857D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35047-EAA6-426B-9A5F-C1F86745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FD0B4-614D-445C-975B-8DF700A5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397CE-1E0B-464B-B949-D86BF74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19C5-10ED-4FFD-A1F3-165144C6F2C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5FE9-B0A9-433B-B525-AA1139DE8F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AAE6-B408-421F-99B0-26AFE596B7F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3983-886E-4B80-9D3E-D026721B60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19F2-2016-4082-AB93-D2B30105B51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68AA-385A-447E-B99B-F46F94E845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DDC8-78C0-4A60-9DAA-5D7281359E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8CA0-2D74-4EC8-AD21-9469E2061F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E3E4-A7A7-4999-B57B-5B459E54F30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1A90-3D19-4E9A-8C07-FBB17F3C90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7964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792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275D-8FA2-4898-84C7-1B0E90F967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63B2-53E1-4A11-9A98-E65C4D5CF2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F8AC-4DDE-4CFE-9F3F-E277FB0AFCC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E83C-D216-4521-8CF0-E71DC0C77A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A8B0-9F32-4490-97B5-E803EC471C2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D7ED-C0B1-4831-8CFB-16C4FF565E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4F22-E0FA-4486-9E34-877EA652B6C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4C85-EB97-487C-B407-D0A44BFCF31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FF54-7E04-42BF-B5E6-2020E6E76E0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9F02-E58D-4067-9899-2AF725EF25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94D6-A347-4C87-A4C6-56642CBA698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F2D7-93E6-442B-85FA-0F28CB187DA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F156-3920-4147-8740-968558B721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6BAA-42AC-4065-A28C-7AE0F46772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矩形 4"/>
          <p:cNvSpPr/>
          <p:nvPr/>
        </p:nvSpPr>
        <p:spPr>
          <a:xfrm>
            <a:off x="0" y="1628640"/>
            <a:ext cx="9144000" cy="1295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2"/>
          <p:cNvSpPr/>
          <p:nvPr/>
        </p:nvSpPr>
        <p:spPr>
          <a:xfrm>
            <a:off x="2792520" y="4359240"/>
            <a:ext cx="338436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395280" y="184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27b00"/>
                </a:solidFill>
                <a:latin typeface="微软雅黑"/>
                <a:ea typeface="微软雅黑"/>
              </a:rPr>
              <a:t>黄色背景论文毕业答辩</a:t>
            </a:r>
            <a:r>
              <a:rPr b="1" lang="en-US" sz="4000" spc="-1" strike="noStrike">
                <a:solidFill>
                  <a:srgbClr val="a27b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a27b00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0" y="23184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科生毕业答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9" descr=""/>
          <p:cNvPicPr/>
          <p:nvPr/>
        </p:nvPicPr>
        <p:blipFill>
          <a:blip r:embed="rId2"/>
          <a:stretch/>
        </p:blipFill>
        <p:spPr>
          <a:xfrm>
            <a:off x="2482920" y="4221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37" name="矩形 14"/>
          <p:cNvSpPr/>
          <p:nvPr/>
        </p:nvSpPr>
        <p:spPr>
          <a:xfrm>
            <a:off x="2771640" y="5079960"/>
            <a:ext cx="338472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图片 15" descr=""/>
          <p:cNvPicPr/>
          <p:nvPr/>
        </p:nvPicPr>
        <p:blipFill>
          <a:blip r:embed="rId3"/>
          <a:stretch/>
        </p:blipFill>
        <p:spPr>
          <a:xfrm>
            <a:off x="2462040" y="494028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39" name="TextBox 8"/>
          <p:cNvSpPr/>
          <p:nvPr/>
        </p:nvSpPr>
        <p:spPr>
          <a:xfrm>
            <a:off x="2987640" y="4221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汇报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314532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导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矩形 4"/>
          <p:cNvSpPr/>
          <p:nvPr/>
        </p:nvSpPr>
        <p:spPr>
          <a:xfrm>
            <a:off x="0" y="907920"/>
            <a:ext cx="9144000" cy="547380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12"/>
          <p:cNvSpPr/>
          <p:nvPr/>
        </p:nvSpPr>
        <p:spPr>
          <a:xfrm>
            <a:off x="1332000" y="148428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289080" y="18900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9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547" name="矩形 14"/>
          <p:cNvSpPr/>
          <p:nvPr/>
        </p:nvSpPr>
        <p:spPr>
          <a:xfrm>
            <a:off x="1332000" y="246852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15" descr=""/>
          <p:cNvPicPr/>
          <p:nvPr/>
        </p:nvPicPr>
        <p:blipFill>
          <a:blip r:embed="rId3"/>
          <a:stretch/>
        </p:blipFill>
        <p:spPr>
          <a:xfrm>
            <a:off x="826920" y="239724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549" name="TextBox 8"/>
          <p:cNvSpPr/>
          <p:nvPr/>
        </p:nvSpPr>
        <p:spPr>
          <a:xfrm>
            <a:off x="1619280" y="1413000"/>
            <a:ext cx="504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百度就搞不了科研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1"/>
          <p:cNvSpPr/>
          <p:nvPr/>
        </p:nvSpPr>
        <p:spPr>
          <a:xfrm>
            <a:off x="1332000" y="345276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13" descr=""/>
          <p:cNvPicPr/>
          <p:nvPr/>
        </p:nvPicPr>
        <p:blipFill>
          <a:blip r:embed="rId4"/>
          <a:stretch/>
        </p:blipFill>
        <p:spPr>
          <a:xfrm>
            <a:off x="826920" y="338148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552" name="矩形 17"/>
          <p:cNvSpPr/>
          <p:nvPr/>
        </p:nvSpPr>
        <p:spPr>
          <a:xfrm>
            <a:off x="1332000" y="4437000"/>
            <a:ext cx="6480000" cy="64764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图片 18" descr=""/>
          <p:cNvPicPr/>
          <p:nvPr/>
        </p:nvPicPr>
        <p:blipFill>
          <a:blip r:embed="rId5"/>
          <a:stretch/>
        </p:blipFill>
        <p:spPr>
          <a:xfrm>
            <a:off x="826920" y="4365720"/>
            <a:ext cx="792360" cy="7905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9"/>
          <p:cNvSpPr/>
          <p:nvPr/>
        </p:nvSpPr>
        <p:spPr>
          <a:xfrm>
            <a:off x="1619280" y="240660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谷歌就写不了英语摘要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619280" y="335772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做不了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1"/>
          <p:cNvSpPr/>
          <p:nvPr/>
        </p:nvSpPr>
        <p:spPr>
          <a:xfrm>
            <a:off x="1619280" y="4365720"/>
            <a:ext cx="597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知网就写不了论文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图片 3" descr=""/>
          <p:cNvPicPr/>
          <p:nvPr/>
        </p:nvPicPr>
        <p:blipFill>
          <a:blip r:embed="rId1"/>
          <a:srcRect l="0" t="4850" r="0" b="1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矩形 4"/>
          <p:cNvSpPr/>
          <p:nvPr/>
        </p:nvSpPr>
        <p:spPr>
          <a:xfrm>
            <a:off x="0" y="907920"/>
            <a:ext cx="9144000" cy="547380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2"/>
          <p:cNvSpPr/>
          <p:nvPr/>
        </p:nvSpPr>
        <p:spPr>
          <a:xfrm>
            <a:off x="755640" y="1147680"/>
            <a:ext cx="4500720" cy="397080"/>
          </a:xfrm>
          <a:prstGeom prst="rect">
            <a:avLst/>
          </a:pr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7"/>
          <p:cNvSpPr/>
          <p:nvPr/>
        </p:nvSpPr>
        <p:spPr>
          <a:xfrm>
            <a:off x="289080" y="189000"/>
            <a:ext cx="72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章 没有百度就搞不了科研有木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9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574560" cy="576000"/>
          </a:xfrm>
          <a:prstGeom prst="rect">
            <a:avLst/>
          </a:prstGeom>
          <a:ln w="0">
            <a:noFill/>
          </a:ln>
        </p:spPr>
      </p:pic>
      <p:sp>
        <p:nvSpPr>
          <p:cNvPr id="562" name="TextBox 8"/>
          <p:cNvSpPr/>
          <p:nvPr/>
        </p:nvSpPr>
        <p:spPr>
          <a:xfrm>
            <a:off x="920880" y="1008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1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标题在此闹个眼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6"/>
          <p:cNvSpPr/>
          <p:nvPr/>
        </p:nvSpPr>
        <p:spPr>
          <a:xfrm>
            <a:off x="611280" y="17161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Calibri"/>
              </a:rPr>
              <a:t>不是说大家，大家搞科研是不是抱个百度搜啊搜，搞个知网抄啊抄，翻译不是有道就是谷歌翻译，那有些人尼玛大段大段翻译，那出来的英语，我靠，中式英语</a:t>
            </a:r>
            <a:r>
              <a:rPr b="0" lang="en-US" sz="2000" spc="-1" strike="noStrike">
                <a:solidFill>
                  <a:srgbClr val="0c0c0c"/>
                </a:solidFill>
                <a:latin typeface="Calibri"/>
              </a:rPr>
              <a:t>enough</a:t>
            </a:r>
            <a:r>
              <a:rPr b="0" lang="zh-CN" sz="2000" spc="-1" strike="noStrike">
                <a:solidFill>
                  <a:srgbClr val="0c0c0c"/>
                </a:solidFill>
                <a:latin typeface="Calibri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Calibri"/>
              </a:rPr>
              <a:t>同样那句话，休得放肆无聊所做，喜欢拿下，不喜欢下下来痛骂一番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图片 23" descr=""/>
          <p:cNvPicPr/>
          <p:nvPr/>
        </p:nvPicPr>
        <p:blipFill>
          <a:blip r:embed="rId3"/>
          <a:stretch/>
        </p:blipFill>
        <p:spPr>
          <a:xfrm>
            <a:off x="7308720" y="5094360"/>
            <a:ext cx="9273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4:24:00Z</dcterms:created>
  <dc:creator>XINYANGMIAN</dc:creator>
  <dc:description/>
  <dc:language>en-US</dc:language>
  <cp:lastModifiedBy>yu wang</cp:lastModifiedBy>
  <cp:lastPrinted>1899-12-30T00:00:00Z</cp:lastPrinted>
  <dcterms:modified xsi:type="dcterms:W3CDTF">2015-08-03T12:25:52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