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FA3-3B34-4CE7-B4FC-AB3A0B0A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BED-0C98-412D-8E46-4EACCAC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418-EC84-4ACF-BF41-E848537B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A83-9B59-4BDC-B6DF-56F3416F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576B-8ED6-49BA-8E39-861C9AF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1DC3-AB04-4B4D-84F3-C6E372A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6FDF-33DC-4DFC-B8AB-172DDA2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50A6-C0E7-4C2F-841D-883A7C47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C76-3AC7-4B65-873C-245C8B3F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43E-CC53-49E2-881E-3BA459D6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0AA-A229-4B33-91A7-CB5ADF8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A5E-09A0-463A-8BEF-77D311A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A592-1A88-4003-91DD-01387FF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DA00-FFAE-43F7-8149-F8811D1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BC4F-DACF-485F-BA8A-2858141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46C-9E02-4354-B63B-84B2F0DC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18EB-886A-4B4C-9162-09457189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6F4-5A92-4BB6-87FA-DD996869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1A7-C42F-4315-B2F5-4D4771C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1B1-D764-4CB9-B4DC-091EE9F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4BF-C9EC-451C-9CD7-DE32E12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583-602E-4FB1-A089-9A16137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16A-D6E4-4EC5-A733-259639F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7BE-DD0B-42C1-8D43-219DF8E4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996-D186-4272-9DE6-5A702FFDEE88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AC85-0024-49BA-9825-6C71A202E4FA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37280" y="1125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灰色海边风景简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4747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640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57200" y="25909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5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4" descr="take_the_beach_home_prt"/>
          <p:cNvPicPr/>
          <p:nvPr/>
        </p:nvPicPr>
        <p:blipFill>
          <a:blip r:embed="rId1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85" descr="take_the_beach_home_qx"/>
          <p:cNvPicPr/>
          <p:nvPr/>
        </p:nvPicPr>
        <p:blipFill>
          <a:blip r:embed="rId2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86" descr="take_the_beach_home_sld"/>
          <p:cNvPicPr/>
          <p:nvPr/>
        </p:nvPicPr>
        <p:blipFill>
          <a:blip r:embed="rId3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87" descr="take_the_beach_home_trs"/>
          <p:cNvPicPr/>
          <p:nvPr/>
        </p:nvPicPr>
        <p:blipFill>
          <a:blip r:embed="rId4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2:25:26Z</dcterms:created>
  <dc:creator>User</dc:creator>
  <dc:description/>
  <dc:language>en-US</dc:language>
  <cp:lastModifiedBy>yu wang</cp:lastModifiedBy>
  <dcterms:modified xsi:type="dcterms:W3CDTF">2015-08-03T12:23:23Z</dcterms:modified>
  <cp:revision>6</cp:revision>
  <dc:subject/>
  <dc:title>Take the Beach Home</dc:title>
</cp:coreProperties>
</file>