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6CCE-70AC-4F46-A778-34735E369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5220-FDF0-4047-ABF5-413A33F9F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6A75A8-92C5-4C94-B67F-AA054FAF3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83280F-F4CE-4E22-A418-B0E68E6D8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441753-DB85-4A6D-B623-9E06E01C1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ADD0C0-5D8B-4DD0-AC11-D1D35695C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CF8385-F709-49CB-AABD-4E351DAB9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E9C84D-3256-4B6C-998C-EBE44AF81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20DC14-CCEB-4689-907D-239EF6F49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292270-FE29-447D-B2FE-47588BDE5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51AA94-609C-4509-9DB3-A8C41E6A4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48D4C5-F728-4642-B3B0-AA48361C1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7632-8DED-4B1F-9D15-DB7990AED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A7D3E9-250A-4EFA-8AA9-71032D855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EFE8B1-A9FD-464C-826F-24BE79A5D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F360A0-5FF3-4EE9-935A-5F3AE6796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C7FBFA-B353-42F4-8015-0E44025A1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B04BF8-CA5B-4350-9B8B-8B0415CFB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9F539F-48ED-4C58-BAA4-02E81BD83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12FDE4-67C8-45AD-A425-6BC5DBD1B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1D0595-F3AD-42C2-B0C7-43DE28026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DEBC22-B0F8-464A-90D1-18F06A738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DF5A58-291B-4F32-9FC1-210B9612F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C17A-0FB5-47A4-9138-C0933FDDA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CBEF96-8201-438A-9396-FA5882E7B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D4298F-75F5-4909-B336-DCDBA34AA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47752C-292F-4413-8925-00600B4B8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F2640C-5CFD-44A3-80D7-384538D4F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8C090C-3BE4-468E-9B12-B16EAB734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6B20E4-781B-413A-86F5-313BC063B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9348FD-F40E-4C28-9C15-F42F05D94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D341C0-30BA-4122-8FEA-0E8A18FFD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8107C2-FA48-4B5A-B4AE-C8330F69C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0C8337-801A-4E0B-B51D-F3BF93D7F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73F5F-ADC3-4057-AF90-91FA448EB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D6D966-D2DF-4BC9-AB29-150BCCAC3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AC39D7-6A37-4A4A-854F-BF2DEE1D4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6EAFAA-551B-4B0B-860D-77B31B043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72956B-F5D5-45FC-B5F2-506F3EFBC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8C443A-ED3E-4021-AB52-AC9984488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85787D-2DE8-4343-8ED2-6F8DFC7C4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D0A5F2-CE86-4922-94FF-482650DFF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94E74A-20B7-4AE5-BC4D-5BF06C903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C15810-9666-4FEF-8DED-164864CD5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CA981E-DDDD-46E6-B11D-12D893FD7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53368-16D1-4E5A-A698-D40DB6FC2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ABCD55-74AF-43B7-A0C9-ED6691835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DF96D0-D609-4184-9CD8-6F8364106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D171D7-CACA-4AB9-A604-69D30DA9A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22C7D1-A2F8-4761-A10A-7F2BFB09D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91BB30-C1A7-42E4-9670-A443A0258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89CF49-6147-4C4C-919A-E31C3985D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ED4953-E3AC-450D-8D78-2E360C0FB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32578B-523F-4520-9047-8879E5367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5496EA-4D2A-4885-89CE-FBBEAA447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3628A1-437D-446D-9560-C6A8170AA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5030F-494A-440F-BA28-34DA7BF26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08B39A-DA2C-4197-A788-2A3707E8A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71ED03-859F-4544-9B3E-53E2F4519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8AAF27-1DDB-4CF2-9F51-A73882187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E98C80-6FF4-4168-9125-143C3C06D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02862F-73B0-432F-83EB-1495C1A01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D9B595-DC1F-4EEB-9C91-23EADAD29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4F1559-5ED8-4C33-A6ED-1CD19A834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B1D6B-FDB7-499B-9F5D-BF6B870B3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D4397-3676-48BC-9BCB-A827067CE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D17D5-BE4C-4F52-BB59-BB94D81F4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63083-AB2F-49EA-B377-0AB432F27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3B87-70C4-4F05-BB3C-7BF81CC92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4F1CB-7AF9-481A-9963-11188F5B1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BF0C6-7737-412C-AF07-0347ED676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18292-2F16-420B-8812-8D36DD237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29DD2-11B8-4669-A42F-D4B6DD5EF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E5B6A-152C-46CA-9735-A1A66A5E9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0BB65-5D6B-4F46-AF10-8A445494A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87A81-A142-45C9-BA5B-3838C2C9E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F4B37-8DA5-464C-A7B0-C0A126B5C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53599-073A-4D6E-9A9A-EE7B5870D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CB8C7-5150-4B87-9F09-B3A7B9994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63E1-D232-4D64-9E37-C4E291ED6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EE836-EC02-47D2-BD42-865CAF172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89424-3D6F-4756-957C-3BEB8AFD4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E63E1-3346-448D-AC47-21F83D337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A042C-D1A9-425B-A5BE-F9AFD0FF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03197-79C9-4D70-AE10-42307F181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5592C-4A57-43BB-B249-4A2B1AC8F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FBE58-2FD0-4030-8327-1C5B01FA0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C27DB-99BA-46B9-B4F4-F21A8EE7C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3A348-8738-41B2-88F2-BA6D62A2B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F45AC-8731-4D2A-B0C5-0B06E0E9E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381A-B169-4123-A7EA-4EE49A6AD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C6678-0E4C-49D5-9BF0-0DDC59813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CB9EE-B7C8-4592-844F-9FDA7E33E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6A7CF-73BE-4894-9113-06868828C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C2907-B798-461E-A541-55D028151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78299-1749-4A1C-A10A-B9BCB4DFE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CEBCB-E760-45E2-B97A-E0BA5794C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2C43C-8678-42B5-9F9C-4CD09BB36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1B671B-8D9E-48EA-A79E-C1F1356C3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DBC73-2B02-4B46-9C51-1D5D18D46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F2265B-D70A-40AA-AAAD-4D0583FE7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ABE5-E974-4CA7-940A-E93BBDE50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F013C6-3D3F-4DD5-BA38-F906DBF2E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D9842C-4F40-4A29-B93A-AF614F219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CBB72B-8C1D-4D71-A078-F51D10A24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A2CEE5-5CF9-4F22-A9DE-97A73CB1B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DE1312-9034-4548-BFB8-1886C1DBA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B1E2B7-0050-4F71-ACD5-61BEB6ACF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DD3A7C-AEE7-4E61-8D12-72EF54C2B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4BCC6E-6CBA-4DF7-90C6-F3FF5E586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7F8842-359F-4563-ADAE-74459FDED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9CE7C1-E26F-433E-BC42-01EC1DC6B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41EB-87A5-4E86-90C5-3A55A2F0D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D4A007-D4F1-4A76-9592-5527AB829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E581CA-FF21-4AF0-8B3C-2CA2A70E3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F49906-0236-45BC-A822-3E7590BF7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F174BF-131B-4554-904B-FD75EB421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37E2F2-CDD8-42AE-96E8-9883BBE9E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13C658-B53E-4709-A164-29E3CEA3E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5FF711-38E3-483B-BAC0-93F7F6BE1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9FE8F5-F687-400C-A184-CC0C0C08E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52919C-593A-4DF9-837C-64EA36DDE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A4EDBF-9896-4377-91BF-DDE93898E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72AD-132B-4E1E-9ED9-BBB0328EC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1FB23B-E222-4BC8-9B0D-2E9903AD1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852071-EF19-4D1E-9E6F-F996603DC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88EFA9-2E68-465E-80A9-0F25F46AF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500AFA-F457-4458-BE3B-9EAA76EB8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1F03DF-E8EC-4B4F-A465-61F5C1622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C6772A-B471-4D52-8556-18A49DF79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8B9288-B376-408B-8842-0F2AC1A3B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846214-11A5-420A-8B89-0DF586818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8F202A-D605-4883-8146-DA9968D00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C3D287-F687-469A-8477-E24B8B214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70C7-B94E-4693-A810-78CA2B867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376096-000E-4086-9A76-223DDDFD3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CD226D-8CA5-4A21-B518-2E3272F32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C10056-FB7F-4F2C-86F3-46B9ECB7D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AFE603-1A61-4C9F-B858-8981DD0FC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E81E2F-4787-4892-A1F4-00C03F464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2B8FDE-AA5A-4C58-B8BC-C08357059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795D52-5948-45D9-B31E-5FF874B76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470D3E-3DFC-4658-9F54-31823431C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8748A9-4012-47F2-903A-C32206C66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5BE13F-5260-4908-AA59-2E98A0778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4839-A564-4974-9F89-454717BCB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D37485-EE52-4A64-BF0F-B1F473B2C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5DB507-18B2-4303-855C-90E29C79E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6E89C1-5944-4829-924A-7F96E36C1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C926CE-ACFB-457B-BB4A-2EE5E5730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C19213-F965-422D-BCD2-060264C04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AD08F7-6FF1-47D0-9826-CEDDE933C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74147D-7A0B-4767-A51E-0837A3CA1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CFC147-CFD5-4B74-9A6B-2C62D9125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39378C-1032-420B-88E2-8FF33C240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65B27A-0E9A-4E65-BF54-013E47EF0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任意多边形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任意多边形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F6B29-FE70-4C5A-B34F-6BE5B5DDADD1}" type="datetime">
              <a:rPr b="0" lang="zh-CN" sz="1000" spc="-1" strike="noStrike">
                <a:solidFill>
                  <a:srgbClr val="9b9a98"/>
                </a:solidFill>
                <a:latin typeface="Times New Roman"/>
              </a:rPr>
              <a:t>26/7/30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548FA-7B22-4F23-9943-7BA06EE41CC8}" type="slidenum">
              <a:rPr b="0" lang="zh-CN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8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0128E-214D-45BB-96FA-2E2132F78AC3}" type="datetime">
              <a:rPr b="0" lang="zh-CN" sz="1000" spc="-1" strike="noStrike">
                <a:solidFill>
                  <a:srgbClr val="9b9a98"/>
                </a:solidFill>
                <a:latin typeface="Times New Roman"/>
              </a:rPr>
              <a:t>26/7/30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29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sldNum" idx="30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9C9A4-9B92-494C-AEDB-9B2D8C7D13D7}" type="slidenum">
              <a:rPr b="0" lang="zh-CN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任意多边形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任意多边形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3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474D1-70C8-4B3C-9C67-F42E0C708883}" type="datetime">
              <a:rPr b="0" lang="zh-CN" sz="1000" spc="-1" strike="noStrike">
                <a:solidFill>
                  <a:srgbClr val="9b9a98"/>
                </a:solidFill>
                <a:latin typeface="Times New Roman"/>
              </a:rPr>
              <a:t>26/7/30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ftr" idx="3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sldNum" idx="3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095BD-7C01-41A7-ACA0-4F30FBB85B7B}" type="slidenum">
              <a:rPr b="0" lang="zh-CN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任意多边形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任意多边形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dt" idx="3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E0943-8D84-478D-8453-85196F8D86F5}" type="datetime">
              <a:rPr b="0" lang="zh-CN" sz="1000" spc="-1" strike="noStrike">
                <a:solidFill>
                  <a:srgbClr val="9b9a98"/>
                </a:solidFill>
                <a:latin typeface="Times New Roman"/>
              </a:rPr>
              <a:t>26/7/30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3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 type="sldNum" idx="3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C2279-9A40-4C55-9732-7804BAEE74CC}" type="slidenum">
              <a:rPr b="0" lang="zh-CN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任意多边形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任意多边形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A9110-55C7-4559-BFC7-E05EC396C05C}" type="datetime">
              <a:rPr b="0" lang="zh-CN" sz="1000" spc="-1" strike="noStrike">
                <a:solidFill>
                  <a:srgbClr val="9b9a98"/>
                </a:solidFill>
                <a:latin typeface="Times New Roman"/>
              </a:rPr>
              <a:t>26/7/30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4623B-0134-4357-A8B8-1C9673AF9B4C}" type="slidenum">
              <a:rPr b="0" lang="zh-CN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任意多边形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任意多边形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D95B4-9C0C-4E57-B2DE-06DCBDE50B05}" type="datetime">
              <a:rPr b="0" lang="zh-CN" sz="1000" spc="-1" strike="noStrike">
                <a:solidFill>
                  <a:srgbClr val="9b9a98"/>
                </a:solidFill>
                <a:latin typeface="Times New Roman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3C3D3-5520-4A57-9C7B-E580D4FEDEE8}" type="slidenum">
              <a:rPr b="0" lang="zh-CN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任意多边形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任意多边形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46157-64B1-4621-A0D6-C343468CE780}" type="datetime">
              <a:rPr b="0" lang="zh-CN" sz="1000" spc="-1" strike="noStrike">
                <a:solidFill>
                  <a:srgbClr val="9b9a98"/>
                </a:solidFill>
                <a:latin typeface="Times New Roman"/>
              </a:rPr>
              <a:t>26/7/30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E5CCF-6449-41A0-B51C-0D4A3F4F111B}" type="slidenum">
              <a:rPr b="0" lang="zh-CN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任意多边形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任意多边形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BC9A0-3807-4F4B-96C5-CC8DA2E26069}" type="datetime">
              <a:rPr b="0" lang="zh-CN" sz="1000" spc="-1" strike="noStrike">
                <a:solidFill>
                  <a:srgbClr val="9b9a98"/>
                </a:solidFill>
                <a:latin typeface="Times New Roman"/>
              </a:rPr>
              <a:t>26/7/3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DB92E-BC2C-45D4-BFEC-B0D9B7AD16AA}" type="slidenum">
              <a:rPr b="0" lang="zh-CN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任意多边形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任意多边形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CABF8-56B2-46A9-AE94-C6D4CF0AF76F}" type="datetime">
              <a:rPr b="0" lang="zh-CN" sz="1000" spc="-1" strike="noStrike">
                <a:solidFill>
                  <a:srgbClr val="9b9a98"/>
                </a:solidFill>
                <a:latin typeface="Times New Roman"/>
              </a:rPr>
              <a:t>26/7/30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0D163-FAE0-4222-9049-D3EC44705E95}" type="slidenum">
              <a:rPr b="0" lang="zh-CN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1A219-C3F6-4010-B552-3BE20B00B98F}" type="datetime">
              <a:rPr b="0" lang="zh-CN" sz="1000" spc="-1" strike="noStrike">
                <a:solidFill>
                  <a:srgbClr val="9b9a98"/>
                </a:solidFill>
                <a:latin typeface="Times New Roman"/>
              </a:rPr>
              <a:t>26/7/30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BC790-72A2-4C92-BAEB-5615930FD9FC}" type="slidenum">
              <a:rPr b="0" lang="zh-CN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任意多边形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任意多边形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6ACC2-3F0C-4D13-965D-DA22928F8733}" type="datetime">
              <a:rPr b="0" lang="zh-CN" sz="1000" spc="-1" strike="noStrike">
                <a:solidFill>
                  <a:srgbClr val="9b9a98"/>
                </a:solidFill>
                <a:latin typeface="Times New Roman"/>
              </a:rPr>
              <a:t>26/7/30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sldNum" idx="20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DBE00-97C1-43C1-B062-051F82B50019}" type="slidenum">
              <a:rPr b="0" lang="zh-CN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ftr" idx="2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任意多边形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任意多边形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08896-EE04-480C-B87F-7B4435C00180}" type="datetime">
              <a:rPr b="0" lang="zh-CN" sz="1000" spc="-1" strike="noStrike">
                <a:solidFill>
                  <a:srgbClr val="9b9a98"/>
                </a:solidFill>
                <a:latin typeface="Times New Roman"/>
              </a:rPr>
              <a:t>26/7/30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9EF9E-BA67-476B-BC27-7D913BFB1C1F}" type="slidenum">
              <a:rPr b="0" lang="zh-CN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任意多边形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任意多边形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5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ADFE5-8B86-40DF-ADFE-60A9D3D4B974}" type="datetime">
              <a:rPr b="0" lang="zh-CN" sz="1000" spc="-1" strike="noStrike">
                <a:solidFill>
                  <a:srgbClr val="9b9a98"/>
                </a:solidFill>
                <a:latin typeface="Times New Roman"/>
              </a:rPr>
              <a:t>26/7/30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6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7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BF3FA-8B8D-4A8B-A9C6-5F30B3C9744A}" type="slidenum">
              <a:rPr b="0" lang="zh-CN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矩形 6"/>
          <p:cNvSpPr/>
          <p:nvPr/>
        </p:nvSpPr>
        <p:spPr>
          <a:xfrm>
            <a:off x="376200" y="301680"/>
            <a:ext cx="8425080" cy="30970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6" name="Group 3"/>
          <p:cNvGrpSpPr/>
          <p:nvPr/>
        </p:nvGrpSpPr>
        <p:grpSpPr>
          <a:xfrm>
            <a:off x="5318280" y="692280"/>
            <a:ext cx="3231360" cy="2715840"/>
            <a:chOff x="5318280" y="692280"/>
            <a:chExt cx="3231360" cy="2715840"/>
          </a:xfrm>
        </p:grpSpPr>
        <p:sp>
          <p:nvSpPr>
            <p:cNvPr id="557" name="AutoShape 38"/>
            <p:cNvSpPr/>
            <p:nvPr/>
          </p:nvSpPr>
          <p:spPr>
            <a:xfrm>
              <a:off x="8162280" y="2293920"/>
              <a:ext cx="242280" cy="1058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71"/>
                  </a:moveTo>
                  <a:lnTo>
                    <a:pt x="3778" y="3871"/>
                  </a:lnTo>
                  <a:lnTo>
                    <a:pt x="5000" y="0"/>
                  </a:lnTo>
                  <a:lnTo>
                    <a:pt x="6222" y="3871"/>
                  </a:lnTo>
                  <a:lnTo>
                    <a:pt x="10000" y="3871"/>
                  </a:lnTo>
                  <a:lnTo>
                    <a:pt x="6889" y="6129"/>
                  </a:lnTo>
                  <a:lnTo>
                    <a:pt x="8111" y="10000"/>
                  </a:lnTo>
                  <a:lnTo>
                    <a:pt x="5000" y="7581"/>
                  </a:lnTo>
                  <a:lnTo>
                    <a:pt x="1889" y="10000"/>
                  </a:lnTo>
                  <a:lnTo>
                    <a:pt x="3111" y="6129"/>
                  </a:lnTo>
                  <a:lnTo>
                    <a:pt x="0" y="387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Oval 39"/>
            <p:cNvSpPr/>
            <p:nvPr/>
          </p:nvSpPr>
          <p:spPr>
            <a:xfrm>
              <a:off x="7127640" y="2328120"/>
              <a:ext cx="129240" cy="81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Oval 40"/>
            <p:cNvSpPr/>
            <p:nvPr/>
          </p:nvSpPr>
          <p:spPr>
            <a:xfrm>
              <a:off x="8420400" y="2164320"/>
              <a:ext cx="129240" cy="81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160" bIns="11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Oval 41"/>
            <p:cNvSpPr/>
            <p:nvPr/>
          </p:nvSpPr>
          <p:spPr>
            <a:xfrm>
              <a:off x="5318280" y="2409840"/>
              <a:ext cx="129240" cy="81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160" bIns="11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Oval 42"/>
            <p:cNvSpPr/>
            <p:nvPr/>
          </p:nvSpPr>
          <p:spPr>
            <a:xfrm>
              <a:off x="8291160" y="692280"/>
              <a:ext cx="129240" cy="81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160" bIns="11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AutoShape 43"/>
            <p:cNvSpPr/>
            <p:nvPr/>
          </p:nvSpPr>
          <p:spPr>
            <a:xfrm>
              <a:off x="7162920" y="980280"/>
              <a:ext cx="330840" cy="831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78"/>
                  </a:moveTo>
                  <a:lnTo>
                    <a:pt x="3821" y="3878"/>
                  </a:lnTo>
                  <a:lnTo>
                    <a:pt x="5041" y="0"/>
                  </a:lnTo>
                  <a:lnTo>
                    <a:pt x="6179" y="3878"/>
                  </a:lnTo>
                  <a:lnTo>
                    <a:pt x="10000" y="3878"/>
                  </a:lnTo>
                  <a:lnTo>
                    <a:pt x="6911" y="6122"/>
                  </a:lnTo>
                  <a:lnTo>
                    <a:pt x="8130" y="10000"/>
                  </a:lnTo>
                  <a:lnTo>
                    <a:pt x="5041" y="7551"/>
                  </a:lnTo>
                  <a:lnTo>
                    <a:pt x="1870" y="10000"/>
                  </a:lnTo>
                  <a:lnTo>
                    <a:pt x="3089" y="6122"/>
                  </a:lnTo>
                  <a:lnTo>
                    <a:pt x="0" y="387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AutoShape 44"/>
            <p:cNvSpPr/>
            <p:nvPr/>
          </p:nvSpPr>
          <p:spPr>
            <a:xfrm>
              <a:off x="7162920" y="3311280"/>
              <a:ext cx="330840" cy="968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60"/>
                  </a:moveTo>
                  <a:lnTo>
                    <a:pt x="3821" y="3860"/>
                  </a:lnTo>
                  <a:lnTo>
                    <a:pt x="5041" y="0"/>
                  </a:lnTo>
                  <a:lnTo>
                    <a:pt x="6179" y="3860"/>
                  </a:lnTo>
                  <a:lnTo>
                    <a:pt x="10000" y="3860"/>
                  </a:lnTo>
                  <a:lnTo>
                    <a:pt x="6911" y="6140"/>
                  </a:lnTo>
                  <a:lnTo>
                    <a:pt x="8130" y="10000"/>
                  </a:lnTo>
                  <a:lnTo>
                    <a:pt x="5041" y="7719"/>
                  </a:lnTo>
                  <a:lnTo>
                    <a:pt x="1870" y="10000"/>
                  </a:lnTo>
                  <a:lnTo>
                    <a:pt x="3089" y="6140"/>
                  </a:lnTo>
                  <a:lnTo>
                    <a:pt x="0" y="386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Oval 45"/>
            <p:cNvSpPr/>
            <p:nvPr/>
          </p:nvSpPr>
          <p:spPr>
            <a:xfrm>
              <a:off x="6112800" y="1896840"/>
              <a:ext cx="129240" cy="81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160" bIns="11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Oval 46"/>
            <p:cNvSpPr/>
            <p:nvPr/>
          </p:nvSpPr>
          <p:spPr>
            <a:xfrm>
              <a:off x="8366760" y="2397600"/>
              <a:ext cx="128520" cy="81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160" bIns="11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66" name="Picture 12" descr=""/>
          <p:cNvPicPr/>
          <p:nvPr/>
        </p:nvPicPr>
        <p:blipFill>
          <a:blip r:embed="rId1"/>
          <a:srcRect l="26327" t="0" r="29939" b="41745"/>
          <a:stretch/>
        </p:blipFill>
        <p:spPr>
          <a:xfrm>
            <a:off x="7424640" y="1595520"/>
            <a:ext cx="360360" cy="33336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4" descr=""/>
          <p:cNvPicPr/>
          <p:nvPr/>
        </p:nvPicPr>
        <p:blipFill>
          <a:blip r:embed="rId2"/>
          <a:stretch/>
        </p:blipFill>
        <p:spPr>
          <a:xfrm>
            <a:off x="611280" y="2836800"/>
            <a:ext cx="1122120" cy="1122480"/>
          </a:xfrm>
          <a:prstGeom prst="rect">
            <a:avLst/>
          </a:prstGeom>
          <a:ln w="0">
            <a:noFill/>
          </a:ln>
        </p:spPr>
      </p:pic>
      <p:sp>
        <p:nvSpPr>
          <p:cNvPr id="568" name="PlaceHolder 1"/>
          <p:cNvSpPr>
            <a:spLocks noGrp="1"/>
          </p:cNvSpPr>
          <p:nvPr>
            <p:ph type="subTitle"/>
          </p:nvPr>
        </p:nvSpPr>
        <p:spPr>
          <a:xfrm>
            <a:off x="1196640" y="3946680"/>
            <a:ext cx="7947000" cy="62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简洁保卫海洋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2"/>
          <p:cNvGrpSpPr/>
          <p:nvPr/>
        </p:nvGrpSpPr>
        <p:grpSpPr>
          <a:xfrm>
            <a:off x="2411280" y="2565360"/>
            <a:ext cx="4536000" cy="3599640"/>
            <a:chOff x="2411280" y="2565360"/>
            <a:chExt cx="4536000" cy="3599640"/>
          </a:xfrm>
        </p:grpSpPr>
        <p:sp>
          <p:nvSpPr>
            <p:cNvPr id="571" name="AutoShape 38"/>
            <p:cNvSpPr/>
            <p:nvPr/>
          </p:nvSpPr>
          <p:spPr>
            <a:xfrm>
              <a:off x="6395760" y="4689360"/>
              <a:ext cx="340200" cy="1422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10"/>
                  </a:moveTo>
                  <a:lnTo>
                    <a:pt x="3778" y="3810"/>
                  </a:lnTo>
                  <a:lnTo>
                    <a:pt x="5000" y="0"/>
                  </a:lnTo>
                  <a:lnTo>
                    <a:pt x="6222" y="3810"/>
                  </a:lnTo>
                  <a:lnTo>
                    <a:pt x="10000" y="3810"/>
                  </a:lnTo>
                  <a:lnTo>
                    <a:pt x="6889" y="6190"/>
                  </a:lnTo>
                  <a:lnTo>
                    <a:pt x="8111" y="10000"/>
                  </a:lnTo>
                  <a:lnTo>
                    <a:pt x="5000" y="7619"/>
                  </a:lnTo>
                  <a:lnTo>
                    <a:pt x="1889" y="10000"/>
                  </a:lnTo>
                  <a:lnTo>
                    <a:pt x="3111" y="6190"/>
                  </a:lnTo>
                  <a:lnTo>
                    <a:pt x="0" y="381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39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Oval 39"/>
            <p:cNvSpPr/>
            <p:nvPr/>
          </p:nvSpPr>
          <p:spPr>
            <a:xfrm>
              <a:off x="4951080" y="4735080"/>
              <a:ext cx="181440" cy="108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39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Oval 40"/>
            <p:cNvSpPr/>
            <p:nvPr/>
          </p:nvSpPr>
          <p:spPr>
            <a:xfrm>
              <a:off x="6765840" y="4517640"/>
              <a:ext cx="181440" cy="108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39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Oval 41"/>
            <p:cNvSpPr/>
            <p:nvPr/>
          </p:nvSpPr>
          <p:spPr>
            <a:xfrm>
              <a:off x="2411280" y="4843080"/>
              <a:ext cx="181440" cy="108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39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Oval 42"/>
            <p:cNvSpPr/>
            <p:nvPr/>
          </p:nvSpPr>
          <p:spPr>
            <a:xfrm>
              <a:off x="6584040" y="2565360"/>
              <a:ext cx="181440" cy="108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39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AutoShape 43"/>
            <p:cNvSpPr/>
            <p:nvPr/>
          </p:nvSpPr>
          <p:spPr>
            <a:xfrm>
              <a:off x="5004360" y="2951640"/>
              <a:ext cx="468720" cy="1177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46"/>
                  </a:moveTo>
                  <a:lnTo>
                    <a:pt x="3790" y="3846"/>
                  </a:lnTo>
                  <a:lnTo>
                    <a:pt x="5000" y="0"/>
                  </a:lnTo>
                  <a:lnTo>
                    <a:pt x="6210" y="3846"/>
                  </a:lnTo>
                  <a:lnTo>
                    <a:pt x="10000" y="3846"/>
                  </a:lnTo>
                  <a:lnTo>
                    <a:pt x="6935" y="6154"/>
                  </a:lnTo>
                  <a:lnTo>
                    <a:pt x="8065" y="10000"/>
                  </a:lnTo>
                  <a:lnTo>
                    <a:pt x="5000" y="7692"/>
                  </a:lnTo>
                  <a:lnTo>
                    <a:pt x="1935" y="10000"/>
                  </a:lnTo>
                  <a:lnTo>
                    <a:pt x="3065" y="6154"/>
                  </a:lnTo>
                  <a:lnTo>
                    <a:pt x="0" y="384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39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AutoShape 44"/>
            <p:cNvSpPr/>
            <p:nvPr/>
          </p:nvSpPr>
          <p:spPr>
            <a:xfrm>
              <a:off x="5004360" y="6038640"/>
              <a:ext cx="468720" cy="1263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750"/>
                  </a:moveTo>
                  <a:lnTo>
                    <a:pt x="3790" y="3750"/>
                  </a:lnTo>
                  <a:lnTo>
                    <a:pt x="5000" y="0"/>
                  </a:lnTo>
                  <a:lnTo>
                    <a:pt x="6210" y="3750"/>
                  </a:lnTo>
                  <a:lnTo>
                    <a:pt x="10000" y="3750"/>
                  </a:lnTo>
                  <a:lnTo>
                    <a:pt x="6935" y="6250"/>
                  </a:lnTo>
                  <a:lnTo>
                    <a:pt x="8065" y="10000"/>
                  </a:lnTo>
                  <a:lnTo>
                    <a:pt x="5000" y="7679"/>
                  </a:lnTo>
                  <a:lnTo>
                    <a:pt x="1935" y="10000"/>
                  </a:lnTo>
                  <a:lnTo>
                    <a:pt x="3065" y="6250"/>
                  </a:lnTo>
                  <a:lnTo>
                    <a:pt x="0" y="375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39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Oval 45"/>
            <p:cNvSpPr/>
            <p:nvPr/>
          </p:nvSpPr>
          <p:spPr>
            <a:xfrm>
              <a:off x="3526560" y="4163040"/>
              <a:ext cx="181440" cy="108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39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Oval 46"/>
            <p:cNvSpPr/>
            <p:nvPr/>
          </p:nvSpPr>
          <p:spPr>
            <a:xfrm>
              <a:off x="6690600" y="4827240"/>
              <a:ext cx="180720" cy="108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39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0" name="矩形 6"/>
          <p:cNvSpPr/>
          <p:nvPr/>
        </p:nvSpPr>
        <p:spPr>
          <a:xfrm>
            <a:off x="179280" y="260280"/>
            <a:ext cx="8785440" cy="1079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矩形 7"/>
          <p:cNvSpPr/>
          <p:nvPr/>
        </p:nvSpPr>
        <p:spPr>
          <a:xfrm>
            <a:off x="179280" y="1636560"/>
            <a:ext cx="8785440" cy="51040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Franklin Gothic Book"/>
              </a:rPr>
              <a:t>目录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583" name="Group 50"/>
          <p:cNvGrpSpPr/>
          <p:nvPr/>
        </p:nvGrpSpPr>
        <p:grpSpPr>
          <a:xfrm>
            <a:off x="2171880" y="2558880"/>
            <a:ext cx="4825800" cy="574920"/>
            <a:chOff x="2171880" y="2558880"/>
            <a:chExt cx="4825800" cy="574920"/>
          </a:xfrm>
        </p:grpSpPr>
        <p:sp>
          <p:nvSpPr>
            <p:cNvPr id="584" name="圆角矩形 5"/>
            <p:cNvSpPr/>
            <p:nvPr/>
          </p:nvSpPr>
          <p:spPr>
            <a:xfrm>
              <a:off x="2455560" y="2558880"/>
              <a:ext cx="4210920" cy="5749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圆角矩形 6"/>
            <p:cNvSpPr/>
            <p:nvPr/>
          </p:nvSpPr>
          <p:spPr>
            <a:xfrm>
              <a:off x="2171880" y="2630520"/>
              <a:ext cx="4825800" cy="431280"/>
            </a:xfrm>
            <a:prstGeom prst="roundRect">
              <a:avLst>
                <a:gd name="adj" fmla="val 16667"/>
              </a:avLst>
            </a:prstGeom>
            <a:solidFill>
              <a:srgbClr val="f5b901"/>
            </a:solidFill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6" name="Group 53"/>
          <p:cNvGrpSpPr/>
          <p:nvPr/>
        </p:nvGrpSpPr>
        <p:grpSpPr>
          <a:xfrm>
            <a:off x="2171880" y="3473280"/>
            <a:ext cx="4825800" cy="574920"/>
            <a:chOff x="2171880" y="3473280"/>
            <a:chExt cx="4825800" cy="574920"/>
          </a:xfrm>
        </p:grpSpPr>
        <p:sp>
          <p:nvSpPr>
            <p:cNvPr id="587" name="圆角矩形 15"/>
            <p:cNvSpPr/>
            <p:nvPr/>
          </p:nvSpPr>
          <p:spPr>
            <a:xfrm>
              <a:off x="2455560" y="3473280"/>
              <a:ext cx="4210920" cy="5749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圆角矩形 16"/>
            <p:cNvSpPr/>
            <p:nvPr/>
          </p:nvSpPr>
          <p:spPr>
            <a:xfrm>
              <a:off x="2171880" y="3544920"/>
              <a:ext cx="4825800" cy="431280"/>
            </a:xfrm>
            <a:prstGeom prst="roundRect">
              <a:avLst>
                <a:gd name="adj" fmla="val 16667"/>
              </a:avLst>
            </a:prstGeom>
            <a:solidFill>
              <a:srgbClr val="f5b901"/>
            </a:solidFill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9" name="Group 56"/>
          <p:cNvGrpSpPr/>
          <p:nvPr/>
        </p:nvGrpSpPr>
        <p:grpSpPr>
          <a:xfrm>
            <a:off x="2171880" y="4387680"/>
            <a:ext cx="4825800" cy="574920"/>
            <a:chOff x="2171880" y="4387680"/>
            <a:chExt cx="4825800" cy="574920"/>
          </a:xfrm>
        </p:grpSpPr>
        <p:sp>
          <p:nvSpPr>
            <p:cNvPr id="590" name="圆角矩形 18"/>
            <p:cNvSpPr/>
            <p:nvPr/>
          </p:nvSpPr>
          <p:spPr>
            <a:xfrm>
              <a:off x="2455560" y="4387680"/>
              <a:ext cx="4210920" cy="5749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圆角矩形 19"/>
            <p:cNvSpPr/>
            <p:nvPr/>
          </p:nvSpPr>
          <p:spPr>
            <a:xfrm>
              <a:off x="2171880" y="4459320"/>
              <a:ext cx="4825800" cy="431280"/>
            </a:xfrm>
            <a:prstGeom prst="roundRect">
              <a:avLst>
                <a:gd name="adj" fmla="val 16667"/>
              </a:avLst>
            </a:prstGeom>
            <a:solidFill>
              <a:srgbClr val="f5b901"/>
            </a:solidFill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2" name="Group 59"/>
          <p:cNvGrpSpPr/>
          <p:nvPr/>
        </p:nvGrpSpPr>
        <p:grpSpPr>
          <a:xfrm>
            <a:off x="2171880" y="5300640"/>
            <a:ext cx="4825800" cy="576360"/>
            <a:chOff x="2171880" y="5300640"/>
            <a:chExt cx="4825800" cy="576360"/>
          </a:xfrm>
        </p:grpSpPr>
        <p:sp>
          <p:nvSpPr>
            <p:cNvPr id="593" name="圆角矩形 21"/>
            <p:cNvSpPr/>
            <p:nvPr/>
          </p:nvSpPr>
          <p:spPr>
            <a:xfrm>
              <a:off x="2455560" y="5300640"/>
              <a:ext cx="4210920" cy="57636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圆角矩形 22"/>
            <p:cNvSpPr/>
            <p:nvPr/>
          </p:nvSpPr>
          <p:spPr>
            <a:xfrm>
              <a:off x="2171880" y="5372640"/>
              <a:ext cx="4825800" cy="432360"/>
            </a:xfrm>
            <a:prstGeom prst="roundRect">
              <a:avLst>
                <a:gd name="adj" fmla="val 16667"/>
              </a:avLst>
            </a:prstGeom>
            <a:solidFill>
              <a:srgbClr val="f5b901"/>
            </a:solidFill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5" name="TextBox 2"/>
          <p:cNvSpPr/>
          <p:nvPr/>
        </p:nvSpPr>
        <p:spPr>
          <a:xfrm>
            <a:off x="3057480" y="266220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9ba"/>
                </a:solidFill>
                <a:latin typeface="Franklin Gothic Medium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TextBox 23"/>
          <p:cNvSpPr/>
          <p:nvPr/>
        </p:nvSpPr>
        <p:spPr>
          <a:xfrm>
            <a:off x="3057480" y="357660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9ba"/>
                </a:solidFill>
                <a:latin typeface="Franklin Gothic Medium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TextBox 24"/>
          <p:cNvSpPr/>
          <p:nvPr/>
        </p:nvSpPr>
        <p:spPr>
          <a:xfrm>
            <a:off x="3057480" y="448956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9ba"/>
                </a:solidFill>
                <a:latin typeface="Franklin Gothic Medium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TextBox 25"/>
          <p:cNvSpPr/>
          <p:nvPr/>
        </p:nvSpPr>
        <p:spPr>
          <a:xfrm>
            <a:off x="3057480" y="540396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9ba"/>
                </a:solidFill>
                <a:latin typeface="Franklin Gothic Medium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9" name="Group 2"/>
          <p:cNvGrpSpPr/>
          <p:nvPr/>
        </p:nvGrpSpPr>
        <p:grpSpPr>
          <a:xfrm>
            <a:off x="2411280" y="2565360"/>
            <a:ext cx="4536000" cy="3599640"/>
            <a:chOff x="2411280" y="2565360"/>
            <a:chExt cx="4536000" cy="3599640"/>
          </a:xfrm>
        </p:grpSpPr>
        <p:sp>
          <p:nvSpPr>
            <p:cNvPr id="600" name="AutoShape 38"/>
            <p:cNvSpPr/>
            <p:nvPr/>
          </p:nvSpPr>
          <p:spPr>
            <a:xfrm>
              <a:off x="6395760" y="4689360"/>
              <a:ext cx="340200" cy="1422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10"/>
                  </a:moveTo>
                  <a:lnTo>
                    <a:pt x="3778" y="3810"/>
                  </a:lnTo>
                  <a:lnTo>
                    <a:pt x="5000" y="0"/>
                  </a:lnTo>
                  <a:lnTo>
                    <a:pt x="6222" y="3810"/>
                  </a:lnTo>
                  <a:lnTo>
                    <a:pt x="10000" y="3810"/>
                  </a:lnTo>
                  <a:lnTo>
                    <a:pt x="6889" y="6190"/>
                  </a:lnTo>
                  <a:lnTo>
                    <a:pt x="8111" y="10000"/>
                  </a:lnTo>
                  <a:lnTo>
                    <a:pt x="5000" y="7619"/>
                  </a:lnTo>
                  <a:lnTo>
                    <a:pt x="1889" y="10000"/>
                  </a:lnTo>
                  <a:lnTo>
                    <a:pt x="3111" y="6190"/>
                  </a:lnTo>
                  <a:lnTo>
                    <a:pt x="0" y="381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39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Oval 39"/>
            <p:cNvSpPr/>
            <p:nvPr/>
          </p:nvSpPr>
          <p:spPr>
            <a:xfrm>
              <a:off x="4951080" y="4735080"/>
              <a:ext cx="181440" cy="108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39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Oval 40"/>
            <p:cNvSpPr/>
            <p:nvPr/>
          </p:nvSpPr>
          <p:spPr>
            <a:xfrm>
              <a:off x="6765840" y="4517640"/>
              <a:ext cx="181440" cy="108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39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Oval 41"/>
            <p:cNvSpPr/>
            <p:nvPr/>
          </p:nvSpPr>
          <p:spPr>
            <a:xfrm>
              <a:off x="2411280" y="4843080"/>
              <a:ext cx="181440" cy="108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39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Oval 42"/>
            <p:cNvSpPr/>
            <p:nvPr/>
          </p:nvSpPr>
          <p:spPr>
            <a:xfrm>
              <a:off x="6584040" y="2565360"/>
              <a:ext cx="181440" cy="108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39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AutoShape 43"/>
            <p:cNvSpPr/>
            <p:nvPr/>
          </p:nvSpPr>
          <p:spPr>
            <a:xfrm>
              <a:off x="5004360" y="2951640"/>
              <a:ext cx="468720" cy="1177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46"/>
                  </a:moveTo>
                  <a:lnTo>
                    <a:pt x="3790" y="3846"/>
                  </a:lnTo>
                  <a:lnTo>
                    <a:pt x="5000" y="0"/>
                  </a:lnTo>
                  <a:lnTo>
                    <a:pt x="6210" y="3846"/>
                  </a:lnTo>
                  <a:lnTo>
                    <a:pt x="10000" y="3846"/>
                  </a:lnTo>
                  <a:lnTo>
                    <a:pt x="6935" y="6154"/>
                  </a:lnTo>
                  <a:lnTo>
                    <a:pt x="8065" y="10000"/>
                  </a:lnTo>
                  <a:lnTo>
                    <a:pt x="5000" y="7692"/>
                  </a:lnTo>
                  <a:lnTo>
                    <a:pt x="1935" y="10000"/>
                  </a:lnTo>
                  <a:lnTo>
                    <a:pt x="3065" y="6154"/>
                  </a:lnTo>
                  <a:lnTo>
                    <a:pt x="0" y="384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39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AutoShape 44"/>
            <p:cNvSpPr/>
            <p:nvPr/>
          </p:nvSpPr>
          <p:spPr>
            <a:xfrm>
              <a:off x="5004360" y="6038640"/>
              <a:ext cx="468720" cy="1263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750"/>
                  </a:moveTo>
                  <a:lnTo>
                    <a:pt x="3790" y="3750"/>
                  </a:lnTo>
                  <a:lnTo>
                    <a:pt x="5000" y="0"/>
                  </a:lnTo>
                  <a:lnTo>
                    <a:pt x="6210" y="3750"/>
                  </a:lnTo>
                  <a:lnTo>
                    <a:pt x="10000" y="3750"/>
                  </a:lnTo>
                  <a:lnTo>
                    <a:pt x="6935" y="6250"/>
                  </a:lnTo>
                  <a:lnTo>
                    <a:pt x="8065" y="10000"/>
                  </a:lnTo>
                  <a:lnTo>
                    <a:pt x="5000" y="7679"/>
                  </a:lnTo>
                  <a:lnTo>
                    <a:pt x="1935" y="10000"/>
                  </a:lnTo>
                  <a:lnTo>
                    <a:pt x="3065" y="6250"/>
                  </a:lnTo>
                  <a:lnTo>
                    <a:pt x="0" y="375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39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Oval 45"/>
            <p:cNvSpPr/>
            <p:nvPr/>
          </p:nvSpPr>
          <p:spPr>
            <a:xfrm>
              <a:off x="3526560" y="4163040"/>
              <a:ext cx="181440" cy="108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39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Oval 46"/>
            <p:cNvSpPr/>
            <p:nvPr/>
          </p:nvSpPr>
          <p:spPr>
            <a:xfrm>
              <a:off x="6690600" y="4827240"/>
              <a:ext cx="180720" cy="108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39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9" name="矩形 6"/>
          <p:cNvSpPr/>
          <p:nvPr/>
        </p:nvSpPr>
        <p:spPr>
          <a:xfrm>
            <a:off x="179280" y="260280"/>
            <a:ext cx="8785440" cy="1079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矩形 7"/>
          <p:cNvSpPr/>
          <p:nvPr/>
        </p:nvSpPr>
        <p:spPr>
          <a:xfrm>
            <a:off x="179280" y="1636560"/>
            <a:ext cx="8785440" cy="51040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Franklin Gothic Book"/>
              </a:rPr>
              <a:t>过渡页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612" name="Group 50"/>
          <p:cNvGrpSpPr/>
          <p:nvPr/>
        </p:nvGrpSpPr>
        <p:grpSpPr>
          <a:xfrm>
            <a:off x="2147760" y="3789360"/>
            <a:ext cx="4824720" cy="576360"/>
            <a:chOff x="2147760" y="3789360"/>
            <a:chExt cx="4824720" cy="576360"/>
          </a:xfrm>
        </p:grpSpPr>
        <p:sp>
          <p:nvSpPr>
            <p:cNvPr id="613" name="圆角矩形 7"/>
            <p:cNvSpPr/>
            <p:nvPr/>
          </p:nvSpPr>
          <p:spPr>
            <a:xfrm>
              <a:off x="2431440" y="3789360"/>
              <a:ext cx="4209840" cy="57636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圆角矩形 8"/>
            <p:cNvSpPr/>
            <p:nvPr/>
          </p:nvSpPr>
          <p:spPr>
            <a:xfrm>
              <a:off x="2147760" y="3861360"/>
              <a:ext cx="4824720" cy="432360"/>
            </a:xfrm>
            <a:prstGeom prst="roundRect">
              <a:avLst>
                <a:gd name="adj" fmla="val 16667"/>
              </a:avLst>
            </a:prstGeom>
            <a:solidFill>
              <a:srgbClr val="f5b901"/>
            </a:solidFill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5" name="TextBox 9"/>
          <p:cNvSpPr/>
          <p:nvPr/>
        </p:nvSpPr>
        <p:spPr>
          <a:xfrm>
            <a:off x="2940120" y="3892680"/>
            <a:ext cx="32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9ba"/>
                </a:solidFill>
                <a:latin typeface="Franklin Gothic Medium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矩形 6"/>
          <p:cNvSpPr/>
          <p:nvPr/>
        </p:nvSpPr>
        <p:spPr>
          <a:xfrm>
            <a:off x="395280" y="476280"/>
            <a:ext cx="8424720" cy="30970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7" name="Group 3"/>
          <p:cNvGrpSpPr/>
          <p:nvPr/>
        </p:nvGrpSpPr>
        <p:grpSpPr>
          <a:xfrm>
            <a:off x="5318280" y="692280"/>
            <a:ext cx="3231360" cy="2715840"/>
            <a:chOff x="5318280" y="692280"/>
            <a:chExt cx="3231360" cy="2715840"/>
          </a:xfrm>
        </p:grpSpPr>
        <p:sp>
          <p:nvSpPr>
            <p:cNvPr id="618" name="AutoShape 38"/>
            <p:cNvSpPr/>
            <p:nvPr/>
          </p:nvSpPr>
          <p:spPr>
            <a:xfrm>
              <a:off x="8162280" y="2293920"/>
              <a:ext cx="242280" cy="1058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71"/>
                  </a:moveTo>
                  <a:lnTo>
                    <a:pt x="3778" y="3871"/>
                  </a:lnTo>
                  <a:lnTo>
                    <a:pt x="5000" y="0"/>
                  </a:lnTo>
                  <a:lnTo>
                    <a:pt x="6222" y="3871"/>
                  </a:lnTo>
                  <a:lnTo>
                    <a:pt x="10000" y="3871"/>
                  </a:lnTo>
                  <a:lnTo>
                    <a:pt x="6889" y="6129"/>
                  </a:lnTo>
                  <a:lnTo>
                    <a:pt x="8111" y="10000"/>
                  </a:lnTo>
                  <a:lnTo>
                    <a:pt x="5000" y="7581"/>
                  </a:lnTo>
                  <a:lnTo>
                    <a:pt x="1889" y="10000"/>
                  </a:lnTo>
                  <a:lnTo>
                    <a:pt x="3111" y="6129"/>
                  </a:lnTo>
                  <a:lnTo>
                    <a:pt x="0" y="387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Oval 39"/>
            <p:cNvSpPr/>
            <p:nvPr/>
          </p:nvSpPr>
          <p:spPr>
            <a:xfrm>
              <a:off x="7127640" y="2328120"/>
              <a:ext cx="129240" cy="81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Oval 40"/>
            <p:cNvSpPr/>
            <p:nvPr/>
          </p:nvSpPr>
          <p:spPr>
            <a:xfrm>
              <a:off x="8420400" y="2164320"/>
              <a:ext cx="129240" cy="81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160" bIns="11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Oval 41"/>
            <p:cNvSpPr/>
            <p:nvPr/>
          </p:nvSpPr>
          <p:spPr>
            <a:xfrm>
              <a:off x="5318280" y="2409840"/>
              <a:ext cx="129240" cy="81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160" bIns="11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Oval 42"/>
            <p:cNvSpPr/>
            <p:nvPr/>
          </p:nvSpPr>
          <p:spPr>
            <a:xfrm>
              <a:off x="8291160" y="692280"/>
              <a:ext cx="129240" cy="81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160" bIns="11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AutoShape 43"/>
            <p:cNvSpPr/>
            <p:nvPr/>
          </p:nvSpPr>
          <p:spPr>
            <a:xfrm>
              <a:off x="7162920" y="980280"/>
              <a:ext cx="330840" cy="831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78"/>
                  </a:moveTo>
                  <a:lnTo>
                    <a:pt x="3821" y="3878"/>
                  </a:lnTo>
                  <a:lnTo>
                    <a:pt x="5041" y="0"/>
                  </a:lnTo>
                  <a:lnTo>
                    <a:pt x="6179" y="3878"/>
                  </a:lnTo>
                  <a:lnTo>
                    <a:pt x="10000" y="3878"/>
                  </a:lnTo>
                  <a:lnTo>
                    <a:pt x="6911" y="6122"/>
                  </a:lnTo>
                  <a:lnTo>
                    <a:pt x="8130" y="10000"/>
                  </a:lnTo>
                  <a:lnTo>
                    <a:pt x="5041" y="7551"/>
                  </a:lnTo>
                  <a:lnTo>
                    <a:pt x="1870" y="10000"/>
                  </a:lnTo>
                  <a:lnTo>
                    <a:pt x="3089" y="6122"/>
                  </a:lnTo>
                  <a:lnTo>
                    <a:pt x="0" y="387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AutoShape 44"/>
            <p:cNvSpPr/>
            <p:nvPr/>
          </p:nvSpPr>
          <p:spPr>
            <a:xfrm>
              <a:off x="7162920" y="3311280"/>
              <a:ext cx="330840" cy="968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60"/>
                  </a:moveTo>
                  <a:lnTo>
                    <a:pt x="3821" y="3860"/>
                  </a:lnTo>
                  <a:lnTo>
                    <a:pt x="5041" y="0"/>
                  </a:lnTo>
                  <a:lnTo>
                    <a:pt x="6179" y="3860"/>
                  </a:lnTo>
                  <a:lnTo>
                    <a:pt x="10000" y="3860"/>
                  </a:lnTo>
                  <a:lnTo>
                    <a:pt x="6911" y="6140"/>
                  </a:lnTo>
                  <a:lnTo>
                    <a:pt x="8130" y="10000"/>
                  </a:lnTo>
                  <a:lnTo>
                    <a:pt x="5041" y="7719"/>
                  </a:lnTo>
                  <a:lnTo>
                    <a:pt x="1870" y="10000"/>
                  </a:lnTo>
                  <a:lnTo>
                    <a:pt x="3089" y="6140"/>
                  </a:lnTo>
                  <a:lnTo>
                    <a:pt x="0" y="386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Oval 45"/>
            <p:cNvSpPr/>
            <p:nvPr/>
          </p:nvSpPr>
          <p:spPr>
            <a:xfrm>
              <a:off x="6112800" y="1896840"/>
              <a:ext cx="129240" cy="81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160" bIns="11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Oval 46"/>
            <p:cNvSpPr/>
            <p:nvPr/>
          </p:nvSpPr>
          <p:spPr>
            <a:xfrm>
              <a:off x="8366760" y="2397600"/>
              <a:ext cx="128520" cy="81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160" bIns="11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27" name="Picture 12" descr=""/>
          <p:cNvPicPr/>
          <p:nvPr/>
        </p:nvPicPr>
        <p:blipFill>
          <a:blip r:embed="rId1"/>
          <a:srcRect l="26327" t="0" r="29939" b="41745"/>
          <a:stretch/>
        </p:blipFill>
        <p:spPr>
          <a:xfrm>
            <a:off x="7424640" y="1595520"/>
            <a:ext cx="360360" cy="33336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4" descr=""/>
          <p:cNvPicPr/>
          <p:nvPr/>
        </p:nvPicPr>
        <p:blipFill>
          <a:blip r:embed="rId2"/>
          <a:stretch/>
        </p:blipFill>
        <p:spPr>
          <a:xfrm>
            <a:off x="611280" y="2836800"/>
            <a:ext cx="1122120" cy="1122480"/>
          </a:xfrm>
          <a:prstGeom prst="rect">
            <a:avLst/>
          </a:prstGeom>
          <a:ln w="0">
            <a:noFill/>
          </a:ln>
        </p:spPr>
      </p:pic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047600" y="3905280"/>
            <a:ext cx="7772400" cy="89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Franklin Gothic Book"/>
              </a:rPr>
              <a:t>谢谢收看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2184480" y="4892400"/>
            <a:ext cx="6400800" cy="6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模板打包下载</a:t>
            </a:r>
            <a:r>
              <a:rPr b="0" lang="zh-CN" sz="1600" spc="-1" strike="noStrike" u="sng">
                <a:solidFill>
                  <a:srgbClr val="00c8c3"/>
                </a:solidFill>
                <a:uFillTx/>
                <a:latin typeface="Arial"/>
                <a:ea typeface="宋体"/>
                <a:hlinkClick r:id="rId3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ffffff"/>
                </a:solidFill>
                <a:latin typeface="Franklin Gothic Book"/>
              </a:rPr>
              <a:t>使用规范说明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00c8c3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c8c3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c8c3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900" spc="-1" strike="noStrike" u="sng">
                <a:solidFill>
                  <a:srgbClr val="00c8c3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c8c3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900" spc="-1" strike="noStrike" u="sng">
                <a:solidFill>
                  <a:srgbClr val="00c8c3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c8c3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c8c3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c8c3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c8c3"/>
                </a:solidFill>
                <a:uFillTx/>
                <a:latin typeface="Arial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c8c3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c8c3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c8c3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c8c3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c8c3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c8c3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c8c3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c8c3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0T02:23:00Z</dcterms:created>
  <dc:creator>ppt宝藏</dc:creator>
  <dc:description/>
  <dc:language>en-US</dc:language>
  <cp:lastModifiedBy>yu wang</cp:lastModifiedBy>
  <cp:lastPrinted>1899-12-30T00:00:00Z</cp:lastPrinted>
  <dcterms:modified xsi:type="dcterms:W3CDTF">2015-08-03T12:23:46Z</dcterms:modified>
  <cp:revision>8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