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75AB5B-FE9C-4C42-8F5E-5B7C2C80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6D5E9-A587-4AA5-A2A5-10E0405C4D6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A14-C610-4D8E-A1D8-B54A8D65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190-E3AA-46F7-BFDD-E6DA54D4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DA9-CE8C-4D67-947D-9A69C82E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10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80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6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10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80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169-E087-41A1-8E19-C4D46A8D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54AF-3F7A-489D-9805-55AFC806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EDA-7853-4090-9457-6AAF408C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86B5-CB38-4F99-AA86-ED6D370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13EB-1110-43B0-AAA3-322378D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F79-28A8-44D9-B69F-461A571D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116640"/>
            <a:ext cx="67813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E73D-F295-4BB2-8D1A-231D0E4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E982-8D28-438A-B69D-672E891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15B-8019-469D-AA65-7A019D8A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3369-96E7-4564-B333-5B4E56C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DC22-ADF9-4DD2-9B2B-B2A0FEB3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68CA-33DE-48F0-B130-02F219C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85A-0C22-4FE3-889A-978EF3B3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104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800" y="119664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6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104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800" y="3744000"/>
            <a:ext cx="2782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700-6391-429E-A003-94E53C93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CDE-B34B-411E-B58B-B633680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79D-D874-404A-8FA1-74E2F65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872-3954-419C-AD15-A2951D6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116640"/>
            <a:ext cx="67813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FA5-BCC0-4A2B-AAC1-84F5F0F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057-D8C1-4271-8AD0-639A60B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7280" y="374400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E1F-F11C-43D9-92EF-8FCFE1F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7280" y="1196640"/>
            <a:ext cx="42163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640" y="3744000"/>
            <a:ext cx="8640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FC8-3B85-4659-B48E-673E986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PPP_SENVI_TLE_Fresh_Spring_Day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640" y="1556640"/>
            <a:ext cx="4680000" cy="12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602320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4760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224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7232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786DAC-344F-4592-9F0D-D413CE5B9D7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602320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320" y="6553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553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50A9C6-3626-4270-95B0-692C4830E0D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640" y="692640"/>
            <a:ext cx="6696360" cy="12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简洁房产物业</a:t>
            </a:r>
            <a:r>
              <a:rPr b="0" lang="en-US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602320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640" y="2925000"/>
            <a:ext cx="4680000" cy="93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808080"/>
              </a:solidFill>
              <a:latin typeface="Arial"/>
              <a:ea typeface="微软雅黑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16640"/>
            <a:ext cx="678132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602320"/>
              </a:solidFill>
              <a:latin typeface="Arial Black"/>
              <a:ea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602320"/>
                </a:solidFill>
                <a:latin typeface="Arial Black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dissolve/>
      </p:transition>
    </mc:Choice>
    <mc:Fallback>
      <p:transition>
        <p:dissolve/>
      </p:transition>
    </mc:Fallback>
  </mc:AlternateContent>
</p:sld>
</file>

<file path=ppt/theme/theme1.xml><?xml version="1.0" encoding="utf-8"?>
<a:theme xmlns:a="http://schemas.openxmlformats.org/drawingml/2006/main" name="Simple 04">
  <a:themeElements>
    <a:clrScheme name="PWC-Maroon">
      <a:dk1>
        <a:srgbClr val="000000"/>
      </a:dk1>
      <a:lt1>
        <a:srgbClr val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04">
  <a:themeElements>
    <a:clrScheme name="PWC-Maroon">
      <a:dk1>
        <a:srgbClr val="000000"/>
      </a:dk1>
      <a:lt1>
        <a:srgbClr val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02320"/>
      </a:dk2>
      <a:lt2>
        <a:srgbClr val="ffffff"/>
      </a:lt2>
      <a:accent1>
        <a:srgbClr val="602320"/>
      </a:accent1>
      <a:accent2>
        <a:srgbClr val="e27588"/>
      </a:accent2>
      <a:accent3>
        <a:srgbClr val="a32020"/>
      </a:accent3>
      <a:accent4>
        <a:srgbClr val="e0301e"/>
      </a:accent4>
      <a:accent5>
        <a:srgbClr val="dc6900"/>
      </a:accent5>
      <a:accent6>
        <a:srgbClr val="ffb600"/>
      </a:accent6>
      <a:hlink>
        <a:srgbClr val="0000ff"/>
      </a:hlink>
      <a:folHlink>
        <a:srgbClr val="00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5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4:20:17Z</dcterms:created>
  <dc:creator>ilovePPT.ORG</dc:creator>
  <dc:description/>
  <dc:language>en-US</dc:language>
  <cp:lastModifiedBy>yu wang</cp:lastModifiedBy>
  <dcterms:modified xsi:type="dcterms:W3CDTF">2015-08-03T12:23:5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