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6588000" y="87480"/>
            <a:ext cx="2556000" cy="533160"/>
            <a:chOff x="6588000" y="87480"/>
            <a:chExt cx="2556000" cy="533160"/>
          </a:xfrm>
        </p:grpSpPr>
        <p:sp>
          <p:nvSpPr>
            <p:cNvPr id="3" name="Rectangle 10"/>
            <p:cNvSpPr/>
            <p:nvPr/>
          </p:nvSpPr>
          <p:spPr>
            <a:xfrm>
              <a:off x="6588000" y="87480"/>
              <a:ext cx="601920" cy="533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flipH="1">
              <a:off x="7238880" y="87480"/>
              <a:ext cx="601920" cy="533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7889760" y="87480"/>
              <a:ext cx="601920" cy="533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8542440" y="87480"/>
              <a:ext cx="601560" cy="533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808080"/>
              </a:gs>
              <a:gs pos="100000">
                <a:srgbClr val="dbd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080" y="2924280"/>
            <a:ext cx="2509920" cy="100944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627280" y="2924280"/>
            <a:ext cx="1513080" cy="100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 flipH="1">
            <a:off x="4264200" y="2924280"/>
            <a:ext cx="1512720" cy="1009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902200" y="2924280"/>
            <a:ext cx="1513080" cy="100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540560" y="2924280"/>
            <a:ext cx="1513080" cy="100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5"/>
          <p:cNvSpPr/>
          <p:nvPr/>
        </p:nvSpPr>
        <p:spPr>
          <a:xfrm>
            <a:off x="4427640" y="5084640"/>
            <a:ext cx="4276800" cy="9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741320" y="184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5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84360" y="1268280"/>
            <a:ext cx="7920000" cy="48974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2"/>
          <p:cNvGrpSpPr/>
          <p:nvPr/>
        </p:nvGrpSpPr>
        <p:grpSpPr>
          <a:xfrm>
            <a:off x="1619280" y="1844640"/>
            <a:ext cx="5832000" cy="647640"/>
            <a:chOff x="1619280" y="1844640"/>
            <a:chExt cx="5832000" cy="647640"/>
          </a:xfrm>
        </p:grpSpPr>
        <p:sp>
          <p:nvSpPr>
            <p:cNvPr id="92" name="AutoShape 20"/>
            <p:cNvSpPr/>
            <p:nvPr/>
          </p:nvSpPr>
          <p:spPr>
            <a:xfrm>
              <a:off x="1619280" y="18446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1"/>
            <p:cNvSpPr/>
            <p:nvPr/>
          </p:nvSpPr>
          <p:spPr>
            <a:xfrm>
              <a:off x="2050920" y="24811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619280" y="2709720"/>
            <a:ext cx="5832000" cy="647640"/>
            <a:chOff x="1619280" y="2709720"/>
            <a:chExt cx="5832000" cy="647640"/>
          </a:xfrm>
        </p:grpSpPr>
        <p:sp>
          <p:nvSpPr>
            <p:cNvPr id="95" name="AutoShape 24"/>
            <p:cNvSpPr/>
            <p:nvPr/>
          </p:nvSpPr>
          <p:spPr>
            <a:xfrm>
              <a:off x="1619280" y="270972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5"/>
            <p:cNvSpPr/>
            <p:nvPr/>
          </p:nvSpPr>
          <p:spPr>
            <a:xfrm>
              <a:off x="2050920" y="334620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1617840" y="3575160"/>
            <a:ext cx="5832000" cy="647640"/>
            <a:chOff x="1617840" y="3575160"/>
            <a:chExt cx="5832000" cy="647640"/>
          </a:xfrm>
        </p:grpSpPr>
        <p:sp>
          <p:nvSpPr>
            <p:cNvPr id="98" name="AutoShape 27"/>
            <p:cNvSpPr/>
            <p:nvPr/>
          </p:nvSpPr>
          <p:spPr>
            <a:xfrm>
              <a:off x="1617840" y="35751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2049480" y="421164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9"/>
          <p:cNvGrpSpPr/>
          <p:nvPr/>
        </p:nvGrpSpPr>
        <p:grpSpPr>
          <a:xfrm>
            <a:off x="1617840" y="4440240"/>
            <a:ext cx="5832000" cy="647640"/>
            <a:chOff x="1617840" y="4440240"/>
            <a:chExt cx="5832000" cy="647640"/>
          </a:xfrm>
        </p:grpSpPr>
        <p:sp>
          <p:nvSpPr>
            <p:cNvPr id="101" name="AutoShape 30"/>
            <p:cNvSpPr/>
            <p:nvPr/>
          </p:nvSpPr>
          <p:spPr>
            <a:xfrm>
              <a:off x="1617840" y="44402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049480" y="50767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3"/>
          <p:cNvSpPr/>
          <p:nvPr/>
        </p:nvSpPr>
        <p:spPr>
          <a:xfrm>
            <a:off x="42638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4298760" y="28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429876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426204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732812"/>
              </a:gs>
              <a:gs pos="50000">
                <a:srgbClr val="f95626"/>
              </a:gs>
              <a:gs pos="100000">
                <a:srgbClr val="73281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概    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8:12Z</dcterms:created>
  <dc:creator>aying</dc:creator>
  <dc:description/>
  <dc:language>en-US</dc:language>
  <cp:lastModifiedBy>yu wang</cp:lastModifiedBy>
  <dcterms:modified xsi:type="dcterms:W3CDTF">2015-08-03T12:23:45Z</dcterms:modified>
  <cp:revision>10</cp:revision>
  <dc:subject/>
  <dc:title>幻灯片 1</dc:title>
</cp:coreProperties>
</file>