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57B7-3694-488F-B4A1-6A6AA1F9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130-5270-4FEC-B50A-B34A01D3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5D3-5E33-43DE-BA9B-3B34D1E0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DAFB-963A-4300-A587-3F88E2BD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0C6F-F80D-4DBA-8D48-38534BF5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240-8DE7-4F70-8B2C-33827538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65E4-50A1-49F8-9F0B-59374368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25A-198D-40CB-BE72-0C7559C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31E7-5B2E-4291-B447-A1429448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A43-C24A-42F4-8FE8-E5BDBEA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F2D-70D1-47A2-9716-CFEE81CB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42F-1E6F-483F-ADFF-A3544BD2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DAA-06A5-4928-9280-C18C554BBD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美毕业论文答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9T21:16:03Z</dcterms:created>
  <dc:creator>jaming1314</dc:creator>
  <dc:description/>
  <cp:keywords/>
  <dc:language>en-US</dc:language>
  <cp:lastModifiedBy>yu wang</cp:lastModifiedBy>
  <cp:lastPrinted>1899-12-30T00:00:00Z</cp:lastPrinted>
  <dcterms:modified xsi:type="dcterms:W3CDTF">2015-08-03T12:24:17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38</vt:lpwstr>
  </property>
</Properties>
</file>