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6988-64DF-41E0-9E1F-F74E305F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5AF-95DE-468D-A4CC-A1241666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9E2-EFBC-40BC-8F22-365E6920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E76-0AC4-41F9-B71C-DCBC7AAA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F42B-E513-41E0-991F-98FA89CB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5B8A-7122-4387-BBB2-D599F8A0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1A71-28E1-4800-B7A3-4695A521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CE42-EFE4-4B3B-9656-806910E7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B1C6-A43F-41E4-8F0C-EC998922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E8D7-4F60-4187-9A84-760C7809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6839-6505-4B3E-9888-2CF79468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0B6-0520-4073-B129-F3BB6B1B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0B11-BD9C-4874-B8E0-BE4B66F3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E3BB-F749-48A0-8801-1414B09F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F6F6-C02C-4DC6-8703-9814E299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4806-0BE9-48E0-9D89-E0052DC8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35E8-0747-4AC7-91FE-1DF9F004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2B55-7AF6-41BD-95BC-7951691A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E24A-12AC-4515-859E-26CB40E3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EDE2-E2D4-43E6-B28D-C031ED7F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3CB5-4933-4A2E-AAD0-A8E9E347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C95B-762E-42CC-99D9-D47B3A0C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9B8D-1D9A-4F33-83AD-85533FE9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B39-904A-4E3E-8B8D-CB9D3E10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2A9043-29B1-4905-848E-C58B72A644B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0D47CE-970B-48E3-8462-94A1F349960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homenagemsoapmicrosoft-090813111255-phpapp01-slide-1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3" name="矩形 1"/>
          <p:cNvSpPr/>
          <p:nvPr/>
        </p:nvSpPr>
        <p:spPr>
          <a:xfrm>
            <a:off x="2361240" y="1268640"/>
            <a:ext cx="4763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金属灰企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homenagemsoapmicrosoft-090813111255-phpapp01-slide-10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3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" descr="homenagemsoapmicrosoft-090813111255-phpapp01-slide-11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5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homenagemsoapmicrosoft-090813111255-phpapp01-slide-12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7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" descr="homenagemsoapmicrosoft-090813111255-phpapp01-slide-13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9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homenagemsoapmicrosoft-090813111255-phpapp01-slide-14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homenagemsoapmicrosoft-090813111255-phpapp01-slide-15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2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homenagemsoapmicrosoft-090813111255-phpapp01-slide-16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4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homenagemsoapmicrosoft-090813111255-phpapp01-slide-17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6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homenagemsoapmicrosoft-090813111255-phpapp01-slide-18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8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homenagemsoapmicrosoft-090813111255-phpapp01-slide-19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0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homenagemsoapmicrosoft-090813111255-phpapp01-slide-2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6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" descr="homenagemsoapmicrosoft-090813111255-phpapp01-slide-20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2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homenagemsoapmicrosoft-090813111255-phpapp01-slide-21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4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11640" y="645948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homenagemsoapmicrosoft-090813111255-phpapp01-slide-22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7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homenagemsoapmicrosoft-090813111255-phpapp01-slide-23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9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homenagemsoapmicrosoft-090813111255-phpapp01-slide-24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1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" descr="homenagemsoapmicrosoft-090813111255-phpapp01-slide-25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3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" descr="homenagemsoapmicrosoft-090813111255-phpapp01-slide-26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5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" descr="homenagemsoapmicrosoft-090813111255-phpapp01-slide-27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7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homenagemsoapmicrosoft-090813111255-phpapp01-slide-28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9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1" descr="homenagemsoapmicrosoft-090813111255-phpapp01-slide-29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1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homenagemsoapmicrosoft-090813111255-phpapp01-slide-3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8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homenagemsoapmicrosoft-090813111255-phpapp01-slide-30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3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" descr="homenagemsoapmicrosoft-090813111255-phpapp01-slide-31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5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homenagemsoapmicrosoft-090813111255-phpapp01-slide-32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7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homenagemsoapmicrosoft-090813111255-phpapp01-slide-33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9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" descr="homenagemsoapmicrosoft-090813111255-phpapp01-slide-34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51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1" descr="homenagemsoapmicrosoft-090813111255-phpapp01-slide-35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53" name="TextBox 4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ffff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ffff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ffff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ffff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homenagemsoapmicrosoft-090813111255-phpapp01-slide-4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0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homenagemsoapmicrosoft-090813111255-phpapp01-slide-5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2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homenagemsoapmicrosoft-090813111255-phpapp01-slide-6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4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homenagemsoapmicrosoft-090813111255-phpapp01-slide-7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6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homenagemsoapmicrosoft-090813111255-phpapp01-slide-8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8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83640" y="645948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homenagemsoapmicrosoft-090813111255-phpapp01-slide-9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1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自定义 7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自定义 7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  <Words>184</Words>
  <Paragraphs>33</Paragraphs>
  <Company>H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0:36:06Z</dcterms:created>
  <dc:creator>hp</dc:creator>
  <dc:description/>
  <dc:language>en-US</dc:language>
  <cp:lastModifiedBy>yu wang</cp:lastModifiedBy>
  <dcterms:modified xsi:type="dcterms:W3CDTF">2015-08-03T12:25:18Z</dcterms:modified>
  <cp:revision>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6</vt:r8>
  </property>
</Properties>
</file>