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DEDB-5B92-40AA-8752-4EA5FC32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3EA3-00C3-460D-B4A8-F181E9E8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3D4D1-DB20-4EB2-8946-E1BA4DC6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2E6C-69EC-4143-A69D-B49B3408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D33A-5205-4944-A666-9485F0EF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CB5-843D-4B1D-990B-28645BF2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B3B3-C579-4DCB-BE4F-A2D4D738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03B9-0EAE-4A5E-B488-346E3670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DEB8-E95F-449E-92EA-917092FB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E9EA-A794-45DC-8D29-14F28F05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E917-462B-497A-8988-4B9B6DD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CD36A-DD29-4ED8-8FA7-E50E0D01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E2D-BCD6-4758-961F-748DA24C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DCA1-7C80-41A7-9539-A1FEAAE5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EE85-D248-4F26-9370-344ADA6C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8068-206D-480A-B303-6AB77BB6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2C60-9180-40FC-A342-2AE45A67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4E94-C511-45EA-910E-1B758D78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052C-0EEC-456F-A46A-67A7398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72C6-499D-427F-A15B-1339CB12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840F-8AC0-4BEB-99CE-277D15C5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042E-3F5E-42E8-A90A-1630548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8941-2ED9-430F-8FC1-AAD4E724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F3F8F-8C2B-4DA2-A21C-3D5EF0B8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EDA-8559-49AD-BF1D-50A99512F4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46BC-8CD2-4345-A438-FD35EFCDF73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15f7b"/>
                </a:solidFill>
                <a:latin typeface="Arial"/>
                <a:ea typeface="宋体"/>
              </a:rPr>
              <a:t>计算机科技简洁风格</a:t>
            </a:r>
            <a:r>
              <a:rPr b="1" lang="en-US" sz="4000" spc="-1" strike="noStrike">
                <a:solidFill>
                  <a:srgbClr val="515f7b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515f7b"/>
                </a:solidFill>
                <a:latin typeface="Arial"/>
                <a:ea typeface="宋体"/>
              </a:rPr>
              <a:t>模板下载</a:t>
            </a:r>
            <a:endParaRPr b="1" lang="en-US" sz="40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30000" y="632448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日程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1828800" y="1828800"/>
            <a:ext cx="5410080" cy="533520"/>
          </a:xfrm>
          <a:prstGeom prst="roundRect">
            <a:avLst>
              <a:gd name="adj" fmla="val 27681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828800" y="2666880"/>
            <a:ext cx="5410080" cy="533520"/>
          </a:xfrm>
          <a:prstGeom prst="roundRect">
            <a:avLst>
              <a:gd name="adj" fmla="val 25597"/>
            </a:avLst>
          </a:prstGeom>
          <a:gradFill rotWithShape="0">
            <a:gsLst>
              <a:gs pos="0">
                <a:srgbClr val="3d4969"/>
              </a:gs>
              <a:gs pos="50000">
                <a:srgbClr val="839ee3"/>
              </a:gs>
              <a:gs pos="100000">
                <a:srgbClr val="3d4969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828800" y="3505320"/>
            <a:ext cx="5410080" cy="533160"/>
          </a:xfrm>
          <a:prstGeom prst="roundRect">
            <a:avLst>
              <a:gd name="adj" fmla="val 21431"/>
            </a:avLst>
          </a:prstGeom>
          <a:gradFill rotWithShape="0">
            <a:gsLst>
              <a:gs pos="0">
                <a:srgbClr val="305e55"/>
              </a:gs>
              <a:gs pos="50000">
                <a:srgbClr val="68ccb7"/>
              </a:gs>
              <a:gs pos="100000">
                <a:srgbClr val="305e55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828800" y="4343400"/>
            <a:ext cx="5410080" cy="533520"/>
          </a:xfrm>
          <a:prstGeom prst="roundRect">
            <a:avLst>
              <a:gd name="adj" fmla="val 25296"/>
            </a:avLst>
          </a:prstGeom>
          <a:gradFill rotWithShape="0">
            <a:gsLst>
              <a:gs pos="0">
                <a:srgbClr val="716138"/>
              </a:gs>
              <a:gs pos="50000">
                <a:srgbClr val="f4d17a"/>
              </a:gs>
              <a:gs pos="100000">
                <a:srgbClr val="71613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 </a:t>
            </a: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循环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4f4f4"/>
              </a:gs>
              <a:gs pos="100000">
                <a:srgbClr val="cacaca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dbb6b"/>
              </a:gs>
              <a:gs pos="100000">
                <a:srgbClr val="31412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fcad3"/>
              </a:gs>
              <a:gs pos="100000">
                <a:srgbClr val="323f4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39ee3"/>
              </a:gs>
              <a:gs pos="100000">
                <a:srgbClr val="2f385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8ccb7"/>
              </a:gs>
              <a:gs pos="100000">
                <a:srgbClr val="305e5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f4d17a"/>
              </a:gs>
              <a:gs pos="100000">
                <a:srgbClr val="54482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1640160" y="365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423180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7163640" y="241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37372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552760" y="5348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9ee3"/>
                </a:solidFill>
                <a:latin typeface="Arial"/>
                <a:ea typeface="宋体"/>
              </a:rPr>
              <a:t>循环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28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Text Box 29"/>
          <p:cNvSpPr/>
          <p:nvPr/>
        </p:nvSpPr>
        <p:spPr>
          <a:xfrm>
            <a:off x="101484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流程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39ee3"/>
              </a:gs>
              <a:gs pos="100000">
                <a:srgbClr val="3d496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8ccb7"/>
              </a:gs>
              <a:gs pos="100000">
                <a:srgbClr val="305e55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4d17a"/>
              </a:gs>
              <a:gs pos="100000">
                <a:srgbClr val="716138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d17a"/>
              </a:gs>
              <a:gs pos="100000">
                <a:srgbClr val="716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100000">
                <a:srgbClr val="305e55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39ee3"/>
              </a:gs>
              <a:gs pos="100000">
                <a:srgbClr val="3d4969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框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3118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559400" y="29718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819520" y="29718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0540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112040" y="1476720"/>
            <a:ext cx="6437160" cy="1388880"/>
            <a:chOff x="1112040" y="1476720"/>
            <a:chExt cx="6437160" cy="1388880"/>
          </a:xfrm>
        </p:grpSpPr>
        <p:sp>
          <p:nvSpPr>
            <p:cNvPr id="136" name="Rectangle 10"/>
            <p:cNvSpPr/>
            <p:nvPr/>
          </p:nvSpPr>
          <p:spPr>
            <a:xfrm rot="3418800">
              <a:off x="1322640" y="17024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305e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11"/>
            <p:cNvGrpSpPr/>
            <p:nvPr/>
          </p:nvGrpSpPr>
          <p:grpSpPr>
            <a:xfrm>
              <a:off x="2286360" y="1874520"/>
              <a:ext cx="931680" cy="131760"/>
              <a:chOff x="2286360" y="1874520"/>
              <a:chExt cx="931680" cy="131760"/>
            </a:xfrm>
          </p:grpSpPr>
          <p:sp>
            <p:nvSpPr>
              <p:cNvPr id="138" name="Oval 12"/>
              <p:cNvSpPr/>
              <p:nvPr/>
            </p:nvSpPr>
            <p:spPr>
              <a:xfrm>
                <a:off x="228636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2375640" y="1875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4"/>
              <p:cNvSpPr/>
              <p:nvPr/>
            </p:nvSpPr>
            <p:spPr>
              <a:xfrm>
                <a:off x="3076920" y="18766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3154680" y="19177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6"/>
            <p:cNvSpPr/>
            <p:nvPr/>
          </p:nvSpPr>
          <p:spPr>
            <a:xfrm rot="3418800">
              <a:off x="3043080" y="16347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d49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17"/>
            <p:cNvGrpSpPr/>
            <p:nvPr/>
          </p:nvGrpSpPr>
          <p:grpSpPr>
            <a:xfrm>
              <a:off x="4007880" y="1874520"/>
              <a:ext cx="931680" cy="131760"/>
              <a:chOff x="4007880" y="1874520"/>
              <a:chExt cx="931680" cy="131760"/>
            </a:xfrm>
          </p:grpSpPr>
          <p:sp>
            <p:nvSpPr>
              <p:cNvPr id="144" name="Oval 18"/>
              <p:cNvSpPr/>
              <p:nvPr/>
            </p:nvSpPr>
            <p:spPr>
              <a:xfrm>
                <a:off x="400788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9"/>
              <p:cNvSpPr/>
              <p:nvPr/>
            </p:nvSpPr>
            <p:spPr>
              <a:xfrm>
                <a:off x="4097160" y="18756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0"/>
              <p:cNvSpPr/>
              <p:nvPr/>
            </p:nvSpPr>
            <p:spPr>
              <a:xfrm>
                <a:off x="4798440" y="18766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21"/>
              <p:cNvSpPr/>
              <p:nvPr/>
            </p:nvSpPr>
            <p:spPr>
              <a:xfrm>
                <a:off x="4874400" y="19177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22"/>
            <p:cNvSpPr/>
            <p:nvPr/>
          </p:nvSpPr>
          <p:spPr>
            <a:xfrm rot="3418800">
              <a:off x="4692960" y="1634760"/>
              <a:ext cx="924120" cy="100692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305e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23"/>
            <p:cNvGrpSpPr/>
            <p:nvPr/>
          </p:nvGrpSpPr>
          <p:grpSpPr>
            <a:xfrm>
              <a:off x="5729040" y="1874520"/>
              <a:ext cx="1218240" cy="131760"/>
              <a:chOff x="5729040" y="1874520"/>
              <a:chExt cx="1218240" cy="131760"/>
            </a:xfrm>
          </p:grpSpPr>
          <p:sp>
            <p:nvSpPr>
              <p:cNvPr id="150" name="Oval 24"/>
              <p:cNvSpPr/>
              <p:nvPr/>
            </p:nvSpPr>
            <p:spPr>
              <a:xfrm>
                <a:off x="5729040" y="18745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>
                <a:off x="5845680" y="18756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6"/>
              <p:cNvSpPr/>
              <p:nvPr/>
            </p:nvSpPr>
            <p:spPr>
              <a:xfrm>
                <a:off x="6762600" y="18766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7"/>
              <p:cNvSpPr/>
              <p:nvPr/>
            </p:nvSpPr>
            <p:spPr>
              <a:xfrm>
                <a:off x="6861960" y="19177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28"/>
            <p:cNvSpPr/>
            <p:nvPr/>
          </p:nvSpPr>
          <p:spPr>
            <a:xfrm rot="3418800">
              <a:off x="641448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d49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30"/>
          <p:cNvSpPr/>
          <p:nvPr/>
        </p:nvSpPr>
        <p:spPr>
          <a:xfrm>
            <a:off x="159804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35052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495072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670356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160452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35700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510948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686232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72880" y="63594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8ccb7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表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54080" y="1328760"/>
          <a:ext cx="7196040" cy="7211880"/>
        </p:xfrm>
        <a:graphic>
          <a:graphicData uri="http://schemas.openxmlformats.org/drawingml/2006/table">
            <a:tbl>
              <a:tblPr/>
              <a:tblGrid>
                <a:gridCol w="1438200"/>
                <a:gridCol w="1150920"/>
                <a:gridCol w="1150920"/>
                <a:gridCol w="1150920"/>
                <a:gridCol w="1154160"/>
                <a:gridCol w="11509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三维饼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2187720" y="41450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 rot="20601600">
            <a:off x="1461960" y="203148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 rot="20601600">
            <a:off x="151740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8"/>
          <p:cNvSpPr/>
          <p:nvPr/>
        </p:nvSpPr>
        <p:spPr>
          <a:xfrm rot="20601600">
            <a:off x="4390920" y="294156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9"/>
          <p:cNvSpPr/>
          <p:nvPr/>
        </p:nvSpPr>
        <p:spPr>
          <a:xfrm rot="20601600">
            <a:off x="4167360" y="1947960"/>
            <a:ext cx="2849400" cy="153828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0"/>
          <p:cNvSpPr/>
          <p:nvPr/>
        </p:nvSpPr>
        <p:spPr>
          <a:xfrm flipH="1" rot="20602200">
            <a:off x="1599840" y="3242880"/>
            <a:ext cx="2876400" cy="1630080"/>
          </a:xfrm>
          <a:custGeom>
            <a:avLst/>
            <a:gdLst>
              <a:gd name="textAreaLeft" fmla="*/ 360 w 2876400"/>
              <a:gd name="textAreaRight" fmla="*/ 2877120 w 2876400"/>
              <a:gd name="textAreaTop" fmla="*/ 0 h 1630080"/>
              <a:gd name="textAreaBottom" fmla="*/ 1630440 h 163008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1"/>
          <p:cNvSpPr/>
          <p:nvPr/>
        </p:nvSpPr>
        <p:spPr>
          <a:xfrm rot="20601600">
            <a:off x="3409920" y="1676520"/>
            <a:ext cx="2814840" cy="1417680"/>
          </a:xfrm>
          <a:custGeom>
            <a:avLst/>
            <a:gdLst>
              <a:gd name="textAreaLeft" fmla="*/ 0 w 2814840"/>
              <a:gd name="textAreaRight" fmla="*/ 2815200 w 28148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12"/>
          <p:cNvSpPr/>
          <p:nvPr/>
        </p:nvSpPr>
        <p:spPr>
          <a:xfrm flipH="1" rot="20602200">
            <a:off x="1371240" y="232848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"/>
          <p:cNvSpPr/>
          <p:nvPr/>
        </p:nvSpPr>
        <p:spPr>
          <a:xfrm rot="20601600">
            <a:off x="4506480" y="3191040"/>
            <a:ext cx="1220760" cy="149832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4"/>
          <p:cNvSpPr/>
          <p:nvPr/>
        </p:nvSpPr>
        <p:spPr>
          <a:xfrm rot="20601600">
            <a:off x="4400280" y="293796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5"/>
          <p:cNvGrpSpPr/>
          <p:nvPr/>
        </p:nvGrpSpPr>
        <p:grpSpPr>
          <a:xfrm>
            <a:off x="3988800" y="2615040"/>
            <a:ext cx="3252240" cy="2230920"/>
            <a:chOff x="3988800" y="2615040"/>
            <a:chExt cx="3252240" cy="2230920"/>
          </a:xfrm>
        </p:grpSpPr>
        <p:sp>
          <p:nvSpPr>
            <p:cNvPr id="178" name="Arc 16"/>
            <p:cNvSpPr/>
            <p:nvPr/>
          </p:nvSpPr>
          <p:spPr>
            <a:xfrm rot="20712600">
              <a:off x="4102200" y="2970000"/>
              <a:ext cx="2949480" cy="127152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520"/>
                <a:gd name="textAreaBottom" fmla="*/ 1271520 h 127152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 rot="20712600">
              <a:off x="4186440" y="3158640"/>
              <a:ext cx="1377720" cy="153648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480"/>
                <a:gd name="textAreaBottom" fmla="*/ 1536840 h 153648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 rot="20712600">
              <a:off x="5562720" y="3327480"/>
              <a:ext cx="1579320" cy="97884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8840"/>
                <a:gd name="textAreaBottom" fmla="*/ 979200 h 9788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4"/>
          <p:cNvGrpSpPr/>
          <p:nvPr/>
        </p:nvGrpSpPr>
        <p:grpSpPr>
          <a:xfrm>
            <a:off x="4482360" y="2441160"/>
            <a:ext cx="3270960" cy="2463840"/>
            <a:chOff x="4482360" y="2441160"/>
            <a:chExt cx="3270960" cy="2463840"/>
          </a:xfrm>
        </p:grpSpPr>
        <p:sp>
          <p:nvSpPr>
            <p:cNvPr id="182" name="Freeform 19"/>
            <p:cNvSpPr/>
            <p:nvPr/>
          </p:nvSpPr>
          <p:spPr>
            <a:xfrm rot="20601600">
              <a:off x="6073560" y="3229920"/>
              <a:ext cx="1555560" cy="109224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rc 20"/>
            <p:cNvSpPr/>
            <p:nvPr/>
          </p:nvSpPr>
          <p:spPr>
            <a:xfrm rot="20539200">
              <a:off x="4625640" y="2849040"/>
              <a:ext cx="2905200" cy="1397160"/>
            </a:xfrm>
            <a:custGeom>
              <a:avLst/>
              <a:gdLst>
                <a:gd name="textAreaLeft" fmla="*/ 0 w 2905200"/>
                <a:gd name="textAreaRight" fmla="*/ 2905200 w 290520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 rot="20601600">
              <a:off x="4757760" y="3060720"/>
              <a:ext cx="1332000" cy="1688760"/>
            </a:xfrm>
            <a:custGeom>
              <a:avLst/>
              <a:gdLst>
                <a:gd name="textAreaLeft" fmla="*/ 0 w 1332000"/>
                <a:gd name="textAreaRight" fmla="*/ 1332360 w 1332000"/>
                <a:gd name="textAreaTop" fmla="*/ 0 h 1688760"/>
                <a:gd name="textAreaBottom" fmla="*/ 1689120 h 168876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Oval 22"/>
          <p:cNvSpPr/>
          <p:nvPr/>
        </p:nvSpPr>
        <p:spPr>
          <a:xfrm rot="20601600">
            <a:off x="2979720" y="2584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3"/>
          <p:cNvSpPr/>
          <p:nvPr/>
        </p:nvSpPr>
        <p:spPr>
          <a:xfrm rot="20601600">
            <a:off x="3056040" y="2819160"/>
            <a:ext cx="2624040" cy="10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5871600" y="2405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4271400" y="1947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2442600" y="270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2214000" y="40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3966480" y="42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947920" y="3395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36"/>
          <p:cNvGrpSpPr/>
          <p:nvPr/>
        </p:nvGrpSpPr>
        <p:grpSpPr>
          <a:xfrm>
            <a:off x="966960" y="3797280"/>
            <a:ext cx="1512720" cy="1511280"/>
            <a:chOff x="966960" y="3797280"/>
            <a:chExt cx="1512720" cy="1511280"/>
          </a:xfrm>
        </p:grpSpPr>
        <p:sp>
          <p:nvSpPr>
            <p:cNvPr id="194" name="Oval 37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8ccb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8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a8bbeb"/>
                </a:gs>
                <a:gs pos="100000">
                  <a:srgbClr val="839e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9"/>
            <p:cNvSpPr/>
            <p:nvPr/>
          </p:nvSpPr>
          <p:spPr>
            <a:xfrm>
              <a:off x="1064880" y="389520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386e63"/>
                </a:gs>
                <a:gs pos="50000">
                  <a:srgbClr val="68ccb7"/>
                </a:gs>
                <a:gs pos="100000">
                  <a:srgbClr val="386e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0"/>
            <p:cNvSpPr/>
            <p:nvPr/>
          </p:nvSpPr>
          <p:spPr>
            <a:xfrm>
              <a:off x="1064880" y="389520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404d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41"/>
            <p:cNvSpPr/>
            <p:nvPr/>
          </p:nvSpPr>
          <p:spPr>
            <a:xfrm>
              <a:off x="1131840" y="396180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3d4969"/>
                </a:gs>
                <a:gs pos="100000">
                  <a:srgbClr val="839e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市场分析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1592280" y="20858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acaca"/>
              </a:gs>
              <a:gs pos="100000">
                <a:srgbClr val="eded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6"/>
          <p:cNvGrpSpPr/>
          <p:nvPr/>
        </p:nvGrpSpPr>
        <p:grpSpPr>
          <a:xfrm>
            <a:off x="4614840" y="3809880"/>
            <a:ext cx="1513080" cy="1511280"/>
            <a:chOff x="4614840" y="3809880"/>
            <a:chExt cx="1513080" cy="1511280"/>
          </a:xfrm>
        </p:grpSpPr>
        <p:sp>
          <p:nvSpPr>
            <p:cNvPr id="202" name="Oval 7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fca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8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c8e1e6"/>
                </a:gs>
                <a:gs pos="100000">
                  <a:srgbClr val="9fca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9"/>
            <p:cNvSpPr/>
            <p:nvPr/>
          </p:nvSpPr>
          <p:spPr>
            <a:xfrm>
              <a:off x="4712760" y="39078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566d72"/>
                </a:gs>
                <a:gs pos="50000">
                  <a:srgbClr val="9fcad3"/>
                </a:gs>
                <a:gs pos="100000">
                  <a:srgbClr val="566d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0"/>
            <p:cNvSpPr/>
            <p:nvPr/>
          </p:nvSpPr>
          <p:spPr>
            <a:xfrm>
              <a:off x="4712760" y="3907800"/>
              <a:ext cx="1315800" cy="131436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4d62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1"/>
            <p:cNvSpPr/>
            <p:nvPr/>
          </p:nvSpPr>
          <p:spPr>
            <a:xfrm>
              <a:off x="4779720" y="3974400"/>
              <a:ext cx="1182240" cy="1180800"/>
            </a:xfrm>
            <a:prstGeom prst="ellipse">
              <a:avLst/>
            </a:prstGeom>
            <a:gradFill rotWithShape="0">
              <a:gsLst>
                <a:gs pos="0">
                  <a:srgbClr val="4a5d62"/>
                </a:gs>
                <a:gs pos="100000">
                  <a:srgbClr val="9f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8"/>
          <p:cNvGrpSpPr/>
          <p:nvPr/>
        </p:nvGrpSpPr>
        <p:grpSpPr>
          <a:xfrm>
            <a:off x="6488280" y="3809880"/>
            <a:ext cx="1512720" cy="1511280"/>
            <a:chOff x="6488280" y="3809880"/>
            <a:chExt cx="1512720" cy="1511280"/>
          </a:xfrm>
        </p:grpSpPr>
        <p:sp>
          <p:nvSpPr>
            <p:cNvPr id="208" name="Oval 19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4d17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0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8e0a6"/>
                </a:gs>
                <a:gs pos="100000">
                  <a:srgbClr val="f4d17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6586200" y="390780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847142"/>
                </a:gs>
                <a:gs pos="50000">
                  <a:srgbClr val="f4d17a"/>
                </a:gs>
                <a:gs pos="100000">
                  <a:srgbClr val="84714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6586200" y="390780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100000">
                  <a:srgbClr val="77663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6653160" y="397440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716138"/>
                </a:gs>
                <a:gs pos="100000">
                  <a:srgbClr val="f4d1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4"/>
          <p:cNvGrpSpPr/>
          <p:nvPr/>
        </p:nvGrpSpPr>
        <p:grpSpPr>
          <a:xfrm>
            <a:off x="2816280" y="3809880"/>
            <a:ext cx="1512720" cy="1511280"/>
            <a:chOff x="2816280" y="3809880"/>
            <a:chExt cx="1512720" cy="1511280"/>
          </a:xfrm>
        </p:grpSpPr>
        <p:sp>
          <p:nvSpPr>
            <p:cNvPr id="214" name="Oval 25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8ccb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96dbcd"/>
                </a:gs>
                <a:gs pos="100000">
                  <a:srgbClr val="68cc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2914200" y="390780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386e63"/>
                </a:gs>
                <a:gs pos="50000">
                  <a:srgbClr val="68ccb7"/>
                </a:gs>
                <a:gs pos="100000">
                  <a:srgbClr val="386e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2914200" y="3907800"/>
              <a:ext cx="1315440" cy="131436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3363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29"/>
            <p:cNvSpPr/>
            <p:nvPr/>
          </p:nvSpPr>
          <p:spPr>
            <a:xfrm>
              <a:off x="2981160" y="3974400"/>
              <a:ext cx="1181880" cy="1180800"/>
            </a:xfrm>
            <a:prstGeom prst="ellipse">
              <a:avLst/>
            </a:prstGeom>
            <a:gradFill rotWithShape="0">
              <a:gsLst>
                <a:gs pos="0">
                  <a:srgbClr val="305e55"/>
                </a:gs>
                <a:gs pos="100000">
                  <a:srgbClr val="68c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AutoShape 31"/>
          <p:cNvSpPr/>
          <p:nvPr/>
        </p:nvSpPr>
        <p:spPr>
          <a:xfrm>
            <a:off x="2033640" y="1447920"/>
            <a:ext cx="4876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8ccb7"/>
              </a:gs>
              <a:gs pos="50000">
                <a:srgbClr val="daf3ed"/>
              </a:gs>
              <a:gs pos="100000">
                <a:srgbClr val="68ccb7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15044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3"/>
          <p:cNvSpPr/>
          <p:nvPr/>
        </p:nvSpPr>
        <p:spPr>
          <a:xfrm>
            <a:off x="51620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4"/>
          <p:cNvSpPr/>
          <p:nvPr/>
        </p:nvSpPr>
        <p:spPr>
          <a:xfrm>
            <a:off x="33332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5"/>
          <p:cNvSpPr/>
          <p:nvPr/>
        </p:nvSpPr>
        <p:spPr>
          <a:xfrm>
            <a:off x="706716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68ccb7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68ccb7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68ccb7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1:06:12Z</dcterms:created>
  <dc:creator>ppt宝藏</dc:creator>
  <dc:description/>
  <dc:language>en-US</dc:language>
  <cp:lastModifiedBy>yu wang</cp:lastModifiedBy>
  <dcterms:modified xsi:type="dcterms:W3CDTF">2015-08-03T12:25:09Z</dcterms:modified>
  <cp:revision>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02052</vt:lpwstr>
  </property>
</Properties>
</file>