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65.jpeg" ContentType="image/jpeg"/>
  <Override PartName="/ppt/media/image93.jpeg" ContentType="image/jpeg"/>
  <Override PartName="/ppt/media/image66.jpeg" ContentType="image/jpeg"/>
  <Override PartName="/ppt/media/image94.jpeg" ContentType="image/jpeg"/>
  <Override PartName="/ppt/media/image12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96.jpeg" ContentType="image/jpeg"/>
  <Override PartName="/ppt/media/image113.jpeg" ContentType="image/jpeg"/>
  <Override PartName="/ppt/media/image69.jpeg" ContentType="image/jpeg"/>
  <Override PartName="/ppt/media/image114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68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0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956-6ED6-49DE-9FB6-CAC08E1A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A1F-107C-46DD-BAEB-3E3BFD01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0A9-74DF-4090-9CC1-375D564A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62A-9043-4436-AC56-E54B1926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640F-F634-4446-B557-A25F46FE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777E-5BC3-4D76-B545-13912B2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3679-0865-49CD-81D5-8FD134F1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11B0-F841-4B1F-BA0F-42176392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34D8-034E-4F68-AF71-EF5284C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A178-014F-4A8C-96FF-E6A9C07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D78D-AF52-492E-A3FB-AEE23EC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ACA-FDD2-4228-A084-9A3EFD90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FB23-3E2B-409B-B8F5-69C2ACC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10CD-3D0A-42A6-A270-9DF6FC6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0E8A-15F7-4D2B-AD85-66B953EB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79A3-7DFB-4A36-BB12-EB2F3DBF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1A5E-908C-413D-8A97-AFBC2084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A40-9B86-40DF-9F15-EF8678E0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57D-6BF6-48F2-871E-B839F02F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ACC-E912-4E86-9E37-04BAAEE2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C28-4A25-469F-B11A-06CC68E8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788-5761-4C7D-BDCA-796204B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471-1C48-4ABD-9989-1A7CBBA7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2B7-83F2-446C-A884-0EA36C69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B91104-1987-4FE0-A06F-25024381FF6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DC3431-49A1-402A-9168-CE0297B6898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hyperlink" Target="http://www.yanj.cn/" TargetMode="External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hyperlink" Target="http://www.yanj.cn/" TargetMode="External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hyperlink" Target="http://www.yanj.cn/" TargetMode="External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hyperlink" Target="http://www.yanj.cn/" TargetMode="External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image" Target="../media/image62.jpeg"/><Relationship Id="rId15" Type="http://schemas.openxmlformats.org/officeDocument/2006/relationships/image" Target="../media/image63.jpeg"/><Relationship Id="rId16" Type="http://schemas.openxmlformats.org/officeDocument/2006/relationships/image" Target="../media/image64.jpeg"/><Relationship Id="rId17" Type="http://schemas.openxmlformats.org/officeDocument/2006/relationships/image" Target="../media/image65.jpeg"/><Relationship Id="rId18" Type="http://schemas.openxmlformats.org/officeDocument/2006/relationships/hyperlink" Target="http://www.yanj.cn/" TargetMode="External"/><Relationship Id="rId1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jpeg"/><Relationship Id="rId9" Type="http://schemas.openxmlformats.org/officeDocument/2006/relationships/image" Target="../media/image42.jpeg"/><Relationship Id="rId10" Type="http://schemas.openxmlformats.org/officeDocument/2006/relationships/image" Target="../media/image74.jpeg"/><Relationship Id="rId11" Type="http://schemas.openxmlformats.org/officeDocument/2006/relationships/image" Target="../media/image75.jpeg"/><Relationship Id="rId12" Type="http://schemas.openxmlformats.org/officeDocument/2006/relationships/image" Target="../media/image76.jpeg"/><Relationship Id="rId13" Type="http://schemas.openxmlformats.org/officeDocument/2006/relationships/image" Target="../media/image77.jpeg"/><Relationship Id="rId14" Type="http://schemas.openxmlformats.org/officeDocument/2006/relationships/image" Target="../media/image78.jpeg"/><Relationship Id="rId15" Type="http://schemas.openxmlformats.org/officeDocument/2006/relationships/image" Target="../media/image79.jpeg"/><Relationship Id="rId16" Type="http://schemas.openxmlformats.org/officeDocument/2006/relationships/hyperlink" Target="http://www.yanj.cn/" TargetMode="External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image" Target="../media/image88.jpeg"/><Relationship Id="rId10" Type="http://schemas.openxmlformats.org/officeDocument/2006/relationships/image" Target="../media/image89.jpeg"/><Relationship Id="rId11" Type="http://schemas.openxmlformats.org/officeDocument/2006/relationships/image" Target="../media/image90.jpeg"/><Relationship Id="rId12" Type="http://schemas.openxmlformats.org/officeDocument/2006/relationships/image" Target="../media/image91.jpeg"/><Relationship Id="rId13" Type="http://schemas.openxmlformats.org/officeDocument/2006/relationships/image" Target="../media/image92.jpeg"/><Relationship Id="rId14" Type="http://schemas.openxmlformats.org/officeDocument/2006/relationships/image" Target="../media/image93.jpeg"/><Relationship Id="rId15" Type="http://schemas.openxmlformats.org/officeDocument/2006/relationships/image" Target="../media/image94.jpeg"/><Relationship Id="rId16" Type="http://schemas.openxmlformats.org/officeDocument/2006/relationships/hyperlink" Target="http://www.yanj.cn/" TargetMode="External"/><Relationship Id="rId17" Type="http://schemas.openxmlformats.org/officeDocument/2006/relationships/hyperlink" Target="http://www.eeppt.com/moban/shangwu/" TargetMode="External"/><Relationship Id="rId18" Type="http://schemas.openxmlformats.org/officeDocument/2006/relationships/hyperlink" Target="http://www.eeppt.com/moban/shangwu/" TargetMode="External"/><Relationship Id="rId19" Type="http://schemas.openxmlformats.org/officeDocument/2006/relationships/hyperlink" Target="http://www.eeppt.com/moban/shangwu/" TargetMode="External"/><Relationship Id="rId2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image" Target="../media/image100.jpeg"/><Relationship Id="rId7" Type="http://schemas.openxmlformats.org/officeDocument/2006/relationships/image" Target="../media/image101.jpeg"/><Relationship Id="rId8" Type="http://schemas.openxmlformats.org/officeDocument/2006/relationships/image" Target="../media/image102.jpeg"/><Relationship Id="rId9" Type="http://schemas.openxmlformats.org/officeDocument/2006/relationships/image" Target="../media/image86.jpeg"/><Relationship Id="rId10" Type="http://schemas.openxmlformats.org/officeDocument/2006/relationships/image" Target="../media/image103.jpeg"/><Relationship Id="rId11" Type="http://schemas.openxmlformats.org/officeDocument/2006/relationships/image" Target="../media/image104.jpeg"/><Relationship Id="rId12" Type="http://schemas.openxmlformats.org/officeDocument/2006/relationships/image" Target="../media/image105.jpeg"/><Relationship Id="rId13" Type="http://schemas.openxmlformats.org/officeDocument/2006/relationships/image" Target="../media/image106.jpeg"/><Relationship Id="rId14" Type="http://schemas.openxmlformats.org/officeDocument/2006/relationships/image" Target="../media/image107.jpeg"/><Relationship Id="rId15" Type="http://schemas.openxmlformats.org/officeDocument/2006/relationships/image" Target="../media/image108.jpeg"/><Relationship Id="rId16" Type="http://schemas.openxmlformats.org/officeDocument/2006/relationships/image" Target="../media/image109.jpeg"/><Relationship Id="rId17" Type="http://schemas.openxmlformats.org/officeDocument/2006/relationships/image" Target="../media/image110.jpeg"/><Relationship Id="rId18" Type="http://schemas.openxmlformats.org/officeDocument/2006/relationships/image" Target="../media/image111.jpeg"/><Relationship Id="rId19" Type="http://schemas.openxmlformats.org/officeDocument/2006/relationships/hyperlink" Target="http://www.yanj.cn/" TargetMode="External"/><Relationship Id="rId2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image" Target="../media/image119.jpeg"/><Relationship Id="rId9" Type="http://schemas.openxmlformats.org/officeDocument/2006/relationships/image" Target="../media/image120.jpeg"/><Relationship Id="rId10" Type="http://schemas.openxmlformats.org/officeDocument/2006/relationships/image" Target="../media/image121.jpeg"/><Relationship Id="rId11" Type="http://schemas.openxmlformats.org/officeDocument/2006/relationships/image" Target="../media/image122.jpeg"/><Relationship Id="rId12" Type="http://schemas.openxmlformats.org/officeDocument/2006/relationships/image" Target="../media/image123.jpeg"/><Relationship Id="rId13" Type="http://schemas.openxmlformats.org/officeDocument/2006/relationships/hyperlink" Target="http://www.yanj.cn/" TargetMode="External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0" y="4330800"/>
            <a:ext cx="9143640" cy="25142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2514240"/>
              <a:gd name="textAreaBottom" fmla="*/ 2514600 h 2514240"/>
            </a:gdLst>
            <a:ahLst/>
            <a:rect l="textAreaLeft" t="textAreaTop" r="textAreaRight" b="textAreaBottom"/>
            <a:pathLst>
              <a:path w="9144000" h="2514600">
                <a:moveTo>
                  <a:pt x="0" y="0"/>
                </a:moveTo>
                <a:lnTo>
                  <a:pt x="9144000" y="0"/>
                </a:lnTo>
                <a:lnTo>
                  <a:pt x="9144000" y="2514600"/>
                </a:lnTo>
                <a:lnTo>
                  <a:pt x="0" y="2514600"/>
                </a:lnTo>
                <a:lnTo>
                  <a:pt x="0" y="0"/>
                </a:lnTo>
              </a:path>
            </a:pathLst>
          </a:custGeom>
          <a:solidFill>
            <a:srgbClr val="57caf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4863240" y="5645520"/>
            <a:ext cx="117000" cy="112680"/>
          </a:xfrm>
          <a:custGeom>
            <a:avLst/>
            <a:gdLst>
              <a:gd name="textAreaLeft" fmla="*/ 0 w 117000"/>
              <a:gd name="textAreaRight" fmla="*/ 117360 w 1170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17373" h="112861">
                <a:moveTo>
                  <a:pt x="117373" y="110604"/>
                </a:moveTo>
                <a:cubicBezTo>
                  <a:pt x="117373" y="110950"/>
                  <a:pt x="117284" y="111254"/>
                  <a:pt x="117119" y="111559"/>
                </a:cubicBezTo>
                <a:cubicBezTo>
                  <a:pt x="116941" y="111819"/>
                  <a:pt x="116636" y="112079"/>
                  <a:pt x="116204" y="112254"/>
                </a:cubicBezTo>
                <a:cubicBezTo>
                  <a:pt x="115773" y="112426"/>
                  <a:pt x="115252" y="112557"/>
                  <a:pt x="114553" y="112687"/>
                </a:cubicBezTo>
                <a:cubicBezTo>
                  <a:pt x="113906" y="112774"/>
                  <a:pt x="113029" y="112860"/>
                  <a:pt x="111988" y="112860"/>
                </a:cubicBezTo>
                <a:cubicBezTo>
                  <a:pt x="111087" y="112860"/>
                  <a:pt x="110261" y="112817"/>
                  <a:pt x="109563" y="112687"/>
                </a:cubicBezTo>
                <a:cubicBezTo>
                  <a:pt x="108864" y="112600"/>
                  <a:pt x="108343" y="112426"/>
                  <a:pt x="107912" y="112254"/>
                </a:cubicBezTo>
                <a:cubicBezTo>
                  <a:pt x="107518" y="112079"/>
                  <a:pt x="107213" y="111862"/>
                  <a:pt x="107048" y="111559"/>
                </a:cubicBezTo>
                <a:cubicBezTo>
                  <a:pt x="106870" y="111299"/>
                  <a:pt x="106781" y="110950"/>
                  <a:pt x="106781" y="110604"/>
                </a:cubicBezTo>
                <a:lnTo>
                  <a:pt x="106781" y="9288"/>
                </a:lnTo>
                <a:lnTo>
                  <a:pt x="106616" y="9288"/>
                </a:lnTo>
                <a:lnTo>
                  <a:pt x="62420" y="111211"/>
                </a:lnTo>
                <a:cubicBezTo>
                  <a:pt x="62331" y="111428"/>
                  <a:pt x="62166" y="111645"/>
                  <a:pt x="61899" y="111862"/>
                </a:cubicBezTo>
                <a:cubicBezTo>
                  <a:pt x="61683" y="112036"/>
                  <a:pt x="61379" y="112209"/>
                  <a:pt x="60947" y="112383"/>
                </a:cubicBezTo>
                <a:cubicBezTo>
                  <a:pt x="60553" y="112514"/>
                  <a:pt x="60071" y="112643"/>
                  <a:pt x="59512" y="112731"/>
                </a:cubicBezTo>
                <a:cubicBezTo>
                  <a:pt x="58991" y="112817"/>
                  <a:pt x="58343" y="112860"/>
                  <a:pt x="57556" y="112860"/>
                </a:cubicBezTo>
                <a:cubicBezTo>
                  <a:pt x="56781" y="112860"/>
                  <a:pt x="56083" y="112817"/>
                  <a:pt x="55473" y="112731"/>
                </a:cubicBezTo>
                <a:cubicBezTo>
                  <a:pt x="54914" y="112643"/>
                  <a:pt x="54432" y="112557"/>
                  <a:pt x="54038" y="112383"/>
                </a:cubicBezTo>
                <a:cubicBezTo>
                  <a:pt x="53695" y="112254"/>
                  <a:pt x="53390" y="112079"/>
                  <a:pt x="53136" y="111862"/>
                </a:cubicBezTo>
                <a:cubicBezTo>
                  <a:pt x="52920" y="111688"/>
                  <a:pt x="52781" y="111471"/>
                  <a:pt x="52692" y="111211"/>
                </a:cubicBezTo>
                <a:lnTo>
                  <a:pt x="10680" y="9288"/>
                </a:lnTo>
                <a:lnTo>
                  <a:pt x="10591" y="9288"/>
                </a:lnTo>
                <a:lnTo>
                  <a:pt x="10591" y="110604"/>
                </a:lnTo>
                <a:cubicBezTo>
                  <a:pt x="10591" y="110950"/>
                  <a:pt x="10502" y="111254"/>
                  <a:pt x="10324" y="111559"/>
                </a:cubicBezTo>
                <a:cubicBezTo>
                  <a:pt x="10159" y="111819"/>
                  <a:pt x="9855" y="112079"/>
                  <a:pt x="9423" y="112254"/>
                </a:cubicBezTo>
                <a:cubicBezTo>
                  <a:pt x="8991" y="112426"/>
                  <a:pt x="8470" y="112557"/>
                  <a:pt x="7772" y="112687"/>
                </a:cubicBezTo>
                <a:cubicBezTo>
                  <a:pt x="7124" y="112774"/>
                  <a:pt x="6248" y="112860"/>
                  <a:pt x="5118" y="112860"/>
                </a:cubicBezTo>
                <a:cubicBezTo>
                  <a:pt x="4165" y="112860"/>
                  <a:pt x="3340" y="112817"/>
                  <a:pt x="2654" y="112687"/>
                </a:cubicBezTo>
                <a:cubicBezTo>
                  <a:pt x="1994" y="112600"/>
                  <a:pt x="1473" y="112426"/>
                  <a:pt x="1041" y="112254"/>
                </a:cubicBezTo>
                <a:cubicBezTo>
                  <a:pt x="647" y="112079"/>
                  <a:pt x="393" y="111862"/>
                  <a:pt x="215" y="111559"/>
                </a:cubicBezTo>
                <a:cubicBezTo>
                  <a:pt x="88" y="111299"/>
                  <a:pt x="0" y="110950"/>
                  <a:pt x="0" y="110604"/>
                </a:cubicBezTo>
                <a:lnTo>
                  <a:pt x="0" y="5469"/>
                </a:lnTo>
                <a:cubicBezTo>
                  <a:pt x="0" y="3385"/>
                  <a:pt x="520" y="1953"/>
                  <a:pt x="1651" y="1172"/>
                </a:cubicBezTo>
                <a:cubicBezTo>
                  <a:pt x="2730" y="391"/>
                  <a:pt x="3822" y="0"/>
                  <a:pt x="4864" y="0"/>
                </a:cubicBezTo>
                <a:lnTo>
                  <a:pt x="10591" y="0"/>
                </a:lnTo>
                <a:cubicBezTo>
                  <a:pt x="12026" y="0"/>
                  <a:pt x="13284" y="129"/>
                  <a:pt x="14414" y="477"/>
                </a:cubicBezTo>
                <a:cubicBezTo>
                  <a:pt x="15494" y="780"/>
                  <a:pt x="16446" y="1258"/>
                  <a:pt x="17322" y="1866"/>
                </a:cubicBezTo>
                <a:cubicBezTo>
                  <a:pt x="18148" y="2473"/>
                  <a:pt x="18834" y="3211"/>
                  <a:pt x="19443" y="4080"/>
                </a:cubicBezTo>
                <a:cubicBezTo>
                  <a:pt x="20015" y="4948"/>
                  <a:pt x="20535" y="5903"/>
                  <a:pt x="21005" y="7032"/>
                </a:cubicBezTo>
                <a:lnTo>
                  <a:pt x="58077" y="96278"/>
                </a:lnTo>
                <a:lnTo>
                  <a:pt x="58508" y="96278"/>
                </a:lnTo>
                <a:lnTo>
                  <a:pt x="97142" y="7378"/>
                </a:lnTo>
                <a:cubicBezTo>
                  <a:pt x="97713" y="5990"/>
                  <a:pt x="98323" y="4818"/>
                  <a:pt x="99009" y="3863"/>
                </a:cubicBezTo>
                <a:cubicBezTo>
                  <a:pt x="99669" y="2908"/>
                  <a:pt x="100355" y="2170"/>
                  <a:pt x="101091" y="1562"/>
                </a:cubicBezTo>
                <a:cubicBezTo>
                  <a:pt x="101790" y="998"/>
                  <a:pt x="102577" y="606"/>
                  <a:pt x="103441" y="346"/>
                </a:cubicBezTo>
                <a:cubicBezTo>
                  <a:pt x="104266" y="129"/>
                  <a:pt x="105181" y="0"/>
                  <a:pt x="106172" y="0"/>
                </a:cubicBezTo>
                <a:lnTo>
                  <a:pt x="112509" y="0"/>
                </a:lnTo>
                <a:cubicBezTo>
                  <a:pt x="113029" y="0"/>
                  <a:pt x="113550" y="86"/>
                  <a:pt x="114160" y="260"/>
                </a:cubicBezTo>
                <a:cubicBezTo>
                  <a:pt x="114731" y="434"/>
                  <a:pt x="115252" y="737"/>
                  <a:pt x="115722" y="1172"/>
                </a:cubicBezTo>
                <a:cubicBezTo>
                  <a:pt x="116154" y="1606"/>
                  <a:pt x="116547" y="2170"/>
                  <a:pt x="116903" y="2865"/>
                </a:cubicBezTo>
                <a:cubicBezTo>
                  <a:pt x="117208" y="3559"/>
                  <a:pt x="117373" y="4427"/>
                  <a:pt x="117373" y="5469"/>
                </a:cubicBezTo>
                <a:lnTo>
                  <a:pt x="117373" y="11060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5000400" y="5675400"/>
            <a:ext cx="70920" cy="113760"/>
          </a:xfrm>
          <a:custGeom>
            <a:avLst/>
            <a:gdLst>
              <a:gd name="textAreaLeft" fmla="*/ 0 w 70920"/>
              <a:gd name="textAreaRight" fmla="*/ 71280 w 70920"/>
              <a:gd name="textAreaTop" fmla="*/ 0 h 113760"/>
              <a:gd name="textAreaBottom" fmla="*/ 114120 h 113760"/>
            </a:gdLst>
            <a:ahLst/>
            <a:rect l="textAreaLeft" t="textAreaTop" r="textAreaRight" b="textAreaBottom"/>
            <a:pathLst>
              <a:path w="71285" h="114250">
                <a:moveTo>
                  <a:pt x="41503" y="82562"/>
                </a:moveTo>
                <a:lnTo>
                  <a:pt x="30569" y="111993"/>
                </a:lnTo>
                <a:cubicBezTo>
                  <a:pt x="30302" y="112600"/>
                  <a:pt x="29692" y="113165"/>
                  <a:pt x="28740" y="113598"/>
                </a:cubicBezTo>
                <a:cubicBezTo>
                  <a:pt x="27825" y="114033"/>
                  <a:pt x="26352" y="114250"/>
                  <a:pt x="24307" y="114250"/>
                </a:cubicBezTo>
                <a:cubicBezTo>
                  <a:pt x="23266" y="114250"/>
                  <a:pt x="22402" y="114207"/>
                  <a:pt x="21704" y="114076"/>
                </a:cubicBezTo>
                <a:cubicBezTo>
                  <a:pt x="21018" y="113990"/>
                  <a:pt x="20497" y="113772"/>
                  <a:pt x="20104" y="113426"/>
                </a:cubicBezTo>
                <a:cubicBezTo>
                  <a:pt x="19748" y="113121"/>
                  <a:pt x="19532" y="112731"/>
                  <a:pt x="19456" y="112210"/>
                </a:cubicBezTo>
                <a:cubicBezTo>
                  <a:pt x="19405" y="111733"/>
                  <a:pt x="19494" y="111125"/>
                  <a:pt x="19799" y="110430"/>
                </a:cubicBezTo>
                <a:lnTo>
                  <a:pt x="30912" y="82562"/>
                </a:lnTo>
                <a:cubicBezTo>
                  <a:pt x="30480" y="82388"/>
                  <a:pt x="30048" y="82128"/>
                  <a:pt x="29692" y="81694"/>
                </a:cubicBezTo>
                <a:cubicBezTo>
                  <a:pt x="29349" y="81304"/>
                  <a:pt x="29133" y="80912"/>
                  <a:pt x="28994" y="80478"/>
                </a:cubicBezTo>
                <a:lnTo>
                  <a:pt x="431" y="3820"/>
                </a:lnTo>
                <a:cubicBezTo>
                  <a:pt x="177" y="3039"/>
                  <a:pt x="0" y="2387"/>
                  <a:pt x="0" y="1866"/>
                </a:cubicBezTo>
                <a:cubicBezTo>
                  <a:pt x="0" y="1389"/>
                  <a:pt x="139" y="998"/>
                  <a:pt x="482" y="694"/>
                </a:cubicBezTo>
                <a:cubicBezTo>
                  <a:pt x="787" y="434"/>
                  <a:pt x="1308" y="217"/>
                  <a:pt x="2044" y="130"/>
                </a:cubicBezTo>
                <a:cubicBezTo>
                  <a:pt x="2743" y="43"/>
                  <a:pt x="3733" y="0"/>
                  <a:pt x="4953" y="0"/>
                </a:cubicBezTo>
                <a:cubicBezTo>
                  <a:pt x="6210" y="0"/>
                  <a:pt x="7213" y="43"/>
                  <a:pt x="7988" y="130"/>
                </a:cubicBezTo>
                <a:cubicBezTo>
                  <a:pt x="8725" y="217"/>
                  <a:pt x="9334" y="348"/>
                  <a:pt x="9766" y="520"/>
                </a:cubicBezTo>
                <a:cubicBezTo>
                  <a:pt x="10211" y="694"/>
                  <a:pt x="10502" y="911"/>
                  <a:pt x="10731" y="1215"/>
                </a:cubicBezTo>
                <a:cubicBezTo>
                  <a:pt x="10896" y="1475"/>
                  <a:pt x="11112" y="1823"/>
                  <a:pt x="11290" y="2258"/>
                </a:cubicBezTo>
                <a:lnTo>
                  <a:pt x="35864" y="70841"/>
                </a:lnTo>
                <a:lnTo>
                  <a:pt x="36207" y="70841"/>
                </a:lnTo>
                <a:lnTo>
                  <a:pt x="60337" y="2258"/>
                </a:lnTo>
                <a:cubicBezTo>
                  <a:pt x="60604" y="1475"/>
                  <a:pt x="60998" y="911"/>
                  <a:pt x="61519" y="651"/>
                </a:cubicBezTo>
                <a:cubicBezTo>
                  <a:pt x="61988" y="391"/>
                  <a:pt x="62636" y="217"/>
                  <a:pt x="63462" y="130"/>
                </a:cubicBezTo>
                <a:cubicBezTo>
                  <a:pt x="64249" y="43"/>
                  <a:pt x="65240" y="0"/>
                  <a:pt x="66421" y="0"/>
                </a:cubicBezTo>
                <a:cubicBezTo>
                  <a:pt x="67500" y="0"/>
                  <a:pt x="68415" y="43"/>
                  <a:pt x="69151" y="174"/>
                </a:cubicBezTo>
                <a:cubicBezTo>
                  <a:pt x="69850" y="260"/>
                  <a:pt x="70408" y="477"/>
                  <a:pt x="70764" y="780"/>
                </a:cubicBezTo>
                <a:cubicBezTo>
                  <a:pt x="71107" y="1042"/>
                  <a:pt x="71285" y="1432"/>
                  <a:pt x="71285" y="1953"/>
                </a:cubicBezTo>
                <a:cubicBezTo>
                  <a:pt x="71285" y="2430"/>
                  <a:pt x="71145" y="3039"/>
                  <a:pt x="70840" y="3820"/>
                </a:cubicBezTo>
                <a:lnTo>
                  <a:pt x="41503" y="8256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5078880" y="5654160"/>
            <a:ext cx="48600" cy="104760"/>
          </a:xfrm>
          <a:custGeom>
            <a:avLst/>
            <a:gdLst>
              <a:gd name="textAreaLeft" fmla="*/ 0 w 48600"/>
              <a:gd name="textAreaRight" fmla="*/ 48960 w 486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958" h="104960">
                <a:moveTo>
                  <a:pt x="48958" y="97233"/>
                </a:moveTo>
                <a:cubicBezTo>
                  <a:pt x="48958" y="98449"/>
                  <a:pt x="48869" y="99404"/>
                  <a:pt x="48653" y="100186"/>
                </a:cubicBezTo>
                <a:cubicBezTo>
                  <a:pt x="48475" y="100924"/>
                  <a:pt x="48133" y="101531"/>
                  <a:pt x="47701" y="101965"/>
                </a:cubicBezTo>
                <a:cubicBezTo>
                  <a:pt x="47269" y="102400"/>
                  <a:pt x="46659" y="102790"/>
                  <a:pt x="45796" y="103181"/>
                </a:cubicBezTo>
                <a:cubicBezTo>
                  <a:pt x="44970" y="103527"/>
                  <a:pt x="44005" y="103875"/>
                  <a:pt x="42888" y="104136"/>
                </a:cubicBezTo>
                <a:cubicBezTo>
                  <a:pt x="41795" y="104396"/>
                  <a:pt x="40627" y="104570"/>
                  <a:pt x="39408" y="104743"/>
                </a:cubicBezTo>
                <a:cubicBezTo>
                  <a:pt x="38188" y="104874"/>
                  <a:pt x="37020" y="104960"/>
                  <a:pt x="35852" y="104960"/>
                </a:cubicBezTo>
                <a:cubicBezTo>
                  <a:pt x="31991" y="104960"/>
                  <a:pt x="28689" y="104439"/>
                  <a:pt x="25958" y="103398"/>
                </a:cubicBezTo>
                <a:cubicBezTo>
                  <a:pt x="23266" y="102356"/>
                  <a:pt x="21005" y="100793"/>
                  <a:pt x="19265" y="98666"/>
                </a:cubicBezTo>
                <a:cubicBezTo>
                  <a:pt x="17526" y="96583"/>
                  <a:pt x="16268" y="93892"/>
                  <a:pt x="15494" y="90636"/>
                </a:cubicBezTo>
                <a:cubicBezTo>
                  <a:pt x="14706" y="87424"/>
                  <a:pt x="14325" y="83604"/>
                  <a:pt x="14325" y="79176"/>
                </a:cubicBezTo>
                <a:lnTo>
                  <a:pt x="14325" y="30298"/>
                </a:lnTo>
                <a:lnTo>
                  <a:pt x="2603" y="30298"/>
                </a:lnTo>
                <a:cubicBezTo>
                  <a:pt x="1816" y="30298"/>
                  <a:pt x="1168" y="29951"/>
                  <a:pt x="685" y="29214"/>
                </a:cubicBezTo>
                <a:cubicBezTo>
                  <a:pt x="253" y="28519"/>
                  <a:pt x="0" y="27433"/>
                  <a:pt x="0" y="25957"/>
                </a:cubicBezTo>
                <a:cubicBezTo>
                  <a:pt x="0" y="25219"/>
                  <a:pt x="37" y="24569"/>
                  <a:pt x="165" y="24004"/>
                </a:cubicBezTo>
                <a:cubicBezTo>
                  <a:pt x="253" y="23483"/>
                  <a:pt x="431" y="23006"/>
                  <a:pt x="685" y="22614"/>
                </a:cubicBezTo>
                <a:cubicBezTo>
                  <a:pt x="901" y="22268"/>
                  <a:pt x="1168" y="21964"/>
                  <a:pt x="1511" y="21790"/>
                </a:cubicBezTo>
                <a:cubicBezTo>
                  <a:pt x="1816" y="21616"/>
                  <a:pt x="2171" y="21530"/>
                  <a:pt x="2603" y="21530"/>
                </a:cubicBezTo>
                <a:lnTo>
                  <a:pt x="14325" y="21530"/>
                </a:lnTo>
                <a:lnTo>
                  <a:pt x="14325" y="2256"/>
                </a:lnTo>
                <a:cubicBezTo>
                  <a:pt x="14325" y="1910"/>
                  <a:pt x="14363" y="1606"/>
                  <a:pt x="14541" y="1301"/>
                </a:cubicBezTo>
                <a:cubicBezTo>
                  <a:pt x="14668" y="1041"/>
                  <a:pt x="14922" y="781"/>
                  <a:pt x="15366" y="563"/>
                </a:cubicBezTo>
                <a:cubicBezTo>
                  <a:pt x="15747" y="389"/>
                  <a:pt x="16268" y="217"/>
                  <a:pt x="16967" y="129"/>
                </a:cubicBezTo>
                <a:cubicBezTo>
                  <a:pt x="17614" y="43"/>
                  <a:pt x="18440" y="0"/>
                  <a:pt x="19443" y="0"/>
                </a:cubicBezTo>
                <a:cubicBezTo>
                  <a:pt x="20485" y="0"/>
                  <a:pt x="21310" y="43"/>
                  <a:pt x="22009" y="129"/>
                </a:cubicBezTo>
                <a:cubicBezTo>
                  <a:pt x="22656" y="217"/>
                  <a:pt x="23177" y="346"/>
                  <a:pt x="23571" y="563"/>
                </a:cubicBezTo>
                <a:cubicBezTo>
                  <a:pt x="23914" y="737"/>
                  <a:pt x="24219" y="998"/>
                  <a:pt x="24396" y="1301"/>
                </a:cubicBezTo>
                <a:cubicBezTo>
                  <a:pt x="24561" y="1562"/>
                  <a:pt x="24650" y="1910"/>
                  <a:pt x="24650" y="2256"/>
                </a:cubicBezTo>
                <a:lnTo>
                  <a:pt x="24650" y="21530"/>
                </a:lnTo>
                <a:lnTo>
                  <a:pt x="46354" y="21530"/>
                </a:lnTo>
                <a:cubicBezTo>
                  <a:pt x="46748" y="21530"/>
                  <a:pt x="47091" y="21616"/>
                  <a:pt x="47434" y="21790"/>
                </a:cubicBezTo>
                <a:cubicBezTo>
                  <a:pt x="47739" y="21964"/>
                  <a:pt x="48005" y="22225"/>
                  <a:pt x="48259" y="22614"/>
                </a:cubicBezTo>
                <a:cubicBezTo>
                  <a:pt x="48475" y="22962"/>
                  <a:pt x="48653" y="23440"/>
                  <a:pt x="48780" y="24004"/>
                </a:cubicBezTo>
                <a:cubicBezTo>
                  <a:pt x="48869" y="24525"/>
                  <a:pt x="48958" y="25176"/>
                  <a:pt x="48958" y="25957"/>
                </a:cubicBezTo>
                <a:cubicBezTo>
                  <a:pt x="48958" y="27390"/>
                  <a:pt x="48742" y="28476"/>
                  <a:pt x="48221" y="29214"/>
                </a:cubicBezTo>
                <a:cubicBezTo>
                  <a:pt x="47739" y="29908"/>
                  <a:pt x="47142" y="30298"/>
                  <a:pt x="46354" y="30298"/>
                </a:cubicBezTo>
                <a:lnTo>
                  <a:pt x="24650" y="30298"/>
                </a:lnTo>
                <a:lnTo>
                  <a:pt x="24650" y="77787"/>
                </a:lnTo>
                <a:cubicBezTo>
                  <a:pt x="24650" y="83733"/>
                  <a:pt x="25476" y="88291"/>
                  <a:pt x="27216" y="91417"/>
                </a:cubicBezTo>
                <a:cubicBezTo>
                  <a:pt x="28905" y="94542"/>
                  <a:pt x="32029" y="96106"/>
                  <a:pt x="36550" y="96106"/>
                </a:cubicBezTo>
                <a:cubicBezTo>
                  <a:pt x="37934" y="96106"/>
                  <a:pt x="39192" y="95975"/>
                  <a:pt x="40322" y="95671"/>
                </a:cubicBezTo>
                <a:cubicBezTo>
                  <a:pt x="41452" y="95411"/>
                  <a:pt x="42443" y="95063"/>
                  <a:pt x="43319" y="94716"/>
                </a:cubicBezTo>
                <a:cubicBezTo>
                  <a:pt x="44183" y="94369"/>
                  <a:pt x="44919" y="94065"/>
                  <a:pt x="45529" y="93761"/>
                </a:cubicBezTo>
                <a:cubicBezTo>
                  <a:pt x="46139" y="93501"/>
                  <a:pt x="46659" y="93327"/>
                  <a:pt x="47142" y="93327"/>
                </a:cubicBezTo>
                <a:cubicBezTo>
                  <a:pt x="47396" y="93327"/>
                  <a:pt x="47662" y="93370"/>
                  <a:pt x="47917" y="93501"/>
                </a:cubicBezTo>
                <a:cubicBezTo>
                  <a:pt x="48133" y="93587"/>
                  <a:pt x="48310" y="93804"/>
                  <a:pt x="48475" y="94152"/>
                </a:cubicBezTo>
                <a:cubicBezTo>
                  <a:pt x="48615" y="94456"/>
                  <a:pt x="48742" y="94846"/>
                  <a:pt x="48831" y="95368"/>
                </a:cubicBezTo>
                <a:cubicBezTo>
                  <a:pt x="48920" y="95845"/>
                  <a:pt x="48958" y="96452"/>
                  <a:pt x="48958" y="9723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5148360" y="5636880"/>
            <a:ext cx="63360" cy="121320"/>
          </a:xfrm>
          <a:custGeom>
            <a:avLst/>
            <a:gdLst>
              <a:gd name="textAreaLeft" fmla="*/ 0 w 63360"/>
              <a:gd name="textAreaRight" fmla="*/ 63720 w 63360"/>
              <a:gd name="textAreaTop" fmla="*/ 0 h 121320"/>
              <a:gd name="textAreaBottom" fmla="*/ 121680 h 121320"/>
            </a:gdLst>
            <a:ahLst/>
            <a:rect l="textAreaLeft" t="textAreaTop" r="textAreaRight" b="textAreaBottom"/>
            <a:pathLst>
              <a:path w="63716" h="121542">
                <a:moveTo>
                  <a:pt x="63715" y="119286"/>
                </a:moveTo>
                <a:cubicBezTo>
                  <a:pt x="63715" y="119632"/>
                  <a:pt x="63627" y="119936"/>
                  <a:pt x="63462" y="120241"/>
                </a:cubicBezTo>
                <a:cubicBezTo>
                  <a:pt x="63284" y="120501"/>
                  <a:pt x="63017" y="120761"/>
                  <a:pt x="62636" y="120935"/>
                </a:cubicBezTo>
                <a:cubicBezTo>
                  <a:pt x="62281" y="121108"/>
                  <a:pt x="61760" y="121239"/>
                  <a:pt x="61074" y="121368"/>
                </a:cubicBezTo>
                <a:cubicBezTo>
                  <a:pt x="60414" y="121456"/>
                  <a:pt x="59588" y="121542"/>
                  <a:pt x="58597" y="121542"/>
                </a:cubicBezTo>
                <a:cubicBezTo>
                  <a:pt x="57556" y="121542"/>
                  <a:pt x="56731" y="121499"/>
                  <a:pt x="56032" y="121368"/>
                </a:cubicBezTo>
                <a:cubicBezTo>
                  <a:pt x="55384" y="121282"/>
                  <a:pt x="54864" y="121108"/>
                  <a:pt x="54470" y="120935"/>
                </a:cubicBezTo>
                <a:cubicBezTo>
                  <a:pt x="54127" y="120761"/>
                  <a:pt x="53822" y="120544"/>
                  <a:pt x="53644" y="120241"/>
                </a:cubicBezTo>
                <a:cubicBezTo>
                  <a:pt x="53479" y="119980"/>
                  <a:pt x="53390" y="119632"/>
                  <a:pt x="53390" y="119286"/>
                </a:cubicBezTo>
                <a:lnTo>
                  <a:pt x="53390" y="72665"/>
                </a:lnTo>
                <a:cubicBezTo>
                  <a:pt x="53390" y="67804"/>
                  <a:pt x="53035" y="63853"/>
                  <a:pt x="52260" y="60815"/>
                </a:cubicBezTo>
                <a:cubicBezTo>
                  <a:pt x="51523" y="57775"/>
                  <a:pt x="50393" y="55171"/>
                  <a:pt x="48869" y="53001"/>
                </a:cubicBezTo>
                <a:cubicBezTo>
                  <a:pt x="47396" y="50830"/>
                  <a:pt x="45440" y="49181"/>
                  <a:pt x="43103" y="47966"/>
                </a:cubicBezTo>
                <a:cubicBezTo>
                  <a:pt x="40754" y="46794"/>
                  <a:pt x="38024" y="46185"/>
                  <a:pt x="34899" y="46185"/>
                </a:cubicBezTo>
                <a:cubicBezTo>
                  <a:pt x="30899" y="46185"/>
                  <a:pt x="26911" y="47575"/>
                  <a:pt x="22911" y="50440"/>
                </a:cubicBezTo>
                <a:cubicBezTo>
                  <a:pt x="18923" y="53261"/>
                  <a:pt x="14757" y="57429"/>
                  <a:pt x="10325" y="62942"/>
                </a:cubicBezTo>
                <a:lnTo>
                  <a:pt x="10325" y="119286"/>
                </a:lnTo>
                <a:cubicBezTo>
                  <a:pt x="10325" y="119632"/>
                  <a:pt x="10236" y="119936"/>
                  <a:pt x="10071" y="120241"/>
                </a:cubicBezTo>
                <a:cubicBezTo>
                  <a:pt x="9893" y="120501"/>
                  <a:pt x="9626" y="120761"/>
                  <a:pt x="9245" y="120935"/>
                </a:cubicBezTo>
                <a:cubicBezTo>
                  <a:pt x="8890" y="121108"/>
                  <a:pt x="8369" y="121239"/>
                  <a:pt x="7683" y="121368"/>
                </a:cubicBezTo>
                <a:cubicBezTo>
                  <a:pt x="7023" y="121456"/>
                  <a:pt x="6159" y="121542"/>
                  <a:pt x="5118" y="121542"/>
                </a:cubicBezTo>
                <a:cubicBezTo>
                  <a:pt x="4165" y="121542"/>
                  <a:pt x="3340" y="121499"/>
                  <a:pt x="2641" y="121368"/>
                </a:cubicBezTo>
                <a:cubicBezTo>
                  <a:pt x="1994" y="121282"/>
                  <a:pt x="1473" y="121108"/>
                  <a:pt x="1041" y="120935"/>
                </a:cubicBezTo>
                <a:cubicBezTo>
                  <a:pt x="648" y="120761"/>
                  <a:pt x="380" y="120544"/>
                  <a:pt x="215" y="120241"/>
                </a:cubicBezTo>
                <a:cubicBezTo>
                  <a:pt x="76" y="119980"/>
                  <a:pt x="0" y="119632"/>
                  <a:pt x="0" y="119286"/>
                </a:cubicBezTo>
                <a:lnTo>
                  <a:pt x="0" y="2256"/>
                </a:lnTo>
                <a:cubicBezTo>
                  <a:pt x="0" y="1909"/>
                  <a:pt x="38" y="1606"/>
                  <a:pt x="215" y="1301"/>
                </a:cubicBezTo>
                <a:cubicBezTo>
                  <a:pt x="343" y="1041"/>
                  <a:pt x="596" y="780"/>
                  <a:pt x="1041" y="563"/>
                </a:cubicBezTo>
                <a:cubicBezTo>
                  <a:pt x="1422" y="391"/>
                  <a:pt x="1943" y="217"/>
                  <a:pt x="2641" y="130"/>
                </a:cubicBezTo>
                <a:cubicBezTo>
                  <a:pt x="3289" y="43"/>
                  <a:pt x="4114" y="0"/>
                  <a:pt x="5118" y="0"/>
                </a:cubicBezTo>
                <a:cubicBezTo>
                  <a:pt x="6159" y="0"/>
                  <a:pt x="6985" y="43"/>
                  <a:pt x="7683" y="130"/>
                </a:cubicBezTo>
                <a:cubicBezTo>
                  <a:pt x="8331" y="217"/>
                  <a:pt x="8852" y="346"/>
                  <a:pt x="9245" y="563"/>
                </a:cubicBezTo>
                <a:cubicBezTo>
                  <a:pt x="9588" y="737"/>
                  <a:pt x="9893" y="998"/>
                  <a:pt x="10071" y="1301"/>
                </a:cubicBezTo>
                <a:cubicBezTo>
                  <a:pt x="10236" y="1561"/>
                  <a:pt x="10325" y="1909"/>
                  <a:pt x="10325" y="2256"/>
                </a:cubicBezTo>
                <a:lnTo>
                  <a:pt x="10325" y="51308"/>
                </a:lnTo>
                <a:cubicBezTo>
                  <a:pt x="14579" y="46577"/>
                  <a:pt x="18872" y="43103"/>
                  <a:pt x="23177" y="40847"/>
                </a:cubicBezTo>
                <a:cubicBezTo>
                  <a:pt x="27432" y="38633"/>
                  <a:pt x="31724" y="37504"/>
                  <a:pt x="36029" y="37504"/>
                </a:cubicBezTo>
                <a:cubicBezTo>
                  <a:pt x="41148" y="37504"/>
                  <a:pt x="45491" y="38372"/>
                  <a:pt x="49047" y="40109"/>
                </a:cubicBezTo>
                <a:cubicBezTo>
                  <a:pt x="52565" y="41845"/>
                  <a:pt x="55422" y="44189"/>
                  <a:pt x="57594" y="47140"/>
                </a:cubicBezTo>
                <a:cubicBezTo>
                  <a:pt x="59766" y="50092"/>
                  <a:pt x="61328" y="53522"/>
                  <a:pt x="62281" y="57472"/>
                </a:cubicBezTo>
                <a:cubicBezTo>
                  <a:pt x="63246" y="61379"/>
                  <a:pt x="63715" y="66154"/>
                  <a:pt x="63715" y="71710"/>
                </a:cubicBezTo>
                <a:lnTo>
                  <a:pt x="63715" y="11928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5236920" y="5635080"/>
            <a:ext cx="28080" cy="152280"/>
          </a:xfrm>
          <a:custGeom>
            <a:avLst/>
            <a:gdLst>
              <a:gd name="textAreaLeft" fmla="*/ 0 w 28080"/>
              <a:gd name="textAreaRight" fmla="*/ 28440 w 2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8384" h="152537">
                <a:moveTo>
                  <a:pt x="28384" y="76398"/>
                </a:moveTo>
                <a:cubicBezTo>
                  <a:pt x="28384" y="82909"/>
                  <a:pt x="27990" y="89420"/>
                  <a:pt x="27127" y="95845"/>
                </a:cubicBezTo>
                <a:cubicBezTo>
                  <a:pt x="26301" y="102268"/>
                  <a:pt x="25044" y="108607"/>
                  <a:pt x="23393" y="114858"/>
                </a:cubicBezTo>
                <a:cubicBezTo>
                  <a:pt x="21742" y="121108"/>
                  <a:pt x="19748" y="127229"/>
                  <a:pt x="17360" y="133263"/>
                </a:cubicBezTo>
                <a:cubicBezTo>
                  <a:pt x="15011" y="139253"/>
                  <a:pt x="12242" y="145157"/>
                  <a:pt x="9106" y="150973"/>
                </a:cubicBezTo>
                <a:cubicBezTo>
                  <a:pt x="8940" y="151233"/>
                  <a:pt x="8725" y="151494"/>
                  <a:pt x="8420" y="151711"/>
                </a:cubicBezTo>
                <a:cubicBezTo>
                  <a:pt x="8153" y="151885"/>
                  <a:pt x="7772" y="152059"/>
                  <a:pt x="7327" y="152189"/>
                </a:cubicBezTo>
                <a:cubicBezTo>
                  <a:pt x="6896" y="152275"/>
                  <a:pt x="6426" y="152363"/>
                  <a:pt x="5854" y="152449"/>
                </a:cubicBezTo>
                <a:cubicBezTo>
                  <a:pt x="5334" y="152492"/>
                  <a:pt x="4686" y="152536"/>
                  <a:pt x="3987" y="152536"/>
                </a:cubicBezTo>
                <a:cubicBezTo>
                  <a:pt x="2946" y="152536"/>
                  <a:pt x="2171" y="152492"/>
                  <a:pt x="1562" y="152363"/>
                </a:cubicBezTo>
                <a:cubicBezTo>
                  <a:pt x="990" y="152275"/>
                  <a:pt x="558" y="152059"/>
                  <a:pt x="305" y="151797"/>
                </a:cubicBezTo>
                <a:cubicBezTo>
                  <a:pt x="37" y="151537"/>
                  <a:pt x="-88" y="151233"/>
                  <a:pt x="0" y="150844"/>
                </a:cubicBezTo>
                <a:cubicBezTo>
                  <a:pt x="37" y="150496"/>
                  <a:pt x="165" y="150018"/>
                  <a:pt x="431" y="149497"/>
                </a:cubicBezTo>
                <a:cubicBezTo>
                  <a:pt x="6032" y="137647"/>
                  <a:pt x="10236" y="125536"/>
                  <a:pt x="13106" y="113121"/>
                </a:cubicBezTo>
                <a:cubicBezTo>
                  <a:pt x="15925" y="100750"/>
                  <a:pt x="17360" y="88379"/>
                  <a:pt x="17360" y="76051"/>
                </a:cubicBezTo>
                <a:cubicBezTo>
                  <a:pt x="17360" y="63853"/>
                  <a:pt x="15976" y="51569"/>
                  <a:pt x="13144" y="39153"/>
                </a:cubicBezTo>
                <a:cubicBezTo>
                  <a:pt x="10376" y="26782"/>
                  <a:pt x="6070" y="14671"/>
                  <a:pt x="253" y="2864"/>
                </a:cubicBezTo>
                <a:cubicBezTo>
                  <a:pt x="88" y="2473"/>
                  <a:pt x="0" y="2083"/>
                  <a:pt x="37" y="1692"/>
                </a:cubicBezTo>
                <a:cubicBezTo>
                  <a:pt x="37" y="1346"/>
                  <a:pt x="215" y="1041"/>
                  <a:pt x="558" y="780"/>
                </a:cubicBezTo>
                <a:cubicBezTo>
                  <a:pt x="863" y="563"/>
                  <a:pt x="1295" y="391"/>
                  <a:pt x="1866" y="217"/>
                </a:cubicBezTo>
                <a:cubicBezTo>
                  <a:pt x="2387" y="86"/>
                  <a:pt x="3124" y="0"/>
                  <a:pt x="3987" y="0"/>
                </a:cubicBezTo>
                <a:cubicBezTo>
                  <a:pt x="4902" y="0"/>
                  <a:pt x="5676" y="43"/>
                  <a:pt x="6286" y="130"/>
                </a:cubicBezTo>
                <a:cubicBezTo>
                  <a:pt x="6896" y="217"/>
                  <a:pt x="7378" y="303"/>
                  <a:pt x="7772" y="477"/>
                </a:cubicBezTo>
                <a:cubicBezTo>
                  <a:pt x="8115" y="608"/>
                  <a:pt x="8369" y="737"/>
                  <a:pt x="8547" y="911"/>
                </a:cubicBezTo>
                <a:cubicBezTo>
                  <a:pt x="8674" y="1041"/>
                  <a:pt x="8813" y="1215"/>
                  <a:pt x="8940" y="1389"/>
                </a:cubicBezTo>
                <a:cubicBezTo>
                  <a:pt x="14846" y="13108"/>
                  <a:pt x="19532" y="25306"/>
                  <a:pt x="23088" y="37895"/>
                </a:cubicBezTo>
                <a:cubicBezTo>
                  <a:pt x="26606" y="50483"/>
                  <a:pt x="28384" y="63289"/>
                  <a:pt x="28384" y="76398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5292720" y="5741640"/>
            <a:ext cx="14400" cy="16200"/>
          </a:xfrm>
          <a:custGeom>
            <a:avLst/>
            <a:gdLst>
              <a:gd name="textAreaLeft" fmla="*/ 0 w 14400"/>
              <a:gd name="textAreaRight" fmla="*/ 14760 w 1440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4846" h="16668">
                <a:moveTo>
                  <a:pt x="14846" y="8248"/>
                </a:moveTo>
                <a:cubicBezTo>
                  <a:pt x="14846" y="11634"/>
                  <a:pt x="14325" y="13891"/>
                  <a:pt x="13195" y="15020"/>
                </a:cubicBezTo>
                <a:cubicBezTo>
                  <a:pt x="12115" y="16104"/>
                  <a:pt x="10159" y="16668"/>
                  <a:pt x="7289" y="16668"/>
                </a:cubicBezTo>
                <a:cubicBezTo>
                  <a:pt x="4597" y="16668"/>
                  <a:pt x="2692" y="16148"/>
                  <a:pt x="1600" y="15063"/>
                </a:cubicBezTo>
                <a:cubicBezTo>
                  <a:pt x="558" y="14022"/>
                  <a:pt x="0" y="11807"/>
                  <a:pt x="0" y="8421"/>
                </a:cubicBezTo>
                <a:cubicBezTo>
                  <a:pt x="0" y="5035"/>
                  <a:pt x="520" y="2778"/>
                  <a:pt x="1651" y="1649"/>
                </a:cubicBezTo>
                <a:cubicBezTo>
                  <a:pt x="2730" y="565"/>
                  <a:pt x="4686" y="0"/>
                  <a:pt x="7556" y="0"/>
                </a:cubicBezTo>
                <a:cubicBezTo>
                  <a:pt x="10248" y="0"/>
                  <a:pt x="12153" y="522"/>
                  <a:pt x="13233" y="1606"/>
                </a:cubicBezTo>
                <a:cubicBezTo>
                  <a:pt x="14274" y="2647"/>
                  <a:pt x="14846" y="4862"/>
                  <a:pt x="14846" y="8248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493640" y="247896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0070c0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493640" y="412236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0070c0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5125680" y="1174680"/>
            <a:ext cx="642240" cy="134640"/>
          </a:xfrm>
          <a:custGeom>
            <a:avLst/>
            <a:gdLst>
              <a:gd name="textAreaLeft" fmla="*/ 0 w 642240"/>
              <a:gd name="textAreaRight" fmla="*/ 642600 w 6422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2620" h="135016">
                <a:moveTo>
                  <a:pt x="128523" y="16073"/>
                </a:moveTo>
                <a:cubicBezTo>
                  <a:pt x="299846" y="-41076"/>
                  <a:pt x="471296" y="73223"/>
                  <a:pt x="642620" y="16073"/>
                </a:cubicBezTo>
                <a:lnTo>
                  <a:pt x="514095" y="118943"/>
                </a:lnTo>
                <a:cubicBezTo>
                  <a:pt x="342772" y="176093"/>
                  <a:pt x="171322" y="61793"/>
                  <a:pt x="0" y="118943"/>
                </a:cubicBezTo>
                <a:lnTo>
                  <a:pt x="128523" y="16073"/>
                </a:lnTo>
              </a:path>
            </a:pathLst>
          </a:custGeom>
          <a:solidFill>
            <a:srgbClr val="009f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3413880" y="1174680"/>
            <a:ext cx="642240" cy="134640"/>
          </a:xfrm>
          <a:custGeom>
            <a:avLst/>
            <a:gdLst>
              <a:gd name="textAreaLeft" fmla="*/ 0 w 642240"/>
              <a:gd name="textAreaRight" fmla="*/ 642600 w 6422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2620" h="135016">
                <a:moveTo>
                  <a:pt x="128524" y="16073"/>
                </a:moveTo>
                <a:cubicBezTo>
                  <a:pt x="299847" y="-41076"/>
                  <a:pt x="471297" y="73223"/>
                  <a:pt x="642620" y="16073"/>
                </a:cubicBezTo>
                <a:lnTo>
                  <a:pt x="514096" y="118943"/>
                </a:lnTo>
                <a:cubicBezTo>
                  <a:pt x="342773" y="176093"/>
                  <a:pt x="171323" y="61793"/>
                  <a:pt x="0" y="118943"/>
                </a:cubicBezTo>
                <a:lnTo>
                  <a:pt x="128524" y="16073"/>
                </a:lnTo>
              </a:path>
            </a:pathLst>
          </a:custGeom>
          <a:solidFill>
            <a:srgbClr val="009f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5125680" y="1126440"/>
            <a:ext cx="642240" cy="134640"/>
          </a:xfrm>
          <a:custGeom>
            <a:avLst/>
            <a:gdLst>
              <a:gd name="textAreaLeft" fmla="*/ 0 w 642240"/>
              <a:gd name="textAreaRight" fmla="*/ 642600 w 6422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2620" h="135016">
                <a:moveTo>
                  <a:pt x="128523" y="16073"/>
                </a:moveTo>
                <a:cubicBezTo>
                  <a:pt x="299846" y="-41076"/>
                  <a:pt x="471296" y="73223"/>
                  <a:pt x="642620" y="16073"/>
                </a:cubicBezTo>
                <a:lnTo>
                  <a:pt x="514095" y="118943"/>
                </a:lnTo>
                <a:cubicBezTo>
                  <a:pt x="342772" y="176093"/>
                  <a:pt x="171322" y="61793"/>
                  <a:pt x="0" y="118943"/>
                </a:cubicBezTo>
                <a:lnTo>
                  <a:pt x="128523" y="160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3413880" y="1126440"/>
            <a:ext cx="642240" cy="134640"/>
          </a:xfrm>
          <a:custGeom>
            <a:avLst/>
            <a:gdLst>
              <a:gd name="textAreaLeft" fmla="*/ 0 w 642240"/>
              <a:gd name="textAreaRight" fmla="*/ 642600 w 6422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2620" h="135016">
                <a:moveTo>
                  <a:pt x="128524" y="16073"/>
                </a:moveTo>
                <a:cubicBezTo>
                  <a:pt x="299847" y="-41076"/>
                  <a:pt x="471297" y="73223"/>
                  <a:pt x="642620" y="16073"/>
                </a:cubicBezTo>
                <a:lnTo>
                  <a:pt x="514096" y="118943"/>
                </a:lnTo>
                <a:cubicBezTo>
                  <a:pt x="342773" y="176093"/>
                  <a:pt x="171323" y="61793"/>
                  <a:pt x="0" y="118943"/>
                </a:cubicBezTo>
                <a:lnTo>
                  <a:pt x="128524" y="160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454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71680" y="4978440"/>
            <a:ext cx="7924320" cy="17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901800" y="5194440"/>
            <a:ext cx="7276680" cy="177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>
            <a:off x="635040" y="5410080"/>
            <a:ext cx="7810200" cy="17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5"/>
          <a:stretch/>
        </p:blipFill>
        <p:spPr>
          <a:xfrm>
            <a:off x="520560" y="5626080"/>
            <a:ext cx="3454200" cy="17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6"/>
          <a:stretch/>
        </p:blipFill>
        <p:spPr>
          <a:xfrm>
            <a:off x="4025880" y="5626080"/>
            <a:ext cx="774360" cy="13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7"/>
          <a:stretch/>
        </p:blipFill>
        <p:spPr>
          <a:xfrm>
            <a:off x="5410080" y="5626080"/>
            <a:ext cx="3149280" cy="17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8"/>
          <a:stretch/>
        </p:blipFill>
        <p:spPr>
          <a:xfrm>
            <a:off x="609480" y="5842080"/>
            <a:ext cx="7848360" cy="17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9"/>
          <a:stretch/>
        </p:blipFill>
        <p:spPr>
          <a:xfrm>
            <a:off x="838080" y="6045120"/>
            <a:ext cx="7391160" cy="177480"/>
          </a:xfrm>
          <a:prstGeom prst="rect">
            <a:avLst/>
          </a:prstGeom>
          <a:ln w="0">
            <a:noFill/>
          </a:ln>
        </p:spPr>
      </p:pic>
      <p:sp>
        <p:nvSpPr>
          <p:cNvPr id="105" name="矩形 24">
            <a:hlinkClick r:id="rId10"/>
          </p:cNvPr>
          <p:cNvSpPr/>
          <p:nvPr/>
        </p:nvSpPr>
        <p:spPr>
          <a:xfrm>
            <a:off x="-1117080" y="-44280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2178720" y="-2556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约的蓝色海洋风创意设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0" y="-22680"/>
            <a:ext cx="9143640" cy="41616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9144000" h="416559">
                <a:moveTo>
                  <a:pt x="0" y="416559"/>
                </a:moveTo>
                <a:lnTo>
                  <a:pt x="9144000" y="416559"/>
                </a:lnTo>
                <a:lnTo>
                  <a:pt x="9144000" y="0"/>
                </a:lnTo>
                <a:lnTo>
                  <a:pt x="0" y="0"/>
                </a:lnTo>
                <a:lnTo>
                  <a:pt x="0" y="416559"/>
                </a:lnTo>
              </a:path>
            </a:pathLst>
          </a:custGeom>
          <a:solidFill>
            <a:srgbClr val="57caf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368280"/>
            <a:ext cx="9143640" cy="22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473120" y="1193760"/>
            <a:ext cx="6032160" cy="38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673200" y="2120760"/>
            <a:ext cx="2247480" cy="2298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3441600" y="2222640"/>
            <a:ext cx="2260080" cy="220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5"/>
          <a:stretch/>
        </p:blipFill>
        <p:spPr>
          <a:xfrm>
            <a:off x="6032520" y="2146320"/>
            <a:ext cx="2400120" cy="237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6"/>
          <a:stretch/>
        </p:blipFill>
        <p:spPr>
          <a:xfrm>
            <a:off x="1562040" y="4724280"/>
            <a:ext cx="888480" cy="68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7"/>
          <a:stretch/>
        </p:blipFill>
        <p:spPr>
          <a:xfrm>
            <a:off x="4178160" y="4724280"/>
            <a:ext cx="1091880" cy="68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8"/>
          <a:stretch/>
        </p:blipFill>
        <p:spPr>
          <a:xfrm>
            <a:off x="6997680" y="4724280"/>
            <a:ext cx="1091880" cy="685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9"/>
          <a:stretch/>
        </p:blipFill>
        <p:spPr>
          <a:xfrm>
            <a:off x="1092240" y="5423040"/>
            <a:ext cx="1485720" cy="19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10"/>
          <a:stretch/>
        </p:blipFill>
        <p:spPr>
          <a:xfrm>
            <a:off x="3784680" y="5423040"/>
            <a:ext cx="1638000" cy="164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11"/>
          <a:stretch/>
        </p:blipFill>
        <p:spPr>
          <a:xfrm>
            <a:off x="6413400" y="5423040"/>
            <a:ext cx="1777680" cy="190080"/>
          </a:xfrm>
          <a:prstGeom prst="rect">
            <a:avLst/>
          </a:prstGeom>
          <a:ln w="0">
            <a:noFill/>
          </a:ln>
        </p:spPr>
      </p:pic>
      <p:sp>
        <p:nvSpPr>
          <p:cNvPr id="121" name="矩形 14">
            <a:hlinkClick r:id="rId12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4591440" y="358848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02" h="26009">
                <a:moveTo>
                  <a:pt x="24002" y="12839"/>
                </a:moveTo>
                <a:cubicBezTo>
                  <a:pt x="24002" y="18084"/>
                  <a:pt x="23164" y="21602"/>
                  <a:pt x="21373" y="23393"/>
                </a:cubicBezTo>
                <a:cubicBezTo>
                  <a:pt x="19646" y="25120"/>
                  <a:pt x="16471" y="26009"/>
                  <a:pt x="11836" y="26009"/>
                </a:cubicBezTo>
                <a:cubicBezTo>
                  <a:pt x="7365" y="26009"/>
                  <a:pt x="4305" y="25171"/>
                  <a:pt x="2565" y="23444"/>
                </a:cubicBezTo>
                <a:cubicBezTo>
                  <a:pt x="888" y="21768"/>
                  <a:pt x="0" y="18313"/>
                  <a:pt x="0" y="13170"/>
                </a:cubicBezTo>
                <a:cubicBezTo>
                  <a:pt x="0" y="7924"/>
                  <a:pt x="837" y="4407"/>
                  <a:pt x="2628" y="2628"/>
                </a:cubicBezTo>
                <a:cubicBezTo>
                  <a:pt x="4355" y="901"/>
                  <a:pt x="7530" y="0"/>
                  <a:pt x="12166" y="0"/>
                </a:cubicBezTo>
                <a:cubicBezTo>
                  <a:pt x="16636" y="0"/>
                  <a:pt x="19697" y="838"/>
                  <a:pt x="21437" y="2565"/>
                </a:cubicBezTo>
                <a:cubicBezTo>
                  <a:pt x="23113" y="4241"/>
                  <a:pt x="24002" y="7708"/>
                  <a:pt x="24002" y="12839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4870440" y="4090680"/>
            <a:ext cx="115560" cy="15840"/>
          </a:xfrm>
          <a:custGeom>
            <a:avLst/>
            <a:gdLst>
              <a:gd name="textAreaLeft" fmla="*/ 0 w 115560"/>
              <a:gd name="textAreaRight" fmla="*/ 115920 w 115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798" h="16205">
                <a:moveTo>
                  <a:pt x="115798" y="8039"/>
                </a:moveTo>
                <a:cubicBezTo>
                  <a:pt x="115798" y="10845"/>
                  <a:pt x="115468" y="12903"/>
                  <a:pt x="114744" y="14249"/>
                </a:cubicBezTo>
                <a:cubicBezTo>
                  <a:pt x="114071" y="15531"/>
                  <a:pt x="113004" y="16205"/>
                  <a:pt x="111556" y="16205"/>
                </a:cubicBezTo>
                <a:lnTo>
                  <a:pt x="4140" y="16205"/>
                </a:lnTo>
                <a:cubicBezTo>
                  <a:pt x="2743" y="16205"/>
                  <a:pt x="1676" y="15595"/>
                  <a:pt x="1003" y="14249"/>
                </a:cubicBezTo>
                <a:cubicBezTo>
                  <a:pt x="330" y="12966"/>
                  <a:pt x="0" y="10896"/>
                  <a:pt x="0" y="8039"/>
                </a:cubicBezTo>
                <a:cubicBezTo>
                  <a:pt x="0" y="5308"/>
                  <a:pt x="330" y="3289"/>
                  <a:pt x="1003" y="1955"/>
                </a:cubicBezTo>
                <a:cubicBezTo>
                  <a:pt x="1676" y="672"/>
                  <a:pt x="2679" y="0"/>
                  <a:pt x="4140" y="0"/>
                </a:cubicBezTo>
                <a:lnTo>
                  <a:pt x="111556" y="0"/>
                </a:lnTo>
                <a:cubicBezTo>
                  <a:pt x="112217" y="0"/>
                  <a:pt x="112839" y="165"/>
                  <a:pt x="113398" y="495"/>
                </a:cubicBezTo>
                <a:cubicBezTo>
                  <a:pt x="113956" y="837"/>
                  <a:pt x="114401" y="1282"/>
                  <a:pt x="114744" y="1955"/>
                </a:cubicBezTo>
                <a:cubicBezTo>
                  <a:pt x="115074" y="2565"/>
                  <a:pt x="115303" y="3403"/>
                  <a:pt x="115519" y="4406"/>
                </a:cubicBezTo>
                <a:cubicBezTo>
                  <a:pt x="115684" y="5422"/>
                  <a:pt x="115798" y="6591"/>
                  <a:pt x="115798" y="8039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6816960" y="496044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03" h="26009">
                <a:moveTo>
                  <a:pt x="24003" y="12839"/>
                </a:moveTo>
                <a:cubicBezTo>
                  <a:pt x="24003" y="18084"/>
                  <a:pt x="23165" y="21602"/>
                  <a:pt x="21374" y="23393"/>
                </a:cubicBezTo>
                <a:cubicBezTo>
                  <a:pt x="19646" y="25120"/>
                  <a:pt x="16471" y="26009"/>
                  <a:pt x="11836" y="26009"/>
                </a:cubicBezTo>
                <a:cubicBezTo>
                  <a:pt x="7366" y="26009"/>
                  <a:pt x="4305" y="25171"/>
                  <a:pt x="2565" y="23444"/>
                </a:cubicBezTo>
                <a:cubicBezTo>
                  <a:pt x="902" y="21768"/>
                  <a:pt x="0" y="18313"/>
                  <a:pt x="0" y="13170"/>
                </a:cubicBezTo>
                <a:cubicBezTo>
                  <a:pt x="0" y="7924"/>
                  <a:pt x="838" y="4407"/>
                  <a:pt x="2629" y="2628"/>
                </a:cubicBezTo>
                <a:cubicBezTo>
                  <a:pt x="4356" y="901"/>
                  <a:pt x="7531" y="0"/>
                  <a:pt x="12166" y="0"/>
                </a:cubicBezTo>
                <a:cubicBezTo>
                  <a:pt x="16636" y="0"/>
                  <a:pt x="19698" y="838"/>
                  <a:pt x="21438" y="2565"/>
                </a:cubicBezTo>
                <a:cubicBezTo>
                  <a:pt x="23114" y="4241"/>
                  <a:pt x="24003" y="7708"/>
                  <a:pt x="24003" y="12839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108160" y="952560"/>
            <a:ext cx="4939920" cy="355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71680" y="2120760"/>
            <a:ext cx="2984040" cy="2984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4000680" y="2349360"/>
            <a:ext cx="774360" cy="21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813200" y="2349360"/>
            <a:ext cx="3580920" cy="21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5"/>
          <a:stretch/>
        </p:blipFill>
        <p:spPr>
          <a:xfrm>
            <a:off x="3987720" y="2616120"/>
            <a:ext cx="4597200" cy="22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6"/>
          <a:stretch/>
        </p:blipFill>
        <p:spPr>
          <a:xfrm>
            <a:off x="3987720" y="2895480"/>
            <a:ext cx="3771720" cy="22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7"/>
          <a:stretch/>
        </p:blipFill>
        <p:spPr>
          <a:xfrm>
            <a:off x="4000680" y="3174840"/>
            <a:ext cx="4381200" cy="21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8"/>
          <a:stretch/>
        </p:blipFill>
        <p:spPr>
          <a:xfrm>
            <a:off x="4000680" y="3454560"/>
            <a:ext cx="583920" cy="21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9"/>
          <a:stretch/>
        </p:blipFill>
        <p:spPr>
          <a:xfrm>
            <a:off x="4000680" y="4000680"/>
            <a:ext cx="825120" cy="177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10"/>
          <a:stretch/>
        </p:blipFill>
        <p:spPr>
          <a:xfrm>
            <a:off x="5029200" y="3987720"/>
            <a:ext cx="3250800" cy="228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11"/>
          <a:stretch/>
        </p:blipFill>
        <p:spPr>
          <a:xfrm>
            <a:off x="4000680" y="4267080"/>
            <a:ext cx="2196720" cy="228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12"/>
          <a:stretch/>
        </p:blipFill>
        <p:spPr>
          <a:xfrm>
            <a:off x="6311880" y="4267080"/>
            <a:ext cx="1676160" cy="228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13"/>
          <a:stretch/>
        </p:blipFill>
        <p:spPr>
          <a:xfrm>
            <a:off x="4000680" y="4546440"/>
            <a:ext cx="3924000" cy="21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14"/>
          <a:stretch/>
        </p:blipFill>
        <p:spPr>
          <a:xfrm>
            <a:off x="4000680" y="4813200"/>
            <a:ext cx="2806200" cy="215640"/>
          </a:xfrm>
          <a:prstGeom prst="rect">
            <a:avLst/>
          </a:prstGeom>
          <a:ln w="0">
            <a:noFill/>
          </a:ln>
        </p:spPr>
      </p:pic>
      <p:sp>
        <p:nvSpPr>
          <p:cNvPr id="147" name="矩形 26">
            <a:hlinkClick r:id="rId15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4870440" y="395388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79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79"/>
                  <a:pt x="111404" y="16179"/>
                </a:cubicBezTo>
                <a:lnTo>
                  <a:pt x="4127" y="16179"/>
                </a:lnTo>
                <a:cubicBezTo>
                  <a:pt x="2730" y="16179"/>
                  <a:pt x="1676" y="15570"/>
                  <a:pt x="1003" y="14223"/>
                </a:cubicBezTo>
                <a:cubicBezTo>
                  <a:pt x="330" y="12941"/>
                  <a:pt x="0" y="10871"/>
                  <a:pt x="0" y="8026"/>
                </a:cubicBezTo>
                <a:cubicBezTo>
                  <a:pt x="0" y="5295"/>
                  <a:pt x="330" y="3289"/>
                  <a:pt x="1003" y="1943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25"/>
                  <a:pt x="114249" y="1282"/>
                  <a:pt x="114579" y="1943"/>
                </a:cubicBezTo>
                <a:cubicBezTo>
                  <a:pt x="114909" y="2565"/>
                  <a:pt x="115138" y="3403"/>
                  <a:pt x="115366" y="4407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73320" y="952560"/>
            <a:ext cx="2997000" cy="355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571680" y="2120760"/>
            <a:ext cx="2984040" cy="295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4000680" y="2209680"/>
            <a:ext cx="4508280" cy="21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3987720" y="2489040"/>
            <a:ext cx="4012920" cy="21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4000680" y="2755800"/>
            <a:ext cx="4431960" cy="228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6"/>
          <a:stretch/>
        </p:blipFill>
        <p:spPr>
          <a:xfrm>
            <a:off x="3987720" y="3035160"/>
            <a:ext cx="3835080" cy="215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7"/>
          <a:stretch/>
        </p:blipFill>
        <p:spPr>
          <a:xfrm>
            <a:off x="4000680" y="3301920"/>
            <a:ext cx="901440" cy="190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8"/>
          <a:stretch/>
        </p:blipFill>
        <p:spPr>
          <a:xfrm>
            <a:off x="4000680" y="3860640"/>
            <a:ext cx="825120" cy="177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9"/>
          <a:stretch/>
        </p:blipFill>
        <p:spPr>
          <a:xfrm>
            <a:off x="5092560" y="3860640"/>
            <a:ext cx="3466800" cy="21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10"/>
          <a:stretch/>
        </p:blipFill>
        <p:spPr>
          <a:xfrm>
            <a:off x="3987720" y="4127400"/>
            <a:ext cx="4114440" cy="228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11"/>
          <a:stretch/>
        </p:blipFill>
        <p:spPr>
          <a:xfrm>
            <a:off x="4000680" y="4406760"/>
            <a:ext cx="2565000" cy="215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12"/>
          <a:stretch/>
        </p:blipFill>
        <p:spPr>
          <a:xfrm>
            <a:off x="6667560" y="4406760"/>
            <a:ext cx="1854000" cy="21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13"/>
          <a:stretch/>
        </p:blipFill>
        <p:spPr>
          <a:xfrm>
            <a:off x="4000680" y="4673520"/>
            <a:ext cx="4292280" cy="228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14"/>
          <a:stretch/>
        </p:blipFill>
        <p:spPr>
          <a:xfrm>
            <a:off x="4000680" y="4952880"/>
            <a:ext cx="2984040" cy="190080"/>
          </a:xfrm>
          <a:prstGeom prst="rect">
            <a:avLst/>
          </a:prstGeom>
          <a:ln w="0">
            <a:noFill/>
          </a:ln>
        </p:spPr>
      </p:pic>
      <p:sp>
        <p:nvSpPr>
          <p:cNvPr id="171" name="矩形 24">
            <a:hlinkClick r:id="rId15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4870440" y="354204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80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80"/>
                  <a:pt x="111404" y="16180"/>
                </a:cubicBezTo>
                <a:lnTo>
                  <a:pt x="4127" y="16180"/>
                </a:lnTo>
                <a:cubicBezTo>
                  <a:pt x="2730" y="16180"/>
                  <a:pt x="1676" y="15570"/>
                  <a:pt x="1003" y="14223"/>
                </a:cubicBezTo>
                <a:cubicBezTo>
                  <a:pt x="330" y="12941"/>
                  <a:pt x="0" y="10883"/>
                  <a:pt x="0" y="8026"/>
                </a:cubicBezTo>
                <a:cubicBezTo>
                  <a:pt x="0" y="5295"/>
                  <a:pt x="330" y="3289"/>
                  <a:pt x="1003" y="1943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38"/>
                  <a:pt x="114249" y="1282"/>
                  <a:pt x="114579" y="1943"/>
                </a:cubicBezTo>
                <a:cubicBezTo>
                  <a:pt x="114909" y="2565"/>
                  <a:pt x="115138" y="3403"/>
                  <a:pt x="115366" y="4407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009960" y="952560"/>
            <a:ext cx="3200040" cy="355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533520" y="2108160"/>
            <a:ext cx="3034800" cy="300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4000680" y="2070000"/>
            <a:ext cx="4076280" cy="228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4"/>
          <a:stretch/>
        </p:blipFill>
        <p:spPr>
          <a:xfrm>
            <a:off x="4000680" y="2349360"/>
            <a:ext cx="3682800" cy="215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5"/>
          <a:stretch/>
        </p:blipFill>
        <p:spPr>
          <a:xfrm>
            <a:off x="4000680" y="2629080"/>
            <a:ext cx="1066320" cy="17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6"/>
          <a:stretch/>
        </p:blipFill>
        <p:spPr>
          <a:xfrm>
            <a:off x="5105520" y="2616120"/>
            <a:ext cx="2171520" cy="19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7"/>
          <a:stretch/>
        </p:blipFill>
        <p:spPr>
          <a:xfrm>
            <a:off x="4000680" y="2895480"/>
            <a:ext cx="1358640" cy="215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8"/>
          <a:stretch/>
        </p:blipFill>
        <p:spPr>
          <a:xfrm>
            <a:off x="4000680" y="3454560"/>
            <a:ext cx="825120" cy="177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9"/>
          <a:stretch/>
        </p:blipFill>
        <p:spPr>
          <a:xfrm>
            <a:off x="5029200" y="3441600"/>
            <a:ext cx="3644640" cy="228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10"/>
          <a:stretch/>
        </p:blipFill>
        <p:spPr>
          <a:xfrm>
            <a:off x="3987720" y="3720960"/>
            <a:ext cx="4559040" cy="21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11"/>
          <a:stretch/>
        </p:blipFill>
        <p:spPr>
          <a:xfrm>
            <a:off x="4000680" y="3987720"/>
            <a:ext cx="4203360" cy="228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12"/>
          <a:stretch/>
        </p:blipFill>
        <p:spPr>
          <a:xfrm>
            <a:off x="4000680" y="4267080"/>
            <a:ext cx="2196720" cy="228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13"/>
          <a:stretch/>
        </p:blipFill>
        <p:spPr>
          <a:xfrm>
            <a:off x="6299280" y="4267080"/>
            <a:ext cx="1980720" cy="228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14"/>
          <a:stretch/>
        </p:blipFill>
        <p:spPr>
          <a:xfrm>
            <a:off x="4000680" y="4546440"/>
            <a:ext cx="4571640" cy="21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15"/>
          <a:stretch/>
        </p:blipFill>
        <p:spPr>
          <a:xfrm>
            <a:off x="4000680" y="4813200"/>
            <a:ext cx="2526840" cy="228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16"/>
          <a:stretch/>
        </p:blipFill>
        <p:spPr>
          <a:xfrm>
            <a:off x="6578640" y="4813200"/>
            <a:ext cx="1434600" cy="19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17"/>
          <a:stretch/>
        </p:blipFill>
        <p:spPr>
          <a:xfrm>
            <a:off x="3987720" y="5092560"/>
            <a:ext cx="4304880" cy="215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27">
            <a:hlinkClick r:id="rId18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7985880" y="345096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28" h="26047">
                <a:moveTo>
                  <a:pt x="24027" y="12865"/>
                </a:moveTo>
                <a:cubicBezTo>
                  <a:pt x="24027" y="18110"/>
                  <a:pt x="23190" y="21640"/>
                  <a:pt x="21399" y="23418"/>
                </a:cubicBezTo>
                <a:cubicBezTo>
                  <a:pt x="19672" y="25158"/>
                  <a:pt x="16484" y="26047"/>
                  <a:pt x="11848" y="26047"/>
                </a:cubicBezTo>
                <a:cubicBezTo>
                  <a:pt x="7378" y="26047"/>
                  <a:pt x="4305" y="25209"/>
                  <a:pt x="2564" y="23482"/>
                </a:cubicBezTo>
                <a:cubicBezTo>
                  <a:pt x="889" y="21806"/>
                  <a:pt x="0" y="18338"/>
                  <a:pt x="0" y="13195"/>
                </a:cubicBezTo>
                <a:cubicBezTo>
                  <a:pt x="0" y="7937"/>
                  <a:pt x="837" y="4419"/>
                  <a:pt x="2628" y="2628"/>
                </a:cubicBezTo>
                <a:cubicBezTo>
                  <a:pt x="4356" y="901"/>
                  <a:pt x="7543" y="0"/>
                  <a:pt x="12179" y="0"/>
                </a:cubicBezTo>
                <a:cubicBezTo>
                  <a:pt x="16649" y="0"/>
                  <a:pt x="19722" y="851"/>
                  <a:pt x="21463" y="2578"/>
                </a:cubicBezTo>
                <a:cubicBezTo>
                  <a:pt x="23138" y="4254"/>
                  <a:pt x="24027" y="7721"/>
                  <a:pt x="24027" y="12865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4870440" y="395388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79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79"/>
                  <a:pt x="111404" y="16179"/>
                </a:cubicBezTo>
                <a:lnTo>
                  <a:pt x="4127" y="16179"/>
                </a:lnTo>
                <a:cubicBezTo>
                  <a:pt x="2730" y="16179"/>
                  <a:pt x="1676" y="15570"/>
                  <a:pt x="1003" y="14223"/>
                </a:cubicBezTo>
                <a:cubicBezTo>
                  <a:pt x="330" y="12941"/>
                  <a:pt x="0" y="10871"/>
                  <a:pt x="0" y="8026"/>
                </a:cubicBezTo>
                <a:cubicBezTo>
                  <a:pt x="0" y="5295"/>
                  <a:pt x="330" y="3289"/>
                  <a:pt x="1003" y="1943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25"/>
                  <a:pt x="114249" y="1282"/>
                  <a:pt x="114579" y="1943"/>
                </a:cubicBezTo>
                <a:cubicBezTo>
                  <a:pt x="114909" y="2565"/>
                  <a:pt x="115138" y="3403"/>
                  <a:pt x="115366" y="4407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82760" y="2108160"/>
            <a:ext cx="3072960" cy="2958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3962520" y="952560"/>
            <a:ext cx="1218960" cy="355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tretch/>
        </p:blipFill>
        <p:spPr>
          <a:xfrm>
            <a:off x="4000680" y="2209680"/>
            <a:ext cx="4482720" cy="215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4"/>
          <a:stretch/>
        </p:blipFill>
        <p:spPr>
          <a:xfrm>
            <a:off x="3987720" y="2489040"/>
            <a:ext cx="2057040" cy="215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5"/>
          <a:stretch/>
        </p:blipFill>
        <p:spPr>
          <a:xfrm>
            <a:off x="6159600" y="2489040"/>
            <a:ext cx="2285640" cy="21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6"/>
          <a:stretch/>
        </p:blipFill>
        <p:spPr>
          <a:xfrm>
            <a:off x="4000680" y="2755800"/>
            <a:ext cx="4609800" cy="228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7"/>
          <a:stretch/>
        </p:blipFill>
        <p:spPr>
          <a:xfrm>
            <a:off x="3987720" y="3035160"/>
            <a:ext cx="4165200" cy="21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8"/>
          <a:stretch/>
        </p:blipFill>
        <p:spPr>
          <a:xfrm>
            <a:off x="4000680" y="3301920"/>
            <a:ext cx="3962160" cy="228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9"/>
          <a:stretch/>
        </p:blipFill>
        <p:spPr>
          <a:xfrm>
            <a:off x="4000680" y="3860640"/>
            <a:ext cx="825120" cy="177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10"/>
          <a:stretch/>
        </p:blipFill>
        <p:spPr>
          <a:xfrm>
            <a:off x="5029200" y="3860640"/>
            <a:ext cx="3555720" cy="21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11"/>
          <a:stretch/>
        </p:blipFill>
        <p:spPr>
          <a:xfrm>
            <a:off x="4000680" y="4127400"/>
            <a:ext cx="3911400" cy="228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12"/>
          <a:stretch/>
        </p:blipFill>
        <p:spPr>
          <a:xfrm>
            <a:off x="8039160" y="4140360"/>
            <a:ext cx="45684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13"/>
          <a:stretch/>
        </p:blipFill>
        <p:spPr>
          <a:xfrm>
            <a:off x="3987720" y="4406760"/>
            <a:ext cx="4470120" cy="21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14"/>
          <a:stretch/>
        </p:blipFill>
        <p:spPr>
          <a:xfrm>
            <a:off x="3987720" y="4673520"/>
            <a:ext cx="4228920" cy="228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15"/>
          <a:stretch/>
        </p:blipFill>
        <p:spPr>
          <a:xfrm>
            <a:off x="4000680" y="5003640"/>
            <a:ext cx="748800" cy="139320"/>
          </a:xfrm>
          <a:prstGeom prst="rect">
            <a:avLst/>
          </a:prstGeom>
          <a:ln w="0">
            <a:noFill/>
          </a:ln>
        </p:spPr>
      </p:pic>
      <p:sp>
        <p:nvSpPr>
          <p:cNvPr id="224" name="矩形 26">
            <a:hlinkClick r:id="rId16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5104800" y="331380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28" h="26047">
                <a:moveTo>
                  <a:pt x="24028" y="12865"/>
                </a:moveTo>
                <a:cubicBezTo>
                  <a:pt x="24028" y="18110"/>
                  <a:pt x="23190" y="21640"/>
                  <a:pt x="21399" y="23418"/>
                </a:cubicBezTo>
                <a:cubicBezTo>
                  <a:pt x="19672" y="25158"/>
                  <a:pt x="16484" y="26047"/>
                  <a:pt x="11848" y="26047"/>
                </a:cubicBezTo>
                <a:cubicBezTo>
                  <a:pt x="7378" y="26047"/>
                  <a:pt x="4305" y="25209"/>
                  <a:pt x="2565" y="23482"/>
                </a:cubicBezTo>
                <a:cubicBezTo>
                  <a:pt x="888" y="21805"/>
                  <a:pt x="0" y="18338"/>
                  <a:pt x="0" y="13195"/>
                </a:cubicBezTo>
                <a:cubicBezTo>
                  <a:pt x="0" y="7937"/>
                  <a:pt x="837" y="4419"/>
                  <a:pt x="2628" y="2628"/>
                </a:cubicBezTo>
                <a:cubicBezTo>
                  <a:pt x="4355" y="901"/>
                  <a:pt x="7543" y="0"/>
                  <a:pt x="12179" y="0"/>
                </a:cubicBezTo>
                <a:cubicBezTo>
                  <a:pt x="16649" y="0"/>
                  <a:pt x="19722" y="837"/>
                  <a:pt x="21462" y="2578"/>
                </a:cubicBezTo>
                <a:cubicBezTo>
                  <a:pt x="23139" y="4254"/>
                  <a:pt x="24028" y="7721"/>
                  <a:pt x="24028" y="12865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4870440" y="381636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79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79"/>
                  <a:pt x="111404" y="16179"/>
                </a:cubicBezTo>
                <a:lnTo>
                  <a:pt x="4127" y="16179"/>
                </a:lnTo>
                <a:cubicBezTo>
                  <a:pt x="2730" y="16179"/>
                  <a:pt x="1676" y="15570"/>
                  <a:pt x="1003" y="14223"/>
                </a:cubicBezTo>
                <a:cubicBezTo>
                  <a:pt x="330" y="12941"/>
                  <a:pt x="0" y="10871"/>
                  <a:pt x="0" y="8026"/>
                </a:cubicBezTo>
                <a:cubicBezTo>
                  <a:pt x="0" y="5295"/>
                  <a:pt x="330" y="3289"/>
                  <a:pt x="1003" y="1942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25"/>
                  <a:pt x="114249" y="1282"/>
                  <a:pt x="114579" y="1942"/>
                </a:cubicBezTo>
                <a:cubicBezTo>
                  <a:pt x="114909" y="2565"/>
                  <a:pt x="115138" y="3403"/>
                  <a:pt x="115366" y="4406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622440" y="2082960"/>
            <a:ext cx="2908080" cy="30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3797280" y="952560"/>
            <a:ext cx="1561680" cy="355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4000680" y="2349360"/>
            <a:ext cx="4520880" cy="21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4"/>
          <a:stretch/>
        </p:blipFill>
        <p:spPr>
          <a:xfrm>
            <a:off x="4000680" y="2616120"/>
            <a:ext cx="4343040" cy="228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5"/>
          <a:stretch/>
        </p:blipFill>
        <p:spPr>
          <a:xfrm>
            <a:off x="4000680" y="2895480"/>
            <a:ext cx="4381200" cy="228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6"/>
          <a:stretch/>
        </p:blipFill>
        <p:spPr>
          <a:xfrm>
            <a:off x="4000680" y="3174840"/>
            <a:ext cx="1079280" cy="17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7"/>
          <a:stretch/>
        </p:blipFill>
        <p:spPr>
          <a:xfrm>
            <a:off x="4000680" y="3733920"/>
            <a:ext cx="825120" cy="164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8"/>
          <a:stretch/>
        </p:blipFill>
        <p:spPr>
          <a:xfrm>
            <a:off x="5041800" y="3720960"/>
            <a:ext cx="2666520" cy="21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9"/>
          <a:stretch/>
        </p:blipFill>
        <p:spPr>
          <a:xfrm>
            <a:off x="4000680" y="3987720"/>
            <a:ext cx="1066320" cy="190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10"/>
          <a:stretch/>
        </p:blipFill>
        <p:spPr>
          <a:xfrm>
            <a:off x="5194440" y="4000680"/>
            <a:ext cx="2971440" cy="215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11"/>
          <a:stretch/>
        </p:blipFill>
        <p:spPr>
          <a:xfrm>
            <a:off x="4000680" y="4267080"/>
            <a:ext cx="3022200" cy="228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12"/>
          <a:stretch/>
        </p:blipFill>
        <p:spPr>
          <a:xfrm>
            <a:off x="7074000" y="4267080"/>
            <a:ext cx="317160" cy="190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13"/>
          <a:stretch/>
        </p:blipFill>
        <p:spPr>
          <a:xfrm>
            <a:off x="7429680" y="4267080"/>
            <a:ext cx="786960" cy="21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14"/>
          <a:stretch/>
        </p:blipFill>
        <p:spPr>
          <a:xfrm>
            <a:off x="4000680" y="4546440"/>
            <a:ext cx="3860280" cy="215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15"/>
          <a:stretch/>
        </p:blipFill>
        <p:spPr>
          <a:xfrm>
            <a:off x="4000680" y="4863960"/>
            <a:ext cx="850680" cy="177480"/>
          </a:xfrm>
          <a:prstGeom prst="rect">
            <a:avLst/>
          </a:prstGeom>
          <a:ln w="0">
            <a:noFill/>
          </a:ln>
        </p:spPr>
      </p:pic>
      <p:sp>
        <p:nvSpPr>
          <p:cNvPr id="250" name="矩形 26">
            <a:hlinkClick r:id="rId16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9360" y="6467400"/>
            <a:ext cx="6251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7"/>
              </a:rPr>
              <a:t>商务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8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9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7180200" y="331380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27" h="26047">
                <a:moveTo>
                  <a:pt x="24027" y="12865"/>
                </a:moveTo>
                <a:cubicBezTo>
                  <a:pt x="24027" y="18110"/>
                  <a:pt x="23190" y="21640"/>
                  <a:pt x="21399" y="23418"/>
                </a:cubicBezTo>
                <a:cubicBezTo>
                  <a:pt x="19671" y="25158"/>
                  <a:pt x="16484" y="26047"/>
                  <a:pt x="11848" y="26047"/>
                </a:cubicBezTo>
                <a:cubicBezTo>
                  <a:pt x="7378" y="26047"/>
                  <a:pt x="4305" y="25209"/>
                  <a:pt x="2564" y="23482"/>
                </a:cubicBezTo>
                <a:cubicBezTo>
                  <a:pt x="888" y="21805"/>
                  <a:pt x="0" y="18338"/>
                  <a:pt x="0" y="13195"/>
                </a:cubicBezTo>
                <a:cubicBezTo>
                  <a:pt x="0" y="7937"/>
                  <a:pt x="837" y="4419"/>
                  <a:pt x="2628" y="2628"/>
                </a:cubicBezTo>
                <a:cubicBezTo>
                  <a:pt x="4355" y="901"/>
                  <a:pt x="7543" y="0"/>
                  <a:pt x="12179" y="0"/>
                </a:cubicBezTo>
                <a:cubicBezTo>
                  <a:pt x="16649" y="0"/>
                  <a:pt x="19722" y="837"/>
                  <a:pt x="21462" y="2578"/>
                </a:cubicBezTo>
                <a:cubicBezTo>
                  <a:pt x="23138" y="4254"/>
                  <a:pt x="24027" y="7721"/>
                  <a:pt x="24027" y="12865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4870440" y="381636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79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79"/>
                  <a:pt x="111404" y="16179"/>
                </a:cubicBezTo>
                <a:lnTo>
                  <a:pt x="4127" y="16179"/>
                </a:lnTo>
                <a:cubicBezTo>
                  <a:pt x="2730" y="16179"/>
                  <a:pt x="1676" y="15570"/>
                  <a:pt x="1003" y="14223"/>
                </a:cubicBezTo>
                <a:cubicBezTo>
                  <a:pt x="330" y="12941"/>
                  <a:pt x="0" y="10871"/>
                  <a:pt x="0" y="8026"/>
                </a:cubicBezTo>
                <a:cubicBezTo>
                  <a:pt x="0" y="5295"/>
                  <a:pt x="330" y="3289"/>
                  <a:pt x="1003" y="1942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25"/>
                  <a:pt x="114249" y="1282"/>
                  <a:pt x="114579" y="1942"/>
                </a:cubicBezTo>
                <a:cubicBezTo>
                  <a:pt x="114909" y="2565"/>
                  <a:pt x="115138" y="3403"/>
                  <a:pt x="115366" y="4406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292160" y="491400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5" h="16180">
                <a:moveTo>
                  <a:pt x="115645" y="8026"/>
                </a:moveTo>
                <a:cubicBezTo>
                  <a:pt x="115645" y="10820"/>
                  <a:pt x="115303" y="12890"/>
                  <a:pt x="114579" y="14223"/>
                </a:cubicBezTo>
                <a:cubicBezTo>
                  <a:pt x="113906" y="15506"/>
                  <a:pt x="112852" y="16180"/>
                  <a:pt x="111404" y="16180"/>
                </a:cubicBezTo>
                <a:lnTo>
                  <a:pt x="4127" y="16180"/>
                </a:lnTo>
                <a:cubicBezTo>
                  <a:pt x="2743" y="16180"/>
                  <a:pt x="1675" y="15570"/>
                  <a:pt x="1003" y="14223"/>
                </a:cubicBezTo>
                <a:cubicBezTo>
                  <a:pt x="342" y="12941"/>
                  <a:pt x="0" y="10883"/>
                  <a:pt x="0" y="8026"/>
                </a:cubicBezTo>
                <a:cubicBezTo>
                  <a:pt x="0" y="5295"/>
                  <a:pt x="342" y="3289"/>
                  <a:pt x="1003" y="1943"/>
                </a:cubicBezTo>
                <a:cubicBezTo>
                  <a:pt x="1675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6" y="165"/>
                  <a:pt x="113245" y="495"/>
                </a:cubicBezTo>
                <a:cubicBezTo>
                  <a:pt x="113804" y="825"/>
                  <a:pt x="114248" y="1282"/>
                  <a:pt x="114579" y="1943"/>
                </a:cubicBezTo>
                <a:cubicBezTo>
                  <a:pt x="114922" y="2565"/>
                  <a:pt x="115137" y="3403"/>
                  <a:pt x="115366" y="4407"/>
                </a:cubicBezTo>
                <a:cubicBezTo>
                  <a:pt x="115531" y="5410"/>
                  <a:pt x="115645" y="6578"/>
                  <a:pt x="115645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4255920" y="973440"/>
            <a:ext cx="132840" cy="319680"/>
          </a:xfrm>
          <a:custGeom>
            <a:avLst/>
            <a:gdLst>
              <a:gd name="textAreaLeft" fmla="*/ 0 w 132840"/>
              <a:gd name="textAreaRight" fmla="*/ 133200 w 132840"/>
              <a:gd name="textAreaTop" fmla="*/ 0 h 319680"/>
              <a:gd name="textAreaBottom" fmla="*/ 320040 h 319680"/>
            </a:gdLst>
            <a:ahLst/>
            <a:rect l="textAreaLeft" t="textAreaTop" r="textAreaRight" b="textAreaBottom"/>
            <a:pathLst>
              <a:path w="133057" h="320014">
                <a:moveTo>
                  <a:pt x="0" y="0"/>
                </a:moveTo>
                <a:lnTo>
                  <a:pt x="50228" y="0"/>
                </a:lnTo>
                <a:lnTo>
                  <a:pt x="50228" y="274243"/>
                </a:lnTo>
                <a:lnTo>
                  <a:pt x="133057" y="274243"/>
                </a:lnTo>
                <a:lnTo>
                  <a:pt x="133057" y="320014"/>
                </a:lnTo>
                <a:lnTo>
                  <a:pt x="0" y="320014"/>
                </a:lnTo>
                <a:lnTo>
                  <a:pt x="0" y="0"/>
                </a:lnTo>
              </a:path>
            </a:pathLst>
          </a:custGeom>
          <a:solidFill>
            <a:srgbClr val="ed5b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411080" y="973440"/>
            <a:ext cx="136800" cy="319680"/>
          </a:xfrm>
          <a:custGeom>
            <a:avLst/>
            <a:gdLst>
              <a:gd name="textAreaLeft" fmla="*/ 0 w 136800"/>
              <a:gd name="textAreaRight" fmla="*/ 137160 w 136800"/>
              <a:gd name="textAreaTop" fmla="*/ 0 h 319680"/>
              <a:gd name="textAreaBottom" fmla="*/ 320040 h 319680"/>
            </a:gdLst>
            <a:ahLst/>
            <a:rect l="textAreaLeft" t="textAreaTop" r="textAreaRight" b="textAreaBottom"/>
            <a:pathLst>
              <a:path w="137185" h="320014">
                <a:moveTo>
                  <a:pt x="50241" y="134835"/>
                </a:moveTo>
                <a:lnTo>
                  <a:pt x="119329" y="134835"/>
                </a:lnTo>
                <a:lnTo>
                  <a:pt x="119329" y="180594"/>
                </a:lnTo>
                <a:lnTo>
                  <a:pt x="50241" y="180594"/>
                </a:lnTo>
                <a:lnTo>
                  <a:pt x="50241" y="274243"/>
                </a:lnTo>
                <a:lnTo>
                  <a:pt x="137185" y="274243"/>
                </a:lnTo>
                <a:lnTo>
                  <a:pt x="137185" y="320014"/>
                </a:lnTo>
                <a:lnTo>
                  <a:pt x="0" y="320014"/>
                </a:lnTo>
                <a:lnTo>
                  <a:pt x="0" y="0"/>
                </a:lnTo>
                <a:lnTo>
                  <a:pt x="137185" y="0"/>
                </a:lnTo>
                <a:lnTo>
                  <a:pt x="137185" y="45643"/>
                </a:lnTo>
                <a:lnTo>
                  <a:pt x="50241" y="45643"/>
                </a:lnTo>
                <a:lnTo>
                  <a:pt x="50241" y="134835"/>
                </a:lnTo>
              </a:path>
            </a:pathLst>
          </a:custGeom>
          <a:solidFill>
            <a:srgbClr val="ed5b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4575240" y="969840"/>
            <a:ext cx="149400" cy="326880"/>
          </a:xfrm>
          <a:custGeom>
            <a:avLst/>
            <a:gdLst>
              <a:gd name="textAreaLeft" fmla="*/ 0 w 149400"/>
              <a:gd name="textAreaRight" fmla="*/ 149760 w 14940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49911" h="327380">
                <a:moveTo>
                  <a:pt x="79591" y="145440"/>
                </a:moveTo>
                <a:lnTo>
                  <a:pt x="149911" y="145440"/>
                </a:lnTo>
                <a:lnTo>
                  <a:pt x="149911" y="246900"/>
                </a:lnTo>
                <a:cubicBezTo>
                  <a:pt x="149911" y="272796"/>
                  <a:pt x="143662" y="292671"/>
                  <a:pt x="130937" y="306616"/>
                </a:cubicBezTo>
                <a:cubicBezTo>
                  <a:pt x="118326" y="320459"/>
                  <a:pt x="99682" y="327380"/>
                  <a:pt x="75006" y="327380"/>
                </a:cubicBezTo>
                <a:cubicBezTo>
                  <a:pt x="50343" y="327380"/>
                  <a:pt x="31699" y="320459"/>
                  <a:pt x="18974" y="306616"/>
                </a:cubicBezTo>
                <a:cubicBezTo>
                  <a:pt x="6362" y="292773"/>
                  <a:pt x="0" y="272796"/>
                  <a:pt x="0" y="246900"/>
                </a:cubicBezTo>
                <a:lnTo>
                  <a:pt x="0" y="80479"/>
                </a:lnTo>
                <a:cubicBezTo>
                  <a:pt x="0" y="54584"/>
                  <a:pt x="6248" y="34709"/>
                  <a:pt x="18974" y="20866"/>
                </a:cubicBezTo>
                <a:cubicBezTo>
                  <a:pt x="31597" y="7023"/>
                  <a:pt x="50228" y="0"/>
                  <a:pt x="75006" y="0"/>
                </a:cubicBezTo>
                <a:cubicBezTo>
                  <a:pt x="99568" y="0"/>
                  <a:pt x="118211" y="6921"/>
                  <a:pt x="130937" y="20866"/>
                </a:cubicBezTo>
                <a:cubicBezTo>
                  <a:pt x="143548" y="34709"/>
                  <a:pt x="149911" y="54584"/>
                  <a:pt x="149911" y="80479"/>
                </a:cubicBezTo>
                <a:lnTo>
                  <a:pt x="149911" y="111505"/>
                </a:lnTo>
                <a:lnTo>
                  <a:pt x="102362" y="111505"/>
                </a:lnTo>
                <a:lnTo>
                  <a:pt x="102362" y="77241"/>
                </a:lnTo>
                <a:cubicBezTo>
                  <a:pt x="102362" y="65735"/>
                  <a:pt x="100012" y="57594"/>
                  <a:pt x="95326" y="52908"/>
                </a:cubicBezTo>
                <a:cubicBezTo>
                  <a:pt x="90640" y="48221"/>
                  <a:pt x="84391" y="45758"/>
                  <a:pt x="76352" y="45758"/>
                </a:cubicBezTo>
                <a:cubicBezTo>
                  <a:pt x="68541" y="45758"/>
                  <a:pt x="62179" y="48107"/>
                  <a:pt x="57378" y="52908"/>
                </a:cubicBezTo>
                <a:cubicBezTo>
                  <a:pt x="52692" y="57594"/>
                  <a:pt x="50343" y="65633"/>
                  <a:pt x="50343" y="77241"/>
                </a:cubicBezTo>
                <a:lnTo>
                  <a:pt x="50343" y="250139"/>
                </a:lnTo>
                <a:cubicBezTo>
                  <a:pt x="50343" y="261632"/>
                  <a:pt x="52692" y="269671"/>
                  <a:pt x="57378" y="274358"/>
                </a:cubicBezTo>
                <a:cubicBezTo>
                  <a:pt x="62065" y="278828"/>
                  <a:pt x="68427" y="281165"/>
                  <a:pt x="76352" y="281165"/>
                </a:cubicBezTo>
                <a:cubicBezTo>
                  <a:pt x="84277" y="281165"/>
                  <a:pt x="90640" y="278942"/>
                  <a:pt x="95326" y="274358"/>
                </a:cubicBezTo>
                <a:cubicBezTo>
                  <a:pt x="100012" y="269786"/>
                  <a:pt x="102362" y="261747"/>
                  <a:pt x="102362" y="250139"/>
                </a:cubicBezTo>
                <a:lnTo>
                  <a:pt x="102362" y="191096"/>
                </a:lnTo>
                <a:lnTo>
                  <a:pt x="79591" y="191096"/>
                </a:lnTo>
                <a:lnTo>
                  <a:pt x="79591" y="145440"/>
                </a:lnTo>
              </a:path>
            </a:pathLst>
          </a:custGeom>
          <a:solidFill>
            <a:srgbClr val="ed5b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4749840" y="969840"/>
            <a:ext cx="149760" cy="326880"/>
          </a:xfrm>
          <a:custGeom>
            <a:avLst/>
            <a:gdLst>
              <a:gd name="textAreaLeft" fmla="*/ 0 w 149760"/>
              <a:gd name="textAreaRight" fmla="*/ 150120 w 14976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0024" h="327380">
                <a:moveTo>
                  <a:pt x="1346" y="80479"/>
                </a:moveTo>
                <a:cubicBezTo>
                  <a:pt x="1346" y="54584"/>
                  <a:pt x="7480" y="34709"/>
                  <a:pt x="19875" y="20866"/>
                </a:cubicBezTo>
                <a:cubicBezTo>
                  <a:pt x="32143" y="7023"/>
                  <a:pt x="50673" y="0"/>
                  <a:pt x="75463" y="0"/>
                </a:cubicBezTo>
                <a:cubicBezTo>
                  <a:pt x="100126" y="0"/>
                  <a:pt x="118656" y="6921"/>
                  <a:pt x="131051" y="20866"/>
                </a:cubicBezTo>
                <a:cubicBezTo>
                  <a:pt x="143319" y="34709"/>
                  <a:pt x="149580" y="54584"/>
                  <a:pt x="149580" y="80479"/>
                </a:cubicBezTo>
                <a:lnTo>
                  <a:pt x="149580" y="90525"/>
                </a:lnTo>
                <a:lnTo>
                  <a:pt x="102019" y="90525"/>
                </a:lnTo>
                <a:lnTo>
                  <a:pt x="102019" y="77241"/>
                </a:lnTo>
                <a:cubicBezTo>
                  <a:pt x="102019" y="65735"/>
                  <a:pt x="99796" y="57594"/>
                  <a:pt x="95326" y="52908"/>
                </a:cubicBezTo>
                <a:cubicBezTo>
                  <a:pt x="90970" y="48221"/>
                  <a:pt x="84836" y="45758"/>
                  <a:pt x="76797" y="45758"/>
                </a:cubicBezTo>
                <a:cubicBezTo>
                  <a:pt x="68986" y="45758"/>
                  <a:pt x="62738" y="48107"/>
                  <a:pt x="58267" y="52908"/>
                </a:cubicBezTo>
                <a:cubicBezTo>
                  <a:pt x="53911" y="57594"/>
                  <a:pt x="51689" y="65633"/>
                  <a:pt x="51689" y="77241"/>
                </a:cubicBezTo>
                <a:cubicBezTo>
                  <a:pt x="51689" y="88176"/>
                  <a:pt x="54026" y="97891"/>
                  <a:pt x="58940" y="106375"/>
                </a:cubicBezTo>
                <a:cubicBezTo>
                  <a:pt x="63855" y="114630"/>
                  <a:pt x="69875" y="122555"/>
                  <a:pt x="77241" y="130149"/>
                </a:cubicBezTo>
                <a:cubicBezTo>
                  <a:pt x="84607" y="137515"/>
                  <a:pt x="92430" y="144995"/>
                  <a:pt x="100800" y="152476"/>
                </a:cubicBezTo>
                <a:cubicBezTo>
                  <a:pt x="109169" y="159842"/>
                  <a:pt x="116980" y="167982"/>
                  <a:pt x="124345" y="176911"/>
                </a:cubicBezTo>
                <a:cubicBezTo>
                  <a:pt x="131711" y="185737"/>
                  <a:pt x="137744" y="195783"/>
                  <a:pt x="142659" y="207162"/>
                </a:cubicBezTo>
                <a:cubicBezTo>
                  <a:pt x="147561" y="218325"/>
                  <a:pt x="150025" y="231609"/>
                  <a:pt x="150025" y="246900"/>
                </a:cubicBezTo>
                <a:cubicBezTo>
                  <a:pt x="150025" y="272796"/>
                  <a:pt x="143764" y="292671"/>
                  <a:pt x="131051" y="306616"/>
                </a:cubicBezTo>
                <a:cubicBezTo>
                  <a:pt x="118427" y="320459"/>
                  <a:pt x="99796" y="327380"/>
                  <a:pt x="75006" y="327380"/>
                </a:cubicBezTo>
                <a:cubicBezTo>
                  <a:pt x="50343" y="327380"/>
                  <a:pt x="31699" y="320459"/>
                  <a:pt x="18974" y="306616"/>
                </a:cubicBezTo>
                <a:cubicBezTo>
                  <a:pt x="6362" y="292773"/>
                  <a:pt x="0" y="272796"/>
                  <a:pt x="0" y="246900"/>
                </a:cubicBezTo>
                <a:lnTo>
                  <a:pt x="0" y="227253"/>
                </a:lnTo>
                <a:lnTo>
                  <a:pt x="47549" y="227253"/>
                </a:lnTo>
                <a:lnTo>
                  <a:pt x="47549" y="250139"/>
                </a:lnTo>
                <a:cubicBezTo>
                  <a:pt x="47549" y="261632"/>
                  <a:pt x="49898" y="269671"/>
                  <a:pt x="54584" y="274358"/>
                </a:cubicBezTo>
                <a:cubicBezTo>
                  <a:pt x="59271" y="278828"/>
                  <a:pt x="65633" y="281165"/>
                  <a:pt x="73673" y="281165"/>
                </a:cubicBezTo>
                <a:cubicBezTo>
                  <a:pt x="81483" y="281165"/>
                  <a:pt x="87846" y="278942"/>
                  <a:pt x="92532" y="274358"/>
                </a:cubicBezTo>
                <a:cubicBezTo>
                  <a:pt x="97218" y="269786"/>
                  <a:pt x="99682" y="261747"/>
                  <a:pt x="99682" y="250139"/>
                </a:cubicBezTo>
                <a:cubicBezTo>
                  <a:pt x="99682" y="239204"/>
                  <a:pt x="97218" y="229488"/>
                  <a:pt x="92316" y="221119"/>
                </a:cubicBezTo>
                <a:cubicBezTo>
                  <a:pt x="87515" y="212750"/>
                  <a:pt x="81369" y="204825"/>
                  <a:pt x="74003" y="197345"/>
                </a:cubicBezTo>
                <a:cubicBezTo>
                  <a:pt x="66751" y="189864"/>
                  <a:pt x="58940" y="182384"/>
                  <a:pt x="50457" y="174904"/>
                </a:cubicBezTo>
                <a:cubicBezTo>
                  <a:pt x="42189" y="167424"/>
                  <a:pt x="34378" y="159283"/>
                  <a:pt x="27013" y="150456"/>
                </a:cubicBezTo>
                <a:cubicBezTo>
                  <a:pt x="19761" y="141643"/>
                  <a:pt x="13614" y="131597"/>
                  <a:pt x="8712" y="120319"/>
                </a:cubicBezTo>
                <a:cubicBezTo>
                  <a:pt x="3797" y="109054"/>
                  <a:pt x="1346" y="95770"/>
                  <a:pt x="1346" y="80479"/>
                </a:cubicBezTo>
              </a:path>
            </a:pathLst>
          </a:custGeom>
          <a:solidFill>
            <a:srgbClr val="ed5b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82760" y="2082960"/>
            <a:ext cx="3072960" cy="3034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4000680" y="1803240"/>
            <a:ext cx="4647960" cy="215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3987720" y="2070000"/>
            <a:ext cx="4635000" cy="228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4"/>
          <a:stretch/>
        </p:blipFill>
        <p:spPr>
          <a:xfrm>
            <a:off x="3987720" y="2349360"/>
            <a:ext cx="2755440" cy="215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5"/>
          <a:stretch/>
        </p:blipFill>
        <p:spPr>
          <a:xfrm>
            <a:off x="6858000" y="2349360"/>
            <a:ext cx="1802880" cy="215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4000680" y="2616120"/>
            <a:ext cx="4177800" cy="228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7"/>
          <a:stretch/>
        </p:blipFill>
        <p:spPr>
          <a:xfrm>
            <a:off x="4000680" y="2895480"/>
            <a:ext cx="4292280" cy="228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8"/>
          <a:stretch/>
        </p:blipFill>
        <p:spPr>
          <a:xfrm>
            <a:off x="3987720" y="3174840"/>
            <a:ext cx="3174480" cy="215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9"/>
          <a:stretch/>
        </p:blipFill>
        <p:spPr>
          <a:xfrm>
            <a:off x="4000680" y="3733920"/>
            <a:ext cx="825120" cy="164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10"/>
          <a:stretch/>
        </p:blipFill>
        <p:spPr>
          <a:xfrm>
            <a:off x="5029200" y="3720960"/>
            <a:ext cx="3543120" cy="21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11"/>
          <a:stretch/>
        </p:blipFill>
        <p:spPr>
          <a:xfrm>
            <a:off x="4000680" y="3987720"/>
            <a:ext cx="3746160" cy="21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12"/>
          <a:stretch/>
        </p:blipFill>
        <p:spPr>
          <a:xfrm>
            <a:off x="4000680" y="4267080"/>
            <a:ext cx="3835080" cy="190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13"/>
          <a:stretch/>
        </p:blipFill>
        <p:spPr>
          <a:xfrm>
            <a:off x="7950240" y="4267080"/>
            <a:ext cx="507600" cy="190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14"/>
          <a:stretch/>
        </p:blipFill>
        <p:spPr>
          <a:xfrm>
            <a:off x="4000680" y="4546440"/>
            <a:ext cx="4101840" cy="215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15"/>
          <a:stretch/>
        </p:blipFill>
        <p:spPr>
          <a:xfrm>
            <a:off x="4000680" y="4813200"/>
            <a:ext cx="3238200" cy="228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16"/>
          <a:stretch/>
        </p:blipFill>
        <p:spPr>
          <a:xfrm>
            <a:off x="7467480" y="4813200"/>
            <a:ext cx="1041120" cy="19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17"/>
          <a:stretch/>
        </p:blipFill>
        <p:spPr>
          <a:xfrm>
            <a:off x="4000680" y="5092560"/>
            <a:ext cx="4368600" cy="21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18"/>
          <a:stretch/>
        </p:blipFill>
        <p:spPr>
          <a:xfrm>
            <a:off x="3987720" y="5372280"/>
            <a:ext cx="2565000" cy="215640"/>
          </a:xfrm>
          <a:prstGeom prst="rect">
            <a:avLst/>
          </a:prstGeom>
          <a:ln w="0">
            <a:noFill/>
          </a:ln>
        </p:spPr>
      </p:pic>
      <p:sp>
        <p:nvSpPr>
          <p:cNvPr id="285" name="矩形 34">
            <a:hlinkClick r:id="rId19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4110480" y="4011120"/>
            <a:ext cx="102600" cy="14040"/>
          </a:xfrm>
          <a:custGeom>
            <a:avLst/>
            <a:gdLst>
              <a:gd name="textAreaLeft" fmla="*/ 0 w 102600"/>
              <a:gd name="textAreaRight" fmla="*/ 102960 w 1026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02793" h="14376">
                <a:moveTo>
                  <a:pt x="102793" y="7137"/>
                </a:moveTo>
                <a:cubicBezTo>
                  <a:pt x="102793" y="9613"/>
                  <a:pt x="102488" y="11455"/>
                  <a:pt x="101841" y="12649"/>
                </a:cubicBezTo>
                <a:cubicBezTo>
                  <a:pt x="101256" y="13792"/>
                  <a:pt x="100304" y="14376"/>
                  <a:pt x="99021" y="14376"/>
                </a:cubicBezTo>
                <a:lnTo>
                  <a:pt x="3670" y="14376"/>
                </a:lnTo>
                <a:cubicBezTo>
                  <a:pt x="2425" y="14376"/>
                  <a:pt x="1485" y="13830"/>
                  <a:pt x="888" y="12649"/>
                </a:cubicBezTo>
                <a:cubicBezTo>
                  <a:pt x="291" y="11506"/>
                  <a:pt x="0" y="9664"/>
                  <a:pt x="0" y="7137"/>
                </a:cubicBezTo>
                <a:cubicBezTo>
                  <a:pt x="0" y="4711"/>
                  <a:pt x="291" y="2921"/>
                  <a:pt x="888" y="1727"/>
                </a:cubicBezTo>
                <a:cubicBezTo>
                  <a:pt x="1485" y="584"/>
                  <a:pt x="2374" y="0"/>
                  <a:pt x="3670" y="0"/>
                </a:cubicBezTo>
                <a:lnTo>
                  <a:pt x="99021" y="0"/>
                </a:lnTo>
                <a:cubicBezTo>
                  <a:pt x="99618" y="0"/>
                  <a:pt x="100164" y="139"/>
                  <a:pt x="100660" y="444"/>
                </a:cubicBezTo>
                <a:cubicBezTo>
                  <a:pt x="101155" y="736"/>
                  <a:pt x="101549" y="1130"/>
                  <a:pt x="101841" y="1727"/>
                </a:cubicBezTo>
                <a:cubicBezTo>
                  <a:pt x="102146" y="2273"/>
                  <a:pt x="102336" y="3022"/>
                  <a:pt x="102539" y="3911"/>
                </a:cubicBezTo>
                <a:cubicBezTo>
                  <a:pt x="102692" y="4813"/>
                  <a:pt x="102793" y="5854"/>
                  <a:pt x="102793" y="713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0600" bIns="-30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2397960" y="4254840"/>
            <a:ext cx="102600" cy="14040"/>
          </a:xfrm>
          <a:custGeom>
            <a:avLst/>
            <a:gdLst>
              <a:gd name="textAreaLeft" fmla="*/ 0 w 102600"/>
              <a:gd name="textAreaRight" fmla="*/ 102960 w 1026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02946" h="14401">
                <a:moveTo>
                  <a:pt x="102946" y="7149"/>
                </a:moveTo>
                <a:cubicBezTo>
                  <a:pt x="102946" y="9638"/>
                  <a:pt x="102654" y="11480"/>
                  <a:pt x="102006" y="12661"/>
                </a:cubicBezTo>
                <a:cubicBezTo>
                  <a:pt x="101409" y="13804"/>
                  <a:pt x="100469" y="14401"/>
                  <a:pt x="99174" y="14401"/>
                </a:cubicBezTo>
                <a:lnTo>
                  <a:pt x="3670" y="14401"/>
                </a:lnTo>
                <a:cubicBezTo>
                  <a:pt x="2425" y="14401"/>
                  <a:pt x="1485" y="13855"/>
                  <a:pt x="888" y="12661"/>
                </a:cubicBezTo>
                <a:cubicBezTo>
                  <a:pt x="292" y="11518"/>
                  <a:pt x="0" y="9689"/>
                  <a:pt x="0" y="7149"/>
                </a:cubicBezTo>
                <a:cubicBezTo>
                  <a:pt x="0" y="4724"/>
                  <a:pt x="292" y="2933"/>
                  <a:pt x="888" y="1739"/>
                </a:cubicBezTo>
                <a:cubicBezTo>
                  <a:pt x="1485" y="596"/>
                  <a:pt x="2387" y="0"/>
                  <a:pt x="3670" y="0"/>
                </a:cubicBezTo>
                <a:lnTo>
                  <a:pt x="99174" y="0"/>
                </a:lnTo>
                <a:cubicBezTo>
                  <a:pt x="99771" y="0"/>
                  <a:pt x="100317" y="152"/>
                  <a:pt x="100812" y="444"/>
                </a:cubicBezTo>
                <a:cubicBezTo>
                  <a:pt x="101307" y="749"/>
                  <a:pt x="101701" y="1142"/>
                  <a:pt x="102006" y="1739"/>
                </a:cubicBezTo>
                <a:cubicBezTo>
                  <a:pt x="102298" y="2285"/>
                  <a:pt x="102501" y="3022"/>
                  <a:pt x="102704" y="3924"/>
                </a:cubicBezTo>
                <a:cubicBezTo>
                  <a:pt x="102844" y="4813"/>
                  <a:pt x="102946" y="5854"/>
                  <a:pt x="102946" y="714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0600" bIns="-30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0" y="5956200"/>
            <a:ext cx="9143640" cy="8884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888480"/>
              <a:gd name="textAreaBottom" fmla="*/ 888840 h 888480"/>
            </a:gdLst>
            <a:ahLst/>
            <a:rect l="textAreaLeft" t="textAreaTop" r="textAreaRight" b="textAreaBottom"/>
            <a:pathLst>
              <a:path w="9144000" h="889000">
                <a:moveTo>
                  <a:pt x="0" y="0"/>
                </a:moveTo>
                <a:lnTo>
                  <a:pt x="9144000" y="0"/>
                </a:lnTo>
                <a:lnTo>
                  <a:pt x="9144000" y="889000"/>
                </a:lnTo>
                <a:lnTo>
                  <a:pt x="0" y="889000"/>
                </a:lnTo>
                <a:lnTo>
                  <a:pt x="0" y="0"/>
                </a:lnTo>
              </a:path>
            </a:pathLst>
          </a:custGeom>
          <a:solidFill>
            <a:srgbClr val="0070c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1475640" y="255528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0070c0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75640" y="475236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0070c0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0" y="1320840"/>
            <a:ext cx="9143640" cy="228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1320840" y="2946240"/>
            <a:ext cx="6501960" cy="202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3"/>
          <a:stretch/>
        </p:blipFill>
        <p:spPr>
          <a:xfrm>
            <a:off x="1193760" y="3187800"/>
            <a:ext cx="6197400" cy="202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4"/>
          <a:stretch/>
        </p:blipFill>
        <p:spPr>
          <a:xfrm>
            <a:off x="7480440" y="3200400"/>
            <a:ext cx="482400" cy="190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5"/>
          <a:stretch/>
        </p:blipFill>
        <p:spPr>
          <a:xfrm>
            <a:off x="1219320" y="3429000"/>
            <a:ext cx="6692400" cy="202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6"/>
          <a:stretch/>
        </p:blipFill>
        <p:spPr>
          <a:xfrm>
            <a:off x="1104840" y="3683160"/>
            <a:ext cx="6946560" cy="190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7"/>
          <a:stretch/>
        </p:blipFill>
        <p:spPr>
          <a:xfrm>
            <a:off x="1206360" y="3924360"/>
            <a:ext cx="2857320" cy="202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8"/>
          <a:stretch/>
        </p:blipFill>
        <p:spPr>
          <a:xfrm>
            <a:off x="4254480" y="3924360"/>
            <a:ext cx="3682800" cy="202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9"/>
          <a:stretch/>
        </p:blipFill>
        <p:spPr>
          <a:xfrm>
            <a:off x="1308240" y="4165560"/>
            <a:ext cx="1041120" cy="20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10"/>
          <a:stretch/>
        </p:blipFill>
        <p:spPr>
          <a:xfrm>
            <a:off x="2540160" y="4165560"/>
            <a:ext cx="5283000" cy="202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11"/>
          <a:stretch/>
        </p:blipFill>
        <p:spPr>
          <a:xfrm>
            <a:off x="3733920" y="6159600"/>
            <a:ext cx="1739520" cy="520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12"/>
          <a:stretch/>
        </p:blipFill>
        <p:spPr>
          <a:xfrm>
            <a:off x="0" y="1320840"/>
            <a:ext cx="9143640" cy="5536800"/>
          </a:xfrm>
          <a:prstGeom prst="rect">
            <a:avLst/>
          </a:prstGeom>
          <a:ln w="0">
            <a:noFill/>
          </a:ln>
        </p:spPr>
      </p:pic>
      <p:sp>
        <p:nvSpPr>
          <p:cNvPr id="304" name="矩形 19">
            <a:hlinkClick r:id="rId13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  <Words>174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03T12:24:06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