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C9F7-5429-41E2-92E3-174E7D4B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6E75-65CF-4011-9DFE-6F6F9A7E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A3C2-A4D4-4E70-9ED9-3B6A4D60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5352-E5C2-4CF1-B741-410A8541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0000-B69B-4905-A130-0AA5E36F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749A-D744-42E2-AAAD-575A06F6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8228-8031-4202-9172-4D0CC546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D0E5-F68E-49E9-B7EA-92FFBF89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C563-3C69-48C2-B7BF-D9ADAA2E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F923-C26D-4351-B757-77CBB59A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FD0C-D63F-4BD8-BAFC-C6180286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204A-3042-4B23-88E2-AAD61067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BC19-4DE6-4993-BC07-00D6D4CE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8CE1-8A1B-4C93-889D-AD2BE1DC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8573-16CE-40F3-85CE-18668805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92B2-0131-4096-8F18-8C0A83A8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A751-B734-4740-A052-7BC49A34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FE3F-BC4F-4D9B-8617-BBFDFCE9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DA7-62C5-4EA8-814B-496C6AA8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262A-416D-4DC5-BE7A-FD1A9FA9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D067-74FC-4B6A-AA51-E69AAEF3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70F6-6053-4B8E-9153-FEB951BA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B436-FC83-4964-9F62-830F1744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48DB-7D10-447E-BE8C-5A09162B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B7F76C-D2E0-4E7B-99C4-DCDC5008F4C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C11CFF-9FA7-409C-9141-10CD6B7F2AE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a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任意多边形 3"/>
          <p:cNvSpPr/>
          <p:nvPr/>
        </p:nvSpPr>
        <p:spPr>
          <a:xfrm>
            <a:off x="0" y="4114800"/>
            <a:ext cx="12229920" cy="2742840"/>
          </a:xfrm>
          <a:custGeom>
            <a:avLst/>
            <a:gdLst>
              <a:gd name="textAreaLeft" fmla="*/ 0 w 12229920"/>
              <a:gd name="textAreaRight" fmla="*/ 12230280 w 12229920"/>
              <a:gd name="textAreaTop" fmla="*/ 0 h 2742840"/>
              <a:gd name="textAreaBottom" fmla="*/ 2743200 h 2742840"/>
            </a:gdLst>
            <a:ahLst/>
            <a:rect l="textAreaLeft" t="textAreaTop" r="textAreaRight" b="textAreaBottom"/>
            <a:pathLst>
              <a:path w="12230100" h="3018044">
                <a:moveTo>
                  <a:pt x="0" y="1227344"/>
                </a:moveTo>
                <a:cubicBezTo>
                  <a:pt x="2646362" y="573294"/>
                  <a:pt x="5292725" y="-80756"/>
                  <a:pt x="6819900" y="8144"/>
                </a:cubicBezTo>
                <a:cubicBezTo>
                  <a:pt x="8347075" y="97044"/>
                  <a:pt x="8261350" y="1643269"/>
                  <a:pt x="9163050" y="1760744"/>
                </a:cubicBezTo>
                <a:cubicBezTo>
                  <a:pt x="10064750" y="1878219"/>
                  <a:pt x="11147425" y="1295606"/>
                  <a:pt x="12230100" y="712994"/>
                </a:cubicBezTo>
                <a:lnTo>
                  <a:pt x="12230100" y="3018044"/>
                </a:lnTo>
                <a:lnTo>
                  <a:pt x="19050" y="3018044"/>
                </a:lnTo>
                <a:lnTo>
                  <a:pt x="0" y="1227344"/>
                </a:lnTo>
                <a:close/>
              </a:path>
            </a:pathLst>
          </a:custGeom>
          <a:solidFill>
            <a:srgbClr val="9ff6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任意多边形 1"/>
          <p:cNvSpPr/>
          <p:nvPr/>
        </p:nvSpPr>
        <p:spPr>
          <a:xfrm>
            <a:off x="-26280" y="4572000"/>
            <a:ext cx="12246480" cy="2418840"/>
          </a:xfrm>
          <a:custGeom>
            <a:avLst/>
            <a:gdLst>
              <a:gd name="textAreaLeft" fmla="*/ 0 w 12246480"/>
              <a:gd name="textAreaRight" fmla="*/ 12246840 w 12246480"/>
              <a:gd name="textAreaTop" fmla="*/ 0 h 2418840"/>
              <a:gd name="textAreaBottom" fmla="*/ 2419200 h 2418840"/>
            </a:gdLst>
            <a:ahLst/>
            <a:rect l="textAreaLeft" t="textAreaTop" r="textAreaRight" b="textAreaBottom"/>
            <a:pathLst>
              <a:path w="12246864" h="2743620">
                <a:moveTo>
                  <a:pt x="11775" y="962898"/>
                </a:moveTo>
                <a:cubicBezTo>
                  <a:pt x="1892962" y="319960"/>
                  <a:pt x="5399145" y="-156667"/>
                  <a:pt x="6874764" y="48045"/>
                </a:cubicBezTo>
                <a:cubicBezTo>
                  <a:pt x="8350383" y="252757"/>
                  <a:pt x="7970139" y="2080045"/>
                  <a:pt x="8865489" y="2191170"/>
                </a:cubicBezTo>
                <a:cubicBezTo>
                  <a:pt x="9760839" y="2302295"/>
                  <a:pt x="11651552" y="814808"/>
                  <a:pt x="12246864" y="714795"/>
                </a:cubicBezTo>
                <a:lnTo>
                  <a:pt x="12246864" y="2743620"/>
                </a:lnTo>
                <a:lnTo>
                  <a:pt x="0" y="2686470"/>
                </a:lnTo>
                <a:lnTo>
                  <a:pt x="11775" y="962898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任意多边形 4"/>
          <p:cNvSpPr/>
          <p:nvPr/>
        </p:nvSpPr>
        <p:spPr>
          <a:xfrm>
            <a:off x="-26280" y="3981600"/>
            <a:ext cx="12256200" cy="2126160"/>
          </a:xfrm>
          <a:custGeom>
            <a:avLst/>
            <a:gdLst>
              <a:gd name="textAreaLeft" fmla="*/ 0 w 12256200"/>
              <a:gd name="textAreaRight" fmla="*/ 12256560 w 12256200"/>
              <a:gd name="textAreaTop" fmla="*/ 0 h 2126160"/>
              <a:gd name="textAreaBottom" fmla="*/ 2126520 h 2126160"/>
            </a:gdLst>
            <a:ahLst/>
            <a:rect l="textAreaLeft" t="textAreaTop" r="textAreaRight" b="textAreaBottom"/>
            <a:pathLst>
              <a:path w="12192000" h="2552255">
                <a:moveTo>
                  <a:pt x="0" y="1073438"/>
                </a:moveTo>
                <a:cubicBezTo>
                  <a:pt x="2154237" y="303500"/>
                  <a:pt x="5178425" y="-180687"/>
                  <a:pt x="6667500" y="63788"/>
                </a:cubicBezTo>
                <a:cubicBezTo>
                  <a:pt x="8156575" y="308263"/>
                  <a:pt x="8013700" y="2413288"/>
                  <a:pt x="8934450" y="2540288"/>
                </a:cubicBezTo>
                <a:cubicBezTo>
                  <a:pt x="9855200" y="2667288"/>
                  <a:pt x="11101387" y="1762413"/>
                  <a:pt x="12192000" y="825788"/>
                </a:cubicBezTo>
              </a:path>
            </a:pathLst>
          </a:cu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文本框 11"/>
          <p:cNvSpPr/>
          <p:nvPr/>
        </p:nvSpPr>
        <p:spPr>
          <a:xfrm>
            <a:off x="1861560" y="2824200"/>
            <a:ext cx="72529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汉仪粗宋简"/>
                <a:ea typeface="汉仪粗宋简"/>
              </a:rPr>
              <a:t>简约清新型简介企业</a:t>
            </a:r>
            <a:r>
              <a:rPr b="0" lang="en-US" sz="4000" spc="-1" strike="noStrike">
                <a:solidFill>
                  <a:srgbClr val="ffffff"/>
                </a:solidFill>
                <a:latin typeface="汉仪粗宋简"/>
                <a:ea typeface="汉仪粗宋简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汉仪粗宋简"/>
                <a:ea typeface="汉仪粗宋简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6" descr=""/>
          <p:cNvPicPr/>
          <p:nvPr/>
        </p:nvPicPr>
        <p:blipFill>
          <a:blip r:embed="rId1"/>
          <a:stretch/>
        </p:blipFill>
        <p:spPr>
          <a:xfrm>
            <a:off x="3704400" y="1637640"/>
            <a:ext cx="2190600" cy="1125360"/>
          </a:xfrm>
          <a:prstGeom prst="rect">
            <a:avLst/>
          </a:prstGeom>
          <a:ln w="0">
            <a:noFill/>
          </a:ln>
        </p:spPr>
      </p:pic>
      <p:sp>
        <p:nvSpPr>
          <p:cNvPr id="8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9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4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autoRev="1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Scale>
                                      <p:cBhvr>
                                        <p:cTn id="23" dur="250" fill="hold"/>
                                        <p:tgtEl>
                                          <p:spTgt spid="85"/>
                                        </p:tgtEl>
                                      </p:cBhvr>
                                      <p:by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任意多边形 37"/>
          <p:cNvSpPr/>
          <p:nvPr/>
        </p:nvSpPr>
        <p:spPr>
          <a:xfrm>
            <a:off x="-38160" y="4137480"/>
            <a:ext cx="12229920" cy="2959200"/>
          </a:xfrm>
          <a:custGeom>
            <a:avLst/>
            <a:gdLst>
              <a:gd name="textAreaLeft" fmla="*/ 0 w 12229920"/>
              <a:gd name="textAreaRight" fmla="*/ 12230280 w 12229920"/>
              <a:gd name="textAreaTop" fmla="*/ 0 h 2959200"/>
              <a:gd name="textAreaBottom" fmla="*/ 2959560 h 2959200"/>
            </a:gdLst>
            <a:ahLst/>
            <a:rect l="textAreaLeft" t="textAreaTop" r="textAreaRight" b="textAreaBottom"/>
            <a:pathLst>
              <a:path w="12230274" h="2959535">
                <a:moveTo>
                  <a:pt x="3507428" y="2666"/>
                </a:moveTo>
                <a:cubicBezTo>
                  <a:pt x="4100612" y="36329"/>
                  <a:pt x="3883723" y="690920"/>
                  <a:pt x="3914303" y="875923"/>
                </a:cubicBezTo>
                <a:lnTo>
                  <a:pt x="3906060" y="937871"/>
                </a:lnTo>
                <a:lnTo>
                  <a:pt x="3904284" y="937774"/>
                </a:lnTo>
                <a:lnTo>
                  <a:pt x="3894404" y="1012016"/>
                </a:lnTo>
                <a:cubicBezTo>
                  <a:pt x="3874740" y="1306386"/>
                  <a:pt x="3990975" y="1565446"/>
                  <a:pt x="4514850" y="1662283"/>
                </a:cubicBezTo>
                <a:cubicBezTo>
                  <a:pt x="5737225" y="1888237"/>
                  <a:pt x="8337898" y="1718772"/>
                  <a:pt x="11072571" y="1485698"/>
                </a:cubicBezTo>
                <a:lnTo>
                  <a:pt x="12230274" y="1384533"/>
                </a:lnTo>
                <a:lnTo>
                  <a:pt x="12230274" y="2959535"/>
                </a:lnTo>
                <a:lnTo>
                  <a:pt x="0" y="2959535"/>
                </a:lnTo>
                <a:lnTo>
                  <a:pt x="0" y="723230"/>
                </a:lnTo>
                <a:lnTo>
                  <a:pt x="0" y="709783"/>
                </a:lnTo>
                <a:lnTo>
                  <a:pt x="69419" y="713598"/>
                </a:lnTo>
                <a:lnTo>
                  <a:pt x="355201" y="673943"/>
                </a:lnTo>
                <a:cubicBezTo>
                  <a:pt x="2078790" y="403008"/>
                  <a:pt x="2812570" y="-38331"/>
                  <a:pt x="3507428" y="2666"/>
                </a:cubicBezTo>
                <a:close/>
              </a:path>
            </a:pathLst>
          </a:cu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任意多边形 30"/>
          <p:cNvSpPr/>
          <p:nvPr/>
        </p:nvSpPr>
        <p:spPr>
          <a:xfrm>
            <a:off x="12192120" y="5519160"/>
            <a:ext cx="18360" cy="2160"/>
          </a:xfrm>
          <a:custGeom>
            <a:avLst/>
            <a:gdLst>
              <a:gd name="textAreaLeft" fmla="*/ 0 w 18360"/>
              <a:gd name="textAreaRight" fmla="*/ 18720 w 18360"/>
              <a:gd name="textAreaTop" fmla="*/ 0 h 2160"/>
              <a:gd name="textAreaBottom" fmla="*/ 2520 h 2160"/>
            </a:gdLst>
            <a:ahLst/>
            <a:rect l="textAreaLeft" t="textAreaTop" r="textAreaRight" b="textAreaBottom"/>
            <a:pathLst>
              <a:path w="18876" h="2687">
                <a:moveTo>
                  <a:pt x="0" y="0"/>
                </a:moveTo>
                <a:lnTo>
                  <a:pt x="18876" y="1037"/>
                </a:lnTo>
                <a:lnTo>
                  <a:pt x="0" y="2687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2480" bIns="-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0" y="1706760"/>
            <a:ext cx="289800" cy="9180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任意多边形 25"/>
          <p:cNvSpPr/>
          <p:nvPr/>
        </p:nvSpPr>
        <p:spPr>
          <a:xfrm>
            <a:off x="-38160" y="4572000"/>
            <a:ext cx="12229920" cy="2524680"/>
          </a:xfrm>
          <a:custGeom>
            <a:avLst/>
            <a:gdLst>
              <a:gd name="textAreaLeft" fmla="*/ 0 w 12229920"/>
              <a:gd name="textAreaRight" fmla="*/ 12230280 w 12229920"/>
              <a:gd name="textAreaTop" fmla="*/ 0 h 2524680"/>
              <a:gd name="textAreaBottom" fmla="*/ 2525040 h 2524680"/>
            </a:gdLst>
            <a:ahLst/>
            <a:rect l="textAreaLeft" t="textAreaTop" r="textAreaRight" b="textAreaBottom"/>
            <a:pathLst>
              <a:path w="12230274" h="2525078">
                <a:moveTo>
                  <a:pt x="2925695" y="88"/>
                </a:moveTo>
                <a:cubicBezTo>
                  <a:pt x="3036541" y="1077"/>
                  <a:pt x="3139282" y="10478"/>
                  <a:pt x="3232150" y="29528"/>
                </a:cubicBezTo>
                <a:cubicBezTo>
                  <a:pt x="3975100" y="181928"/>
                  <a:pt x="2970713" y="1544003"/>
                  <a:pt x="4470400" y="1705928"/>
                </a:cubicBezTo>
                <a:cubicBezTo>
                  <a:pt x="5970087" y="1867853"/>
                  <a:pt x="9550574" y="1229678"/>
                  <a:pt x="12230274" y="1001078"/>
                </a:cubicBezTo>
                <a:cubicBezTo>
                  <a:pt x="12228099" y="1509078"/>
                  <a:pt x="12225925" y="2017078"/>
                  <a:pt x="12223750" y="2525078"/>
                </a:cubicBezTo>
                <a:lnTo>
                  <a:pt x="12700" y="2518735"/>
                </a:lnTo>
                <a:lnTo>
                  <a:pt x="0" y="2518728"/>
                </a:lnTo>
                <a:cubicBezTo>
                  <a:pt x="4233" y="1947228"/>
                  <a:pt x="8467" y="1363028"/>
                  <a:pt x="12700" y="791528"/>
                </a:cubicBezTo>
                <a:cubicBezTo>
                  <a:pt x="976710" y="398423"/>
                  <a:pt x="2149773" y="-6836"/>
                  <a:pt x="2925695" y="88"/>
                </a:cubicBezTo>
                <a:close/>
              </a:path>
            </a:pathLst>
          </a:custGeom>
          <a:solidFill>
            <a:srgbClr val="9ff6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任意多边形 28"/>
          <p:cNvSpPr/>
          <p:nvPr/>
        </p:nvSpPr>
        <p:spPr>
          <a:xfrm>
            <a:off x="-38160" y="4290480"/>
            <a:ext cx="12286800" cy="2233440"/>
          </a:xfrm>
          <a:custGeom>
            <a:avLst/>
            <a:gdLst>
              <a:gd name="textAreaLeft" fmla="*/ 0 w 12286800"/>
              <a:gd name="textAreaRight" fmla="*/ 12287160 w 12286800"/>
              <a:gd name="textAreaTop" fmla="*/ 0 h 2233440"/>
              <a:gd name="textAreaBottom" fmla="*/ 2233800 h 2233440"/>
            </a:gdLst>
            <a:ahLst/>
            <a:rect l="textAreaLeft" t="textAreaTop" r="textAreaRight" b="textAreaBottom"/>
            <a:pathLst>
              <a:path w="12287250" h="2233915">
                <a:moveTo>
                  <a:pt x="0" y="1120548"/>
                </a:moveTo>
                <a:cubicBezTo>
                  <a:pt x="2081212" y="869723"/>
                  <a:pt x="2430386" y="-152174"/>
                  <a:pt x="3146878" y="19276"/>
                </a:cubicBezTo>
                <a:cubicBezTo>
                  <a:pt x="3863370" y="190726"/>
                  <a:pt x="2775555" y="1879978"/>
                  <a:pt x="4298950" y="2149248"/>
                </a:cubicBezTo>
                <a:cubicBezTo>
                  <a:pt x="5822345" y="2418518"/>
                  <a:pt x="9128125" y="1990498"/>
                  <a:pt x="12287250" y="1634898"/>
                </a:cubicBezTo>
              </a:path>
            </a:pathLst>
          </a:cu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文本框 7"/>
          <p:cNvSpPr/>
          <p:nvPr/>
        </p:nvSpPr>
        <p:spPr>
          <a:xfrm>
            <a:off x="439200" y="1637280"/>
            <a:ext cx="3154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62626"/>
                </a:solidFill>
                <a:latin typeface="汉仪粗宋简"/>
                <a:ea typeface="汉仪粗宋简"/>
              </a:rPr>
              <a:t>演界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"/>
          <p:cNvSpPr/>
          <p:nvPr/>
        </p:nvSpPr>
        <p:spPr>
          <a:xfrm>
            <a:off x="5218920" y="1713960"/>
            <a:ext cx="61383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基于演示设计的一站式在线演示、素材销售、服务交易系统。诞生于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年，由中国专业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领跑者上海锐普广告有限公司整合锐普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、锐普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论坛、锐普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商城、锐普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市场等资源组建成立。所提供的服务包括：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、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图表、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动画、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品、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keynote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、演示图片、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prezi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、演示定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"/>
          <p:cNvSpPr/>
          <p:nvPr/>
        </p:nvSpPr>
        <p:spPr>
          <a:xfrm>
            <a:off x="5982480" y="1267920"/>
            <a:ext cx="237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演界网，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9"/>
          <p:cNvSpPr/>
          <p:nvPr/>
        </p:nvSpPr>
        <p:spPr>
          <a:xfrm>
            <a:off x="439200" y="2166120"/>
            <a:ext cx="3154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262626"/>
                </a:solidFill>
                <a:latin typeface="汉仪粗宋简"/>
                <a:ea typeface="汉仪粗宋简"/>
              </a:rPr>
              <a:t>Introd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直接连接符 10"/>
          <p:cNvCxnSpPr/>
          <p:nvPr/>
        </p:nvCxnSpPr>
        <p:spPr>
          <a:xfrm>
            <a:off x="2518560" y="1887120"/>
            <a:ext cx="1640520" cy="360"/>
          </a:xfrm>
          <a:prstGeom prst="straightConnector1">
            <a:avLst/>
          </a:prstGeom>
          <a:ln w="38100">
            <a:solidFill>
              <a:srgbClr val="00b0f0"/>
            </a:solidFill>
            <a:prstDash val="lgDash"/>
            <a:headEnd len="med" type="oval" w="med"/>
            <a:tailEnd len="med" type="triangle" w="med"/>
          </a:ln>
        </p:spPr>
      </p:cxnSp>
    </p:spTree>
  </p:cSld>
  <p:transition spd="slow">
    <p:push dir="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5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7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2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7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66.67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7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7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7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7"/>
          <p:cNvSpPr/>
          <p:nvPr/>
        </p:nvSpPr>
        <p:spPr>
          <a:xfrm>
            <a:off x="0" y="1706760"/>
            <a:ext cx="289800" cy="9180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文本框 8"/>
          <p:cNvSpPr/>
          <p:nvPr/>
        </p:nvSpPr>
        <p:spPr>
          <a:xfrm>
            <a:off x="439200" y="1637280"/>
            <a:ext cx="3154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62626"/>
                </a:solidFill>
                <a:latin typeface="汉仪粗宋简"/>
                <a:ea typeface="汉仪粗宋简"/>
              </a:rPr>
              <a:t>在此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9"/>
          <p:cNvSpPr/>
          <p:nvPr/>
        </p:nvSpPr>
        <p:spPr>
          <a:xfrm>
            <a:off x="439200" y="2166120"/>
            <a:ext cx="27990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262626"/>
                </a:solidFill>
                <a:latin typeface="汉仪粗宋简"/>
                <a:ea typeface="汉仪粗宋简"/>
              </a:rPr>
              <a:t>Input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2" descr=""/>
          <p:cNvPicPr/>
          <p:nvPr/>
        </p:nvPicPr>
        <p:blipFill>
          <a:blip r:embed="rId1"/>
          <a:stretch/>
        </p:blipFill>
        <p:spPr>
          <a:xfrm>
            <a:off x="5785560" y="522000"/>
            <a:ext cx="5267160" cy="4334400"/>
          </a:xfrm>
          <a:prstGeom prst="rect">
            <a:avLst/>
          </a:prstGeom>
          <a:ln w="0">
            <a:noFill/>
          </a:ln>
        </p:spPr>
      </p:pic>
      <p:grpSp>
        <p:nvGrpSpPr>
          <p:cNvPr id="102" name="组合 31"/>
          <p:cNvGrpSpPr/>
          <p:nvPr/>
        </p:nvGrpSpPr>
        <p:grpSpPr>
          <a:xfrm>
            <a:off x="9609120" y="2753640"/>
            <a:ext cx="1231920" cy="1231920"/>
            <a:chOff x="9609120" y="2753640"/>
            <a:chExt cx="1231920" cy="1231920"/>
          </a:xfrm>
        </p:grpSpPr>
        <p:sp>
          <p:nvSpPr>
            <p:cNvPr id="103" name="同心圆 50"/>
            <p:cNvSpPr/>
            <p:nvPr/>
          </p:nvSpPr>
          <p:spPr>
            <a:xfrm>
              <a:off x="9609120" y="2753640"/>
              <a:ext cx="1231920" cy="1231920"/>
            </a:xfrm>
            <a:prstGeom prst="donut">
              <a:avLst>
                <a:gd name="adj" fmla="val 9290"/>
              </a:avLst>
            </a:prstGeom>
            <a:solidFill>
              <a:srgbClr val="d0111a">
                <a:alpha val="1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9ff62a"/>
                </a:solidFill>
                <a:latin typeface="Calibri"/>
              </a:endParaRPr>
            </a:p>
          </p:txBody>
        </p:sp>
        <p:sp>
          <p:nvSpPr>
            <p:cNvPr id="104" name="同心圆 51"/>
            <p:cNvSpPr/>
            <p:nvPr/>
          </p:nvSpPr>
          <p:spPr>
            <a:xfrm>
              <a:off x="9814320" y="2958840"/>
              <a:ext cx="821160" cy="821160"/>
            </a:xfrm>
            <a:prstGeom prst="donut">
              <a:avLst>
                <a:gd name="adj" fmla="val 13313"/>
              </a:avLst>
            </a:prstGeom>
            <a:solidFill>
              <a:srgbClr val="d0111a">
                <a:alpha val="3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9ff62a"/>
                </a:solidFill>
                <a:latin typeface="Calibri"/>
              </a:endParaRPr>
            </a:p>
          </p:txBody>
        </p:sp>
        <p:sp>
          <p:nvSpPr>
            <p:cNvPr id="105" name="椭圆 52"/>
            <p:cNvSpPr/>
            <p:nvPr/>
          </p:nvSpPr>
          <p:spPr>
            <a:xfrm>
              <a:off x="10019880" y="3164400"/>
              <a:ext cx="410400" cy="410400"/>
            </a:xfrm>
            <a:prstGeom prst="ellipse">
              <a:avLst/>
            </a:prstGeom>
            <a:solidFill>
              <a:srgbClr val="d0111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9ff62a"/>
                </a:solidFill>
                <a:latin typeface="Calibri"/>
              </a:endParaRPr>
            </a:p>
          </p:txBody>
        </p:sp>
      </p:grpSp>
      <p:cxnSp>
        <p:nvCxnSpPr>
          <p:cNvPr id="106" name="直接连接符 64"/>
          <p:cNvCxnSpPr/>
          <p:nvPr/>
        </p:nvCxnSpPr>
        <p:spPr>
          <a:xfrm>
            <a:off x="3238200" y="1906200"/>
            <a:ext cx="1640520" cy="360"/>
          </a:xfrm>
          <a:prstGeom prst="straightConnector1">
            <a:avLst/>
          </a:prstGeom>
          <a:ln w="38100">
            <a:solidFill>
              <a:srgbClr val="00b0f0"/>
            </a:solidFill>
            <a:prstDash val="lgDash"/>
            <a:headEnd len="med" type="oval" w="med"/>
            <a:tailEnd len="med" type="triangle" w="med"/>
          </a:ln>
        </p:spPr>
      </p:cxnSp>
      <p:sp>
        <p:nvSpPr>
          <p:cNvPr id="107" name="任意多边形 65"/>
          <p:cNvSpPr/>
          <p:nvPr/>
        </p:nvSpPr>
        <p:spPr>
          <a:xfrm>
            <a:off x="-38160" y="4137480"/>
            <a:ext cx="12229920" cy="2959200"/>
          </a:xfrm>
          <a:custGeom>
            <a:avLst/>
            <a:gdLst>
              <a:gd name="textAreaLeft" fmla="*/ 0 w 12229920"/>
              <a:gd name="textAreaRight" fmla="*/ 12230280 w 12229920"/>
              <a:gd name="textAreaTop" fmla="*/ 0 h 2959200"/>
              <a:gd name="textAreaBottom" fmla="*/ 2959560 h 2959200"/>
            </a:gdLst>
            <a:ahLst/>
            <a:rect l="textAreaLeft" t="textAreaTop" r="textAreaRight" b="textAreaBottom"/>
            <a:pathLst>
              <a:path w="12230274" h="2959535">
                <a:moveTo>
                  <a:pt x="3507428" y="2666"/>
                </a:moveTo>
                <a:cubicBezTo>
                  <a:pt x="4100612" y="36329"/>
                  <a:pt x="3883723" y="690920"/>
                  <a:pt x="3914303" y="875923"/>
                </a:cubicBezTo>
                <a:lnTo>
                  <a:pt x="3906060" y="937871"/>
                </a:lnTo>
                <a:lnTo>
                  <a:pt x="3904284" y="937774"/>
                </a:lnTo>
                <a:lnTo>
                  <a:pt x="3894404" y="1012016"/>
                </a:lnTo>
                <a:cubicBezTo>
                  <a:pt x="3874740" y="1306386"/>
                  <a:pt x="3990975" y="1565446"/>
                  <a:pt x="4514850" y="1662283"/>
                </a:cubicBezTo>
                <a:cubicBezTo>
                  <a:pt x="5737225" y="1888237"/>
                  <a:pt x="8337898" y="1718772"/>
                  <a:pt x="11072571" y="1485698"/>
                </a:cubicBezTo>
                <a:lnTo>
                  <a:pt x="12230274" y="1384533"/>
                </a:lnTo>
                <a:lnTo>
                  <a:pt x="12230274" y="2959535"/>
                </a:lnTo>
                <a:lnTo>
                  <a:pt x="0" y="2959535"/>
                </a:lnTo>
                <a:lnTo>
                  <a:pt x="0" y="723230"/>
                </a:lnTo>
                <a:lnTo>
                  <a:pt x="0" y="709783"/>
                </a:lnTo>
                <a:lnTo>
                  <a:pt x="69419" y="713598"/>
                </a:lnTo>
                <a:lnTo>
                  <a:pt x="355201" y="673943"/>
                </a:lnTo>
                <a:cubicBezTo>
                  <a:pt x="2078790" y="403008"/>
                  <a:pt x="2812570" y="-38331"/>
                  <a:pt x="3507428" y="2666"/>
                </a:cubicBezTo>
                <a:close/>
              </a:path>
            </a:pathLst>
          </a:cu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任意多边形 66"/>
          <p:cNvSpPr/>
          <p:nvPr/>
        </p:nvSpPr>
        <p:spPr>
          <a:xfrm>
            <a:off x="12192120" y="5519160"/>
            <a:ext cx="18360" cy="2160"/>
          </a:xfrm>
          <a:custGeom>
            <a:avLst/>
            <a:gdLst>
              <a:gd name="textAreaLeft" fmla="*/ 0 w 18360"/>
              <a:gd name="textAreaRight" fmla="*/ 18720 w 18360"/>
              <a:gd name="textAreaTop" fmla="*/ 0 h 2160"/>
              <a:gd name="textAreaBottom" fmla="*/ 2520 h 2160"/>
            </a:gdLst>
            <a:ahLst/>
            <a:rect l="textAreaLeft" t="textAreaTop" r="textAreaRight" b="textAreaBottom"/>
            <a:pathLst>
              <a:path w="18876" h="2687">
                <a:moveTo>
                  <a:pt x="0" y="0"/>
                </a:moveTo>
                <a:lnTo>
                  <a:pt x="18876" y="1037"/>
                </a:lnTo>
                <a:lnTo>
                  <a:pt x="0" y="2687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2480" bIns="-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任意多边形 67"/>
          <p:cNvSpPr/>
          <p:nvPr/>
        </p:nvSpPr>
        <p:spPr>
          <a:xfrm>
            <a:off x="-38160" y="4572000"/>
            <a:ext cx="12229920" cy="2524680"/>
          </a:xfrm>
          <a:custGeom>
            <a:avLst/>
            <a:gdLst>
              <a:gd name="textAreaLeft" fmla="*/ 0 w 12229920"/>
              <a:gd name="textAreaRight" fmla="*/ 12230280 w 12229920"/>
              <a:gd name="textAreaTop" fmla="*/ 0 h 2524680"/>
              <a:gd name="textAreaBottom" fmla="*/ 2525040 h 2524680"/>
            </a:gdLst>
            <a:ahLst/>
            <a:rect l="textAreaLeft" t="textAreaTop" r="textAreaRight" b="textAreaBottom"/>
            <a:pathLst>
              <a:path w="12230274" h="2525078">
                <a:moveTo>
                  <a:pt x="2925695" y="88"/>
                </a:moveTo>
                <a:cubicBezTo>
                  <a:pt x="3036541" y="1077"/>
                  <a:pt x="3139282" y="10478"/>
                  <a:pt x="3232150" y="29528"/>
                </a:cubicBezTo>
                <a:cubicBezTo>
                  <a:pt x="3975100" y="181928"/>
                  <a:pt x="2970713" y="1544003"/>
                  <a:pt x="4470400" y="1705928"/>
                </a:cubicBezTo>
                <a:cubicBezTo>
                  <a:pt x="5970087" y="1867853"/>
                  <a:pt x="9550574" y="1229678"/>
                  <a:pt x="12230274" y="1001078"/>
                </a:cubicBezTo>
                <a:cubicBezTo>
                  <a:pt x="12228099" y="1509078"/>
                  <a:pt x="12225925" y="2017078"/>
                  <a:pt x="12223750" y="2525078"/>
                </a:cubicBezTo>
                <a:lnTo>
                  <a:pt x="12700" y="2518735"/>
                </a:lnTo>
                <a:lnTo>
                  <a:pt x="0" y="2518728"/>
                </a:lnTo>
                <a:cubicBezTo>
                  <a:pt x="4233" y="1947228"/>
                  <a:pt x="8467" y="1363028"/>
                  <a:pt x="12700" y="791528"/>
                </a:cubicBezTo>
                <a:cubicBezTo>
                  <a:pt x="976710" y="398423"/>
                  <a:pt x="2149773" y="-6836"/>
                  <a:pt x="2925695" y="88"/>
                </a:cubicBezTo>
                <a:close/>
              </a:path>
            </a:pathLst>
          </a:custGeom>
          <a:solidFill>
            <a:srgbClr val="9ff6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任意多边形 68"/>
          <p:cNvSpPr/>
          <p:nvPr/>
        </p:nvSpPr>
        <p:spPr>
          <a:xfrm>
            <a:off x="-38160" y="4290480"/>
            <a:ext cx="12286800" cy="2233440"/>
          </a:xfrm>
          <a:custGeom>
            <a:avLst/>
            <a:gdLst>
              <a:gd name="textAreaLeft" fmla="*/ 0 w 12286800"/>
              <a:gd name="textAreaRight" fmla="*/ 12287160 w 12286800"/>
              <a:gd name="textAreaTop" fmla="*/ 0 h 2233440"/>
              <a:gd name="textAreaBottom" fmla="*/ 2233800 h 2233440"/>
            </a:gdLst>
            <a:ahLst/>
            <a:rect l="textAreaLeft" t="textAreaTop" r="textAreaRight" b="textAreaBottom"/>
            <a:pathLst>
              <a:path w="12287250" h="2233915">
                <a:moveTo>
                  <a:pt x="0" y="1120548"/>
                </a:moveTo>
                <a:cubicBezTo>
                  <a:pt x="2081212" y="869723"/>
                  <a:pt x="2430386" y="-152174"/>
                  <a:pt x="3146878" y="19276"/>
                </a:cubicBezTo>
                <a:cubicBezTo>
                  <a:pt x="3863370" y="190726"/>
                  <a:pt x="2775555" y="1879978"/>
                  <a:pt x="4298950" y="2149248"/>
                </a:cubicBezTo>
                <a:cubicBezTo>
                  <a:pt x="5822345" y="2418518"/>
                  <a:pt x="9128125" y="1990498"/>
                  <a:pt x="12287250" y="1634898"/>
                </a:cubicBezTo>
              </a:path>
            </a:pathLst>
          </a:cu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5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7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2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7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1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任意多边形 30"/>
          <p:cNvSpPr/>
          <p:nvPr/>
        </p:nvSpPr>
        <p:spPr>
          <a:xfrm>
            <a:off x="12192120" y="5519160"/>
            <a:ext cx="18360" cy="2160"/>
          </a:xfrm>
          <a:custGeom>
            <a:avLst/>
            <a:gdLst>
              <a:gd name="textAreaLeft" fmla="*/ 0 w 18360"/>
              <a:gd name="textAreaRight" fmla="*/ 18720 w 18360"/>
              <a:gd name="textAreaTop" fmla="*/ 0 h 2160"/>
              <a:gd name="textAreaBottom" fmla="*/ 2520 h 2160"/>
            </a:gdLst>
            <a:ahLst/>
            <a:rect l="textAreaLeft" t="textAreaTop" r="textAreaRight" b="textAreaBottom"/>
            <a:pathLst>
              <a:path w="18876" h="2687">
                <a:moveTo>
                  <a:pt x="0" y="0"/>
                </a:moveTo>
                <a:lnTo>
                  <a:pt x="18876" y="1037"/>
                </a:lnTo>
                <a:lnTo>
                  <a:pt x="0" y="2687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2480" bIns="-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文本框 29"/>
          <p:cNvSpPr/>
          <p:nvPr/>
        </p:nvSpPr>
        <p:spPr>
          <a:xfrm>
            <a:off x="5455800" y="90900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组合 15"/>
          <p:cNvGrpSpPr/>
          <p:nvPr/>
        </p:nvGrpSpPr>
        <p:grpSpPr>
          <a:xfrm>
            <a:off x="6733800" y="944280"/>
            <a:ext cx="4145040" cy="357480"/>
            <a:chOff x="6733800" y="944280"/>
            <a:chExt cx="4145040" cy="357480"/>
          </a:xfrm>
        </p:grpSpPr>
        <p:sp>
          <p:nvSpPr>
            <p:cNvPr id="114" name="矩形 19"/>
            <p:cNvSpPr/>
            <p:nvPr/>
          </p:nvSpPr>
          <p:spPr>
            <a:xfrm rot="5400000">
              <a:off x="7271280" y="406440"/>
              <a:ext cx="357480" cy="143244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5" name="矩形 31"/>
            <p:cNvSpPr/>
            <p:nvPr/>
          </p:nvSpPr>
          <p:spPr>
            <a:xfrm rot="5400000">
              <a:off x="8385120" y="725400"/>
              <a:ext cx="357480" cy="794520"/>
            </a:xfrm>
            <a:prstGeom prst="rect">
              <a:avLst/>
            </a:prstGeom>
            <a:solidFill>
              <a:srgbClr val="00668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6" name="矩形 32"/>
            <p:cNvSpPr/>
            <p:nvPr/>
          </p:nvSpPr>
          <p:spPr>
            <a:xfrm rot="5400000">
              <a:off x="9741240" y="164160"/>
              <a:ext cx="357480" cy="191736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7" name="组合 16"/>
          <p:cNvGrpSpPr/>
          <p:nvPr/>
        </p:nvGrpSpPr>
        <p:grpSpPr>
          <a:xfrm>
            <a:off x="6733440" y="1838160"/>
            <a:ext cx="2647800" cy="357480"/>
            <a:chOff x="6733440" y="1838160"/>
            <a:chExt cx="2647800" cy="357480"/>
          </a:xfrm>
        </p:grpSpPr>
        <p:sp>
          <p:nvSpPr>
            <p:cNvPr id="118" name="矩形 33"/>
            <p:cNvSpPr/>
            <p:nvPr/>
          </p:nvSpPr>
          <p:spPr>
            <a:xfrm rot="5400000">
              <a:off x="7165800" y="1405440"/>
              <a:ext cx="357480" cy="122220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9" name="矩形 34"/>
            <p:cNvSpPr/>
            <p:nvPr/>
          </p:nvSpPr>
          <p:spPr>
            <a:xfrm rot="5400000">
              <a:off x="8003880" y="1790280"/>
              <a:ext cx="357480" cy="453240"/>
            </a:xfrm>
            <a:prstGeom prst="rect">
              <a:avLst/>
            </a:prstGeom>
            <a:solidFill>
              <a:srgbClr val="00668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0" name="矩形 35"/>
            <p:cNvSpPr/>
            <p:nvPr/>
          </p:nvSpPr>
          <p:spPr>
            <a:xfrm rot="5400000">
              <a:off x="8716680" y="1531080"/>
              <a:ext cx="357480" cy="97164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21" name="组合 17"/>
          <p:cNvGrpSpPr/>
          <p:nvPr/>
        </p:nvGrpSpPr>
        <p:grpSpPr>
          <a:xfrm>
            <a:off x="6733800" y="2731680"/>
            <a:ext cx="2898360" cy="357480"/>
            <a:chOff x="6733800" y="2731680"/>
            <a:chExt cx="2898360" cy="357480"/>
          </a:xfrm>
        </p:grpSpPr>
        <p:sp>
          <p:nvSpPr>
            <p:cNvPr id="122" name="矩形 36"/>
            <p:cNvSpPr/>
            <p:nvPr/>
          </p:nvSpPr>
          <p:spPr>
            <a:xfrm rot="5400000">
              <a:off x="7000920" y="2464560"/>
              <a:ext cx="357480" cy="89172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3" name="矩形 38"/>
            <p:cNvSpPr/>
            <p:nvPr/>
          </p:nvSpPr>
          <p:spPr>
            <a:xfrm rot="5400000">
              <a:off x="8114760" y="2242800"/>
              <a:ext cx="357480" cy="1335240"/>
            </a:xfrm>
            <a:prstGeom prst="rect">
              <a:avLst/>
            </a:prstGeom>
            <a:solidFill>
              <a:srgbClr val="00668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4" name="矩形 39"/>
            <p:cNvSpPr/>
            <p:nvPr/>
          </p:nvSpPr>
          <p:spPr>
            <a:xfrm rot="5400000">
              <a:off x="9117000" y="2574000"/>
              <a:ext cx="357480" cy="67248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25" name="组合 18"/>
          <p:cNvGrpSpPr/>
          <p:nvPr/>
        </p:nvGrpSpPr>
        <p:grpSpPr>
          <a:xfrm>
            <a:off x="6733440" y="3625560"/>
            <a:ext cx="2837880" cy="357480"/>
            <a:chOff x="6733440" y="3625560"/>
            <a:chExt cx="2837880" cy="357480"/>
          </a:xfrm>
        </p:grpSpPr>
        <p:sp>
          <p:nvSpPr>
            <p:cNvPr id="126" name="矩形 40"/>
            <p:cNvSpPr/>
            <p:nvPr/>
          </p:nvSpPr>
          <p:spPr>
            <a:xfrm rot="5400000">
              <a:off x="7235640" y="3123360"/>
              <a:ext cx="357480" cy="136188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7" name="矩形 41"/>
            <p:cNvSpPr/>
            <p:nvPr/>
          </p:nvSpPr>
          <p:spPr>
            <a:xfrm rot="5400000">
              <a:off x="8297280" y="3407040"/>
              <a:ext cx="357480" cy="794520"/>
            </a:xfrm>
            <a:prstGeom prst="rect">
              <a:avLst/>
            </a:prstGeom>
            <a:solidFill>
              <a:srgbClr val="00668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8" name="矩形 42"/>
            <p:cNvSpPr/>
            <p:nvPr/>
          </p:nvSpPr>
          <p:spPr>
            <a:xfrm rot="5400000">
              <a:off x="9035640" y="3447360"/>
              <a:ext cx="357480" cy="71352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29" name="文本框 43"/>
          <p:cNvSpPr/>
          <p:nvPr/>
        </p:nvSpPr>
        <p:spPr>
          <a:xfrm>
            <a:off x="5455800" y="180648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44"/>
          <p:cNvSpPr/>
          <p:nvPr/>
        </p:nvSpPr>
        <p:spPr>
          <a:xfrm>
            <a:off x="5455800" y="270396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5"/>
          <p:cNvSpPr/>
          <p:nvPr/>
        </p:nvSpPr>
        <p:spPr>
          <a:xfrm>
            <a:off x="5455800" y="360108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46"/>
          <p:cNvSpPr/>
          <p:nvPr/>
        </p:nvSpPr>
        <p:spPr>
          <a:xfrm>
            <a:off x="6656040" y="4431240"/>
            <a:ext cx="255960" cy="25596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椭圆 47"/>
          <p:cNvSpPr/>
          <p:nvPr/>
        </p:nvSpPr>
        <p:spPr>
          <a:xfrm>
            <a:off x="8241840" y="4439160"/>
            <a:ext cx="255960" cy="255960"/>
          </a:xfrm>
          <a:prstGeom prst="ellipse">
            <a:avLst/>
          </a:prstGeom>
          <a:solidFill>
            <a:srgbClr val="00668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椭圆 48"/>
          <p:cNvSpPr/>
          <p:nvPr/>
        </p:nvSpPr>
        <p:spPr>
          <a:xfrm>
            <a:off x="9827640" y="4422960"/>
            <a:ext cx="255960" cy="255960"/>
          </a:xfrm>
          <a:prstGeom prst="ellipse">
            <a:avLst/>
          </a:prstGeom>
          <a:solidFill>
            <a:srgbClr val="2626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文本框 49"/>
          <p:cNvSpPr/>
          <p:nvPr/>
        </p:nvSpPr>
        <p:spPr>
          <a:xfrm>
            <a:off x="6396120" y="4846680"/>
            <a:ext cx="948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20"/>
          <p:cNvGrpSpPr/>
          <p:nvPr/>
        </p:nvGrpSpPr>
        <p:grpSpPr>
          <a:xfrm>
            <a:off x="6658920" y="736920"/>
            <a:ext cx="115920" cy="3387960"/>
            <a:chOff x="6658920" y="736920"/>
            <a:chExt cx="115920" cy="3387960"/>
          </a:xfrm>
        </p:grpSpPr>
        <p:cxnSp>
          <p:nvCxnSpPr>
            <p:cNvPr id="137" name="直接连接符 21"/>
            <p:cNvCxnSpPr/>
            <p:nvPr/>
          </p:nvCxnSpPr>
          <p:spPr>
            <a:xfrm flipV="1">
              <a:off x="6733080" y="736920"/>
              <a:ext cx="360" cy="3388320"/>
            </a:xfrm>
            <a:prstGeom prst="straightConnector1">
              <a:avLst/>
            </a:prstGeom>
            <a:ln w="19050">
              <a:solidFill>
                <a:srgbClr val="000000">
                  <a:lumMod val="50000"/>
                  <a:lumOff val="50000"/>
                </a:srgbClr>
              </a:solidFill>
            </a:ln>
          </p:spPr>
        </p:cxnSp>
        <p:cxnSp>
          <p:nvCxnSpPr>
            <p:cNvPr id="138" name="直接连接符 22"/>
            <p:cNvCxnSpPr/>
            <p:nvPr/>
          </p:nvCxnSpPr>
          <p:spPr>
            <a:xfrm flipH="1">
              <a:off x="6658920" y="4123800"/>
              <a:ext cx="74520" cy="36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  <p:cxnSp>
          <p:nvCxnSpPr>
            <p:cNvPr id="139" name="直接连接符 23"/>
            <p:cNvCxnSpPr/>
            <p:nvPr/>
          </p:nvCxnSpPr>
          <p:spPr>
            <a:xfrm flipH="1">
              <a:off x="6733080" y="3296880"/>
              <a:ext cx="42120" cy="36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  <p:cxnSp>
          <p:nvCxnSpPr>
            <p:cNvPr id="140" name="直接连接符 24"/>
            <p:cNvCxnSpPr/>
            <p:nvPr/>
          </p:nvCxnSpPr>
          <p:spPr>
            <a:xfrm flipH="1">
              <a:off x="6733080" y="2427840"/>
              <a:ext cx="42120" cy="36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  <p:cxnSp>
          <p:nvCxnSpPr>
            <p:cNvPr id="141" name="直接连接符 26"/>
            <p:cNvCxnSpPr/>
            <p:nvPr/>
          </p:nvCxnSpPr>
          <p:spPr>
            <a:xfrm flipH="1">
              <a:off x="6733080" y="1551960"/>
              <a:ext cx="42120" cy="36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  <p:cxnSp>
          <p:nvCxnSpPr>
            <p:cNvPr id="142" name="直接连接符 27"/>
            <p:cNvCxnSpPr/>
            <p:nvPr/>
          </p:nvCxnSpPr>
          <p:spPr>
            <a:xfrm flipH="1">
              <a:off x="6658920" y="741240"/>
              <a:ext cx="74520" cy="36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</p:grpSp>
      <p:sp>
        <p:nvSpPr>
          <p:cNvPr id="143" name="文本框 52"/>
          <p:cNvSpPr/>
          <p:nvPr/>
        </p:nvSpPr>
        <p:spPr>
          <a:xfrm>
            <a:off x="7906320" y="4848480"/>
            <a:ext cx="948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53"/>
          <p:cNvSpPr/>
          <p:nvPr/>
        </p:nvSpPr>
        <p:spPr>
          <a:xfrm>
            <a:off x="9574920" y="4848480"/>
            <a:ext cx="948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56"/>
          <p:cNvSpPr/>
          <p:nvPr/>
        </p:nvSpPr>
        <p:spPr>
          <a:xfrm>
            <a:off x="-38160" y="4137480"/>
            <a:ext cx="12229920" cy="2959200"/>
          </a:xfrm>
          <a:custGeom>
            <a:avLst/>
            <a:gdLst>
              <a:gd name="textAreaLeft" fmla="*/ 0 w 12229920"/>
              <a:gd name="textAreaRight" fmla="*/ 12230280 w 12229920"/>
              <a:gd name="textAreaTop" fmla="*/ 0 h 2959200"/>
              <a:gd name="textAreaBottom" fmla="*/ 2959560 h 2959200"/>
            </a:gdLst>
            <a:ahLst/>
            <a:rect l="textAreaLeft" t="textAreaTop" r="textAreaRight" b="textAreaBottom"/>
            <a:pathLst>
              <a:path w="12230274" h="2959535">
                <a:moveTo>
                  <a:pt x="3507428" y="2666"/>
                </a:moveTo>
                <a:cubicBezTo>
                  <a:pt x="4100612" y="36329"/>
                  <a:pt x="3883723" y="690920"/>
                  <a:pt x="3914303" y="875923"/>
                </a:cubicBezTo>
                <a:lnTo>
                  <a:pt x="3906060" y="937871"/>
                </a:lnTo>
                <a:lnTo>
                  <a:pt x="3904284" y="937774"/>
                </a:lnTo>
                <a:lnTo>
                  <a:pt x="3894404" y="1012016"/>
                </a:lnTo>
                <a:cubicBezTo>
                  <a:pt x="3874740" y="1306386"/>
                  <a:pt x="3990975" y="1565446"/>
                  <a:pt x="4514850" y="1662283"/>
                </a:cubicBezTo>
                <a:cubicBezTo>
                  <a:pt x="5737225" y="1888237"/>
                  <a:pt x="8337898" y="1718772"/>
                  <a:pt x="11072571" y="1485698"/>
                </a:cubicBezTo>
                <a:lnTo>
                  <a:pt x="12230274" y="1384533"/>
                </a:lnTo>
                <a:lnTo>
                  <a:pt x="12230274" y="2959535"/>
                </a:lnTo>
                <a:lnTo>
                  <a:pt x="0" y="2959535"/>
                </a:lnTo>
                <a:lnTo>
                  <a:pt x="0" y="723230"/>
                </a:lnTo>
                <a:lnTo>
                  <a:pt x="0" y="709783"/>
                </a:lnTo>
                <a:lnTo>
                  <a:pt x="69419" y="713598"/>
                </a:lnTo>
                <a:lnTo>
                  <a:pt x="355201" y="673943"/>
                </a:lnTo>
                <a:cubicBezTo>
                  <a:pt x="2078790" y="403008"/>
                  <a:pt x="2812570" y="-38331"/>
                  <a:pt x="3507428" y="2666"/>
                </a:cubicBezTo>
                <a:close/>
              </a:path>
            </a:pathLst>
          </a:cu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任意多边形 57"/>
          <p:cNvSpPr/>
          <p:nvPr/>
        </p:nvSpPr>
        <p:spPr>
          <a:xfrm>
            <a:off x="12192120" y="5519160"/>
            <a:ext cx="18360" cy="2160"/>
          </a:xfrm>
          <a:custGeom>
            <a:avLst/>
            <a:gdLst>
              <a:gd name="textAreaLeft" fmla="*/ 0 w 18360"/>
              <a:gd name="textAreaRight" fmla="*/ 18720 w 18360"/>
              <a:gd name="textAreaTop" fmla="*/ 0 h 2160"/>
              <a:gd name="textAreaBottom" fmla="*/ 2520 h 2160"/>
            </a:gdLst>
            <a:ahLst/>
            <a:rect l="textAreaLeft" t="textAreaTop" r="textAreaRight" b="textAreaBottom"/>
            <a:pathLst>
              <a:path w="18876" h="2687">
                <a:moveTo>
                  <a:pt x="0" y="0"/>
                </a:moveTo>
                <a:lnTo>
                  <a:pt x="18876" y="1037"/>
                </a:lnTo>
                <a:lnTo>
                  <a:pt x="0" y="2687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2480" bIns="-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任意多边形 58"/>
          <p:cNvSpPr/>
          <p:nvPr/>
        </p:nvSpPr>
        <p:spPr>
          <a:xfrm>
            <a:off x="-38160" y="4572000"/>
            <a:ext cx="12229920" cy="2524680"/>
          </a:xfrm>
          <a:custGeom>
            <a:avLst/>
            <a:gdLst>
              <a:gd name="textAreaLeft" fmla="*/ 0 w 12229920"/>
              <a:gd name="textAreaRight" fmla="*/ 12230280 w 12229920"/>
              <a:gd name="textAreaTop" fmla="*/ 0 h 2524680"/>
              <a:gd name="textAreaBottom" fmla="*/ 2525040 h 2524680"/>
            </a:gdLst>
            <a:ahLst/>
            <a:rect l="textAreaLeft" t="textAreaTop" r="textAreaRight" b="textAreaBottom"/>
            <a:pathLst>
              <a:path w="12230274" h="2525078">
                <a:moveTo>
                  <a:pt x="2925695" y="88"/>
                </a:moveTo>
                <a:cubicBezTo>
                  <a:pt x="3036541" y="1077"/>
                  <a:pt x="3139282" y="10478"/>
                  <a:pt x="3232150" y="29528"/>
                </a:cubicBezTo>
                <a:cubicBezTo>
                  <a:pt x="3975100" y="181928"/>
                  <a:pt x="2970713" y="1544003"/>
                  <a:pt x="4470400" y="1705928"/>
                </a:cubicBezTo>
                <a:cubicBezTo>
                  <a:pt x="5970087" y="1867853"/>
                  <a:pt x="9550574" y="1229678"/>
                  <a:pt x="12230274" y="1001078"/>
                </a:cubicBezTo>
                <a:cubicBezTo>
                  <a:pt x="12228099" y="1509078"/>
                  <a:pt x="12225925" y="2017078"/>
                  <a:pt x="12223750" y="2525078"/>
                </a:cubicBezTo>
                <a:lnTo>
                  <a:pt x="12700" y="2518735"/>
                </a:lnTo>
                <a:lnTo>
                  <a:pt x="0" y="2518728"/>
                </a:lnTo>
                <a:cubicBezTo>
                  <a:pt x="4233" y="1947228"/>
                  <a:pt x="8467" y="1363028"/>
                  <a:pt x="12700" y="791528"/>
                </a:cubicBezTo>
                <a:cubicBezTo>
                  <a:pt x="976710" y="398423"/>
                  <a:pt x="2149773" y="-6836"/>
                  <a:pt x="2925695" y="88"/>
                </a:cubicBezTo>
                <a:close/>
              </a:path>
            </a:pathLst>
          </a:custGeom>
          <a:solidFill>
            <a:srgbClr val="9ff6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任意多边形 59"/>
          <p:cNvSpPr/>
          <p:nvPr/>
        </p:nvSpPr>
        <p:spPr>
          <a:xfrm>
            <a:off x="-38160" y="4290480"/>
            <a:ext cx="12286800" cy="2233440"/>
          </a:xfrm>
          <a:custGeom>
            <a:avLst/>
            <a:gdLst>
              <a:gd name="textAreaLeft" fmla="*/ 0 w 12286800"/>
              <a:gd name="textAreaRight" fmla="*/ 12287160 w 12286800"/>
              <a:gd name="textAreaTop" fmla="*/ 0 h 2233440"/>
              <a:gd name="textAreaBottom" fmla="*/ 2233800 h 2233440"/>
            </a:gdLst>
            <a:ahLst/>
            <a:rect l="textAreaLeft" t="textAreaTop" r="textAreaRight" b="textAreaBottom"/>
            <a:pathLst>
              <a:path w="12287250" h="2233915">
                <a:moveTo>
                  <a:pt x="0" y="1120548"/>
                </a:moveTo>
                <a:cubicBezTo>
                  <a:pt x="2081212" y="869723"/>
                  <a:pt x="2430386" y="-152174"/>
                  <a:pt x="3146878" y="19276"/>
                </a:cubicBezTo>
                <a:cubicBezTo>
                  <a:pt x="3863370" y="190726"/>
                  <a:pt x="2775555" y="1879978"/>
                  <a:pt x="4298950" y="2149248"/>
                </a:cubicBezTo>
                <a:cubicBezTo>
                  <a:pt x="5822345" y="2418518"/>
                  <a:pt x="9128125" y="1990498"/>
                  <a:pt x="12287250" y="1634898"/>
                </a:cubicBezTo>
              </a:path>
            </a:pathLst>
          </a:cu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矩形 60"/>
          <p:cNvSpPr/>
          <p:nvPr/>
        </p:nvSpPr>
        <p:spPr>
          <a:xfrm>
            <a:off x="0" y="1706760"/>
            <a:ext cx="289800" cy="9180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文本框 61"/>
          <p:cNvSpPr/>
          <p:nvPr/>
        </p:nvSpPr>
        <p:spPr>
          <a:xfrm>
            <a:off x="439200" y="1637280"/>
            <a:ext cx="3154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62626"/>
                </a:solidFill>
                <a:latin typeface="汉仪粗宋简"/>
                <a:ea typeface="汉仪粗宋简"/>
              </a:rPr>
              <a:t>在此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62"/>
          <p:cNvSpPr/>
          <p:nvPr/>
        </p:nvSpPr>
        <p:spPr>
          <a:xfrm>
            <a:off x="439200" y="2166120"/>
            <a:ext cx="27990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262626"/>
                </a:solidFill>
                <a:latin typeface="汉仪粗宋简"/>
                <a:ea typeface="汉仪粗宋简"/>
              </a:rPr>
              <a:t>Input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直接连接符 63"/>
          <p:cNvCxnSpPr/>
          <p:nvPr/>
        </p:nvCxnSpPr>
        <p:spPr>
          <a:xfrm>
            <a:off x="3238200" y="1906200"/>
            <a:ext cx="1640520" cy="360"/>
          </a:xfrm>
          <a:prstGeom prst="straightConnector1">
            <a:avLst/>
          </a:prstGeom>
          <a:ln w="38100">
            <a:solidFill>
              <a:srgbClr val="00b0f0"/>
            </a:solidFill>
            <a:prstDash val="lgDash"/>
            <a:headEnd len="med" type="oval" w="med"/>
            <a:tailEnd len="med" type="triangle" w="med"/>
          </a:ln>
        </p:spPr>
      </p:cxn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95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7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2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7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4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900"/>
                            </p:stCondLst>
                            <p:childTnLst>
                              <p:par>
                                <p:cTn id="1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4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65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9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150"/>
                            </p:stCondLst>
                            <p:childTnLst>
                              <p:par>
                                <p:cTn id="1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任意多边形 3"/>
          <p:cNvSpPr/>
          <p:nvPr/>
        </p:nvSpPr>
        <p:spPr>
          <a:xfrm>
            <a:off x="0" y="4114800"/>
            <a:ext cx="12229920" cy="2742840"/>
          </a:xfrm>
          <a:custGeom>
            <a:avLst/>
            <a:gdLst>
              <a:gd name="textAreaLeft" fmla="*/ 0 w 12229920"/>
              <a:gd name="textAreaRight" fmla="*/ 12230280 w 12229920"/>
              <a:gd name="textAreaTop" fmla="*/ 0 h 2742840"/>
              <a:gd name="textAreaBottom" fmla="*/ 2743200 h 2742840"/>
            </a:gdLst>
            <a:ahLst/>
            <a:rect l="textAreaLeft" t="textAreaTop" r="textAreaRight" b="textAreaBottom"/>
            <a:pathLst>
              <a:path w="12230100" h="3018044">
                <a:moveTo>
                  <a:pt x="0" y="1227344"/>
                </a:moveTo>
                <a:cubicBezTo>
                  <a:pt x="2646362" y="573294"/>
                  <a:pt x="5292725" y="-80756"/>
                  <a:pt x="6819900" y="8144"/>
                </a:cubicBezTo>
                <a:cubicBezTo>
                  <a:pt x="8347075" y="97044"/>
                  <a:pt x="8261350" y="1643269"/>
                  <a:pt x="9163050" y="1760744"/>
                </a:cubicBezTo>
                <a:cubicBezTo>
                  <a:pt x="10064750" y="1878219"/>
                  <a:pt x="11147425" y="1295606"/>
                  <a:pt x="12230100" y="712994"/>
                </a:cubicBezTo>
                <a:lnTo>
                  <a:pt x="12230100" y="3018044"/>
                </a:lnTo>
                <a:lnTo>
                  <a:pt x="19050" y="3018044"/>
                </a:lnTo>
                <a:lnTo>
                  <a:pt x="0" y="1227344"/>
                </a:lnTo>
                <a:close/>
              </a:path>
            </a:pathLst>
          </a:custGeom>
          <a:solidFill>
            <a:srgbClr val="0088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任意多边形 1"/>
          <p:cNvSpPr/>
          <p:nvPr/>
        </p:nvSpPr>
        <p:spPr>
          <a:xfrm>
            <a:off x="-26280" y="4572000"/>
            <a:ext cx="12246480" cy="2418840"/>
          </a:xfrm>
          <a:custGeom>
            <a:avLst/>
            <a:gdLst>
              <a:gd name="textAreaLeft" fmla="*/ 0 w 12246480"/>
              <a:gd name="textAreaRight" fmla="*/ 12246840 w 12246480"/>
              <a:gd name="textAreaTop" fmla="*/ 0 h 2418840"/>
              <a:gd name="textAreaBottom" fmla="*/ 2419200 h 2418840"/>
            </a:gdLst>
            <a:ahLst/>
            <a:rect l="textAreaLeft" t="textAreaTop" r="textAreaRight" b="textAreaBottom"/>
            <a:pathLst>
              <a:path w="12246864" h="2743620">
                <a:moveTo>
                  <a:pt x="11775" y="962898"/>
                </a:moveTo>
                <a:cubicBezTo>
                  <a:pt x="1892962" y="319960"/>
                  <a:pt x="5399145" y="-156667"/>
                  <a:pt x="6874764" y="48045"/>
                </a:cubicBezTo>
                <a:cubicBezTo>
                  <a:pt x="8350383" y="252757"/>
                  <a:pt x="7970139" y="2080045"/>
                  <a:pt x="8865489" y="2191170"/>
                </a:cubicBezTo>
                <a:cubicBezTo>
                  <a:pt x="9760839" y="2302295"/>
                  <a:pt x="11651552" y="814808"/>
                  <a:pt x="12246864" y="714795"/>
                </a:cubicBezTo>
                <a:lnTo>
                  <a:pt x="12246864" y="2743620"/>
                </a:lnTo>
                <a:lnTo>
                  <a:pt x="0" y="2686470"/>
                </a:lnTo>
                <a:lnTo>
                  <a:pt x="11775" y="962898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任意多边形 4"/>
          <p:cNvSpPr/>
          <p:nvPr/>
        </p:nvSpPr>
        <p:spPr>
          <a:xfrm>
            <a:off x="-26280" y="3981600"/>
            <a:ext cx="12256200" cy="2126160"/>
          </a:xfrm>
          <a:custGeom>
            <a:avLst/>
            <a:gdLst>
              <a:gd name="textAreaLeft" fmla="*/ 0 w 12256200"/>
              <a:gd name="textAreaRight" fmla="*/ 12256560 w 12256200"/>
              <a:gd name="textAreaTop" fmla="*/ 0 h 2126160"/>
              <a:gd name="textAreaBottom" fmla="*/ 2126520 h 2126160"/>
            </a:gdLst>
            <a:ahLst/>
            <a:rect l="textAreaLeft" t="textAreaTop" r="textAreaRight" b="textAreaBottom"/>
            <a:pathLst>
              <a:path w="12192000" h="2552255">
                <a:moveTo>
                  <a:pt x="0" y="1073438"/>
                </a:moveTo>
                <a:cubicBezTo>
                  <a:pt x="2154237" y="303500"/>
                  <a:pt x="5178425" y="-180687"/>
                  <a:pt x="6667500" y="63788"/>
                </a:cubicBezTo>
                <a:cubicBezTo>
                  <a:pt x="8156575" y="308263"/>
                  <a:pt x="8013700" y="2413288"/>
                  <a:pt x="8934450" y="2540288"/>
                </a:cubicBezTo>
                <a:cubicBezTo>
                  <a:pt x="9855200" y="2667288"/>
                  <a:pt x="11101387" y="1762413"/>
                  <a:pt x="12192000" y="825788"/>
                </a:cubicBezTo>
              </a:path>
            </a:pathLst>
          </a:cu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6" name="文本框 2"/>
          <p:cNvSpPr/>
          <p:nvPr/>
        </p:nvSpPr>
        <p:spPr>
          <a:xfrm>
            <a:off x="4191480" y="1515600"/>
            <a:ext cx="38088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汉仪粗宋简"/>
                <a:ea typeface="汉仪粗宋简"/>
              </a:rPr>
              <a:t>谢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6920" cy="57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31880" y="1270080"/>
            <a:ext cx="8927640" cy="52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881064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  <Words>283</Words>
  <Paragraphs>4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10:59:17Z</dcterms:created>
  <dc:creator>吴杰</dc:creator>
  <dc:description/>
  <dc:language>en-US</dc:language>
  <cp:lastModifiedBy>yu wang</cp:lastModifiedBy>
  <dcterms:modified xsi:type="dcterms:W3CDTF">2015-08-03T12:24:05Z</dcterms:modified>
  <cp:revision>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6</vt:r8>
  </property>
</Properties>
</file>