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262-8889-468D-873B-95548712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96A-9F78-4A27-8887-67A2BDC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027-7747-4AAF-AB25-3326D54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891-D846-4C69-85B5-433806DF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B6D-E976-44CA-B542-A8C017D1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E82-5500-4B3F-A718-90E9A62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DC8-516A-4A73-BFF7-50C61C8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74A-1260-4289-9345-30CF2D9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33C-3388-4D90-9EA6-6DE86F37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0FC-E0A4-46D5-ABDF-634B3928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AA5-0BBE-4BBA-8616-8692D8DD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4DD-9524-4365-B898-D82A152F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CB9B-E41E-4D21-BAAA-E1D2FD28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6C7-2B71-4D67-810E-FAA253C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2D2D-0A22-4F4D-B34F-EC0EC81E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3CE3-0890-461E-841C-C348E47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66DD-9576-4173-96D8-02607D62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04E-06A7-4E53-9D28-A157B94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F40B-DA74-41D7-89B7-7499BAC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7D9-32F8-4E64-9F57-B8C180A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25D-039E-45C5-B397-B9CC17E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F258-FD42-4586-A091-66D773A5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DFE-2C7E-4E4C-8632-3EC0CDDD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8709-86AF-42B1-BE85-B642078F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5840" y="5000760"/>
            <a:ext cx="650052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28760" y="1000080"/>
            <a:ext cx="2714400" cy="23569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14800" y="1000080"/>
            <a:ext cx="2714400" cy="23569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000840" y="1000080"/>
            <a:ext cx="2714400" cy="23569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28760" y="3643200"/>
            <a:ext cx="6857640" cy="16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357120" y="428760"/>
            <a:ext cx="4500360" cy="278568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929120" y="3286080"/>
            <a:ext cx="2428560" cy="199980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2428920" y="3286080"/>
            <a:ext cx="2428560" cy="199980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4929120" y="428760"/>
            <a:ext cx="2428560" cy="27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357120" y="428760"/>
            <a:ext cx="3642840" cy="521460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143240" y="3500280"/>
            <a:ext cx="2857320" cy="21427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143240" y="428760"/>
            <a:ext cx="43574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143680"/>
            <a:ext cx="604332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582C6BA-9277-4349-8C3C-EE1C847095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716932-785C-45D2-8FF1-A53DBF0B09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pt-to-dvd.com/ppt2dvd/overview.html" TargetMode="External"/><Relationship Id="rId2" Type="http://schemas.openxmlformats.org/officeDocument/2006/relationships/hyperlink" Target="http://www.ppt-to-dvd.com/ppt-to-video-overview.html" TargetMode="External"/><Relationship Id="rId3" Type="http://schemas.openxmlformats.org/officeDocument/2006/relationships/hyperlink" Target="http://www.ppt-to-dvd.com/ppt2flash_std/overview.html" TargetMode="External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28760" y="5143680"/>
            <a:ext cx="860760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筑工程系毕业设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1000080" y="5799600"/>
            <a:ext cx="40003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chemeClr val="accent3">
                    <a:lumMod val="75000"/>
                  </a:schemeClr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占位符 13" descr="study028.jpg"/>
          <p:cNvPicPr/>
          <p:nvPr/>
        </p:nvPicPr>
        <p:blipFill>
          <a:blip r:embed="rId1"/>
          <a:srcRect l="11406" t="0" r="11406" b="0"/>
          <a:stretch/>
        </p:blipFill>
        <p:spPr>
          <a:xfrm>
            <a:off x="428760" y="1000080"/>
            <a:ext cx="2714400" cy="23569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4" name="图片占位符 15" descr="study025.jpg"/>
          <p:cNvPicPr/>
          <p:nvPr/>
        </p:nvPicPr>
        <p:blipFill>
          <a:blip r:embed="rId2"/>
          <a:srcRect l="7127" t="0" r="7127" b="0"/>
          <a:stretch/>
        </p:blipFill>
        <p:spPr>
          <a:xfrm>
            <a:off x="3214800" y="1000080"/>
            <a:ext cx="2714400" cy="23569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5" name="图片占位符 16" descr="study015.jpg"/>
          <p:cNvPicPr/>
          <p:nvPr/>
        </p:nvPicPr>
        <p:blipFill>
          <a:blip r:embed="rId3"/>
          <a:srcRect l="11634" t="0" r="11634" b="0"/>
          <a:stretch/>
        </p:blipFill>
        <p:spPr>
          <a:xfrm>
            <a:off x="6000840" y="1000080"/>
            <a:ext cx="2714400" cy="23569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28760" y="3643200"/>
            <a:ext cx="7071840" cy="16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n\'t be disappointed on the journey of life. There are friends in the world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Seize your chance and value your opportunities. May our friendship be everlasting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占位符 9" descr="study026.jpg"/>
          <p:cNvPicPr/>
          <p:nvPr/>
        </p:nvPicPr>
        <p:blipFill>
          <a:blip r:embed="rId1"/>
          <a:srcRect l="0" t="9116" r="0" b="9116"/>
          <a:stretch/>
        </p:blipFill>
        <p:spPr>
          <a:xfrm>
            <a:off x="357120" y="428760"/>
            <a:ext cx="4500360" cy="278568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8" name="图片占位符 13" descr="study040.jpg"/>
          <p:cNvPicPr/>
          <p:nvPr/>
        </p:nvPicPr>
        <p:blipFill>
          <a:blip r:embed="rId2"/>
          <a:srcRect l="0" t="2406" r="0" b="2406"/>
          <a:stretch/>
        </p:blipFill>
        <p:spPr>
          <a:xfrm>
            <a:off x="4929120" y="3286080"/>
            <a:ext cx="2428560" cy="199980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9" name="图片占位符 12" descr="study010.jpg"/>
          <p:cNvPicPr/>
          <p:nvPr/>
        </p:nvPicPr>
        <p:blipFill>
          <a:blip r:embed="rId3"/>
          <a:srcRect l="9537" t="0" r="9537" b="0"/>
          <a:stretch/>
        </p:blipFill>
        <p:spPr>
          <a:xfrm>
            <a:off x="2428920" y="3286080"/>
            <a:ext cx="2428560" cy="199980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000760" y="714240"/>
            <a:ext cx="23569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ny things, the happ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t friendship brings is neve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faithful friend is beyo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, and there is 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占位符 3" descr="study016.jpg"/>
          <p:cNvPicPr/>
          <p:nvPr/>
        </p:nvPicPr>
        <p:blipFill>
          <a:blip r:embed="rId1"/>
          <a:srcRect l="0" t="2405" r="0" b="2405"/>
          <a:stretch/>
        </p:blipFill>
        <p:spPr>
          <a:xfrm>
            <a:off x="357120" y="428760"/>
            <a:ext cx="3642840" cy="521460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92" name="图片占位符 8" descr="study008.jpg"/>
          <p:cNvPicPr/>
          <p:nvPr/>
        </p:nvPicPr>
        <p:blipFill>
          <a:blip r:embed="rId2"/>
          <a:srcRect l="5573" t="0" r="5573" b="0"/>
          <a:stretch/>
        </p:blipFill>
        <p:spPr>
          <a:xfrm>
            <a:off x="4143240" y="3500280"/>
            <a:ext cx="2857320" cy="21427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143240" y="1071720"/>
            <a:ext cx="392868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have brains in your head. You have feet i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shoes. You can steer yourself in any direc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choose. You're on your own. And you kno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at you know. You are the guy who'll deci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re to go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755640" y="645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321444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占位符 1"/>
          <p:cNvSpPr/>
          <p:nvPr/>
        </p:nvSpPr>
        <p:spPr>
          <a:xfrm>
            <a:off x="1214280" y="1214280"/>
            <a:ext cx="714348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en-US" sz="2200" spc="-1" strike="noStrike">
                <a:solidFill>
                  <a:srgbClr val="ff8119"/>
                </a:solidFill>
                <a:latin typeface="Calibri"/>
                <a:hlinkClick r:id="rId1"/>
              </a:rPr>
              <a:t>Play Presentations on TV with Stunning DVD me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en-US" sz="2200" spc="-1" strike="noStrike">
                <a:solidFill>
                  <a:srgbClr val="ff8119"/>
                </a:solidFill>
                <a:latin typeface="Calibri"/>
                <a:hlinkClick r:id="rId2"/>
              </a:rPr>
              <a:t>Share Favorite Shows in most Popular Video Form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2200" spc="-1" strike="noStrike">
                <a:solidFill>
                  <a:srgbClr val="ff8119"/>
                </a:solidFill>
                <a:latin typeface="Calibri"/>
                <a:hlinkClick r:id="rId3"/>
              </a:rPr>
              <a:t>Show Your Best Presentations within Web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建筑工程系毕业生毕业设计PPT模板-www.51pptmoban.com</Template>
  <TotalTime>5</TotalTime>
  <Application>LibreOffice/7.4.7.2$Linux_X86_64 LibreOffice_project/40$Build-2</Application>
  <AppVersion>15.0000</AppVersion>
  <Words>322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2:59:50Z</dcterms:created>
  <dc:creator>for_yang@qq.com</dc:creator>
  <dc:description/>
  <dc:language>en-US</dc:language>
  <cp:lastModifiedBy>yu wang</cp:lastModifiedBy>
  <dcterms:modified xsi:type="dcterms:W3CDTF">2015-08-03T12:21:38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