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AF9-0499-456F-96B5-BC8460A6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944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E22-963E-429D-A1BA-D1C01F32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876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36F-5ACF-4D23-A518-18127E87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6432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6432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619-3BB0-4D6E-B3D3-1E9B083D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1C3F-9FDF-49F7-9796-4EACAAFA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7E3F-77D8-47D2-8ECB-6848620C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1D10-8FAF-4ECE-A8CF-EC2BFC2C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15A2-E69B-4A9F-BFB9-B8ED7261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3442-BF53-4AA5-AED2-A12125BD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78483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5887-367E-43CD-9D72-EA0CA336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5EA6-8678-44D7-B9B7-BC6B7D77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C45-CA48-493F-8151-81E7EAF7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76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DAB6-3F55-486A-B4E2-A1BF4FAF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00C1-AB3B-40BE-8E61-33CCCB8A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8944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C0BB-980E-494E-8519-F7DEA584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7876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CF57-9E4E-48D9-AAE1-7EA4EAF3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1076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6432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1076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6432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991A-1D9B-42D9-96A5-18DC4655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EF54-FD58-4542-9B6B-C23E6D1F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A41A-8265-4D40-A5F8-9ED0E569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CA97-FE21-450F-A2C0-0FC626D0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F820-7FD4-46D3-8055-14E0FECB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5A564-1EBE-4967-B129-5D254DA7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2FD-B20B-42B0-9176-756083B6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78483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A956B-FEAD-4E79-9DC5-C320CB51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7690-D85F-4095-87C0-0F03736F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7876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302A4-5749-4211-8D24-1BF74C3C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57C2-E3A5-48D8-AA9B-D5634C24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8944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5C15-D11D-4EB8-B2DE-026B2B3D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7876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CDAD9-377A-48A7-8146-B95EB765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1076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6432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1076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76432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F9C06-5F4F-4CC0-9C17-865C6BCE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918-7903-4D9F-B6DE-C9C77CC5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624-B5E2-4029-8FB8-83BEAF7F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78483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382-D08D-4199-A44A-819DA890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AB5-B4B7-4545-A5AF-916A918B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876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507-0C79-432A-9317-11645439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BB4-CF85-44DF-B491-B61513B7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mars_spinning_hg_clr"/>
          <p:cNvPicPr/>
          <p:nvPr/>
        </p:nvPicPr>
        <p:blipFill>
          <a:blip r:embed="rId3"/>
          <a:stretch/>
        </p:blipFill>
        <p:spPr>
          <a:xfrm>
            <a:off x="6877080" y="49528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36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8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9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7057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013FC8-C8EE-48CB-9986-FD06DB0BC9F6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mars_spinning_hg_clr"/>
          <p:cNvPicPr/>
          <p:nvPr/>
        </p:nvPicPr>
        <p:blipFill>
          <a:blip r:embed="rId3"/>
          <a:stretch/>
        </p:blipFill>
        <p:spPr>
          <a:xfrm>
            <a:off x="6877080" y="49528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3847680" cy="525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单击此处编辑母版文本样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 Black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 Black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457880" y="1143000"/>
            <a:ext cx="3847680" cy="525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单击此处编辑母版文本样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 Black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 Black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049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67057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3F11AC-FBDC-4042-A36E-99E4F05DD540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4" descr="mars_spinning_hg_clr"/>
          <p:cNvPicPr/>
          <p:nvPr/>
        </p:nvPicPr>
        <p:blipFill>
          <a:blip r:embed="rId3"/>
          <a:stretch/>
        </p:blipFill>
        <p:spPr>
          <a:xfrm>
            <a:off x="6877080" y="49528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单击此处编辑母版文本样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 Black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 Black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9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057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E1C238-40A2-40E3-8E43-012F4EA27752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"/>
          <p:cNvSpPr/>
          <p:nvPr/>
        </p:nvSpPr>
        <p:spPr>
          <a:xfrm>
            <a:off x="1496880" y="908640"/>
            <a:ext cx="4763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科幻创意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36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364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Picture 6" descr="ufo_spin_hg_clr"/>
          <p:cNvPicPr/>
          <p:nvPr/>
        </p:nvPicPr>
        <p:blipFill>
          <a:blip r:embed="rId2"/>
          <a:stretch/>
        </p:blipFill>
        <p:spPr>
          <a:xfrm>
            <a:off x="2905200" y="2643120"/>
            <a:ext cx="3333240" cy="15714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-108360" y="6453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 Black"/>
              </a:rPr>
              <a:t> 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 </a:t>
            </a: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mars_strikes_back">
  <a:themeElements>
    <a:clrScheme name="a_new_lif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rs_strikes_back">
  <a:themeElements>
    <a:clrScheme name="a_new_lif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ars_strikes_back">
  <a:themeElements>
    <a:clrScheme name="a_new_lif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ars_strikes_back</Template>
  <TotalTime>5</TotalTime>
  <Application>LibreOffice/7.4.7.2$Linux_X86_64 LibreOffice_project/40$Build-2</Application>
  <AppVersion>15.0000</AppVersion>
  <Words>189</Words>
  <Paragraphs>37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08:14:39Z</dcterms:created>
  <dc:creator>微软中国</dc:creator>
  <dc:description/>
  <dc:language>en-US</dc:language>
  <cp:lastModifiedBy>yu wang</cp:lastModifiedBy>
  <dcterms:modified xsi:type="dcterms:W3CDTF">2015-08-03T12:23:3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