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FA4-2FA6-4F8C-BF95-3E8A41E3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ADD-D704-4FBB-A357-01BDC203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70E-5D10-449E-A54F-BAA29CCB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C58-CF8F-4304-B153-6D65A91D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9D82-B1C0-45EA-A357-DFF00B58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D2F2-4B1F-420A-A77A-2D92F891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A5A6-9807-4AA0-BB64-298A300C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86A9-7732-449B-A1F4-19EC790E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7018-F658-4026-8143-11B95BC2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4796-89DA-40A0-941B-BAB7C1A6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073C-0B4B-4030-BD45-04275178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96C-4F8A-45DC-BBD9-F2306FE3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6D50-71DC-404E-B13E-799B6A38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0F54-3E56-402C-8554-B3D8D7BD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232D-A78D-4821-8D63-1BFA2E26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32D1-2FC3-440B-9944-0A9A163B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1347-4B5A-4246-BB48-1F1632F6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7FD-E537-4B23-B65C-BEF3D4C0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027-32F6-4693-8152-CA45F2EA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0D0-8FC9-4B87-9724-E2ACB7C2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38F-2CD6-476F-9CC5-106F1F30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3C9-FAB0-4C15-A102-7AFB61B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8FA-3FF5-4012-A1CF-A5517BB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AED-5A75-47DD-AA41-E519C6C3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나눔고딕"/>
                <a:ea typeface="나눔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16626C-0F48-488D-8B66-6AF427AFFBEA}" type="slidenum">
              <a: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나눔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나눔고딕"/>
                <a:ea typeface="나눔고딕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나눔고딕"/>
                <a:ea typeface="나눔고딕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나눔고딕"/>
                <a:ea typeface="나눔고딕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나눔고딕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나눔고딕"/>
                <a:ea typeface="나눔고딕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나눔고딕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242959-E676-4D1D-A7FE-AB6C9A0646DB}" type="slidenum">
              <a: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angeul.naver.com/font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187640" y="5589360"/>
            <a:ext cx="396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398" strike="noStrike">
                <a:solidFill>
                  <a:srgbClr val="000000"/>
                </a:solidFill>
                <a:latin typeface="나눔명조"/>
                <a:ea typeface="나눔명조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187640" y="6165360"/>
            <a:ext cx="223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나눔명조"/>
                <a:ea typeface="나눔명조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21320" y="1145880"/>
            <a:ext cx="7438680" cy="3866760"/>
          </a:xfrm>
          <a:prstGeom prst="rect">
            <a:avLst/>
          </a:prstGeom>
          <a:ln w="9525">
            <a:noFill/>
          </a:ln>
        </p:spPr>
      </p:pic>
      <p:sp>
        <p:nvSpPr>
          <p:cNvPr id="85" name="矩形 1"/>
          <p:cNvSpPr/>
          <p:nvPr/>
        </p:nvSpPr>
        <p:spPr>
          <a:xfrm>
            <a:off x="2521080" y="52380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酷炫图画设计</a:t>
            </a:r>
            <a:r>
              <a:rPr b="0" lang="en-US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나눔고딕"/>
                <a:ea typeface="나눔고딕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 </a:t>
            </a:r>
            <a:r>
              <a:rPr b="1" lang="en-US" sz="105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           </a:t>
            </a:r>
            <a:r>
              <a:rPr b="0" lang="en-US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395640" y="3069000"/>
            <a:ext cx="396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398" strike="noStrike">
                <a:solidFill>
                  <a:srgbClr val="000000"/>
                </a:solidFill>
                <a:latin typeface="나눔명조"/>
                <a:ea typeface="나눔명조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95640" y="3645000"/>
            <a:ext cx="223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000000"/>
                </a:solidFill>
                <a:latin typeface="나눔명조"/>
                <a:ea typeface="나눔명조"/>
              </a:rPr>
              <a:t>작가 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3"/>
          <p:cNvSpPr/>
          <p:nvPr/>
        </p:nvSpPr>
        <p:spPr>
          <a:xfrm>
            <a:off x="734400" y="6382080"/>
            <a:ext cx="1605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800" spc="-1" strike="noStrike">
                <a:solidFill>
                  <a:srgbClr val="a6a6a6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a6a6a6"/>
                </a:solidFill>
                <a:latin typeface="나눔고딕"/>
                <a:ea typeface="나눔고딕"/>
              </a:rPr>
              <a:t>.  </a:t>
            </a:r>
            <a:r>
              <a:rPr b="0" lang="ko-KR" sz="800" spc="-1" strike="noStrike" u="sng">
                <a:solidFill>
                  <a:srgbClr val="3a3a3a"/>
                </a:solidFill>
                <a:uFillTx/>
                <a:latin typeface="나눔고딕"/>
                <a:ea typeface="나눔고딕"/>
                <a:hlinkClick r:id="rId1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4500000" y="476640"/>
            <a:ext cx="2230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나눔명조"/>
                <a:ea typeface="나눔명조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660360" y="476640"/>
            <a:ext cx="2483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나눔명조"/>
                <a:ea typeface="나눔명조"/>
              </a:rPr>
              <a:t>Occu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4500000" y="476640"/>
            <a:ext cx="3744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ko-KR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작가의 작품에 대한 해설 및 소개내용을 여기에 적어 주세요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본문 내용의 글자크기는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9pt, </a:t>
            </a:r>
            <a:r>
              <a:rPr b="0" lang="ko-KR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행간은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1.5, </a:t>
            </a:r>
            <a:r>
              <a:rPr b="0" lang="ko-KR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정렬방식은 양쪽 맞춤을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500000" y="4581000"/>
            <a:ext cx="3168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나눔명조"/>
                <a:ea typeface="나눔명조"/>
              </a:rPr>
              <a:t>2011.00  </a:t>
            </a:r>
            <a:r>
              <a:rPr b="0" lang="ko-KR" sz="1100" spc="-1" strike="noStrike">
                <a:solidFill>
                  <a:srgbClr val="000000"/>
                </a:solidFill>
                <a:latin typeface="나눔명조"/>
                <a:ea typeface="나눔명조"/>
              </a:rPr>
              <a:t>작성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428000" y="620640"/>
            <a:ext cx="4070520" cy="5616360"/>
          </a:xfrm>
          <a:prstGeom prst="rect">
            <a:avLst/>
          </a:prstGeom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95" name="그룹 6"/>
          <p:cNvGrpSpPr/>
          <p:nvPr/>
        </p:nvGrpSpPr>
        <p:grpSpPr>
          <a:xfrm>
            <a:off x="467640" y="514440"/>
            <a:ext cx="2952000" cy="461520"/>
            <a:chOff x="467640" y="514440"/>
            <a:chExt cx="2952000" cy="461520"/>
          </a:xfrm>
        </p:grpSpPr>
        <p:sp>
          <p:nvSpPr>
            <p:cNvPr id="96" name="TextBox 7"/>
            <p:cNvSpPr/>
            <p:nvPr/>
          </p:nvSpPr>
          <p:spPr>
            <a:xfrm>
              <a:off x="467640" y="51444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8"/>
            <p:cNvSpPr/>
            <p:nvPr/>
          </p:nvSpPr>
          <p:spPr>
            <a:xfrm>
              <a:off x="467640" y="67896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79280" y="692640"/>
            <a:ext cx="6804720" cy="5039640"/>
          </a:xfrm>
          <a:prstGeom prst="rect">
            <a:avLst/>
          </a:prstGeom>
          <a:ln w="9525">
            <a:noFill/>
          </a:ln>
        </p:spPr>
      </p:pic>
      <p:grpSp>
        <p:nvGrpSpPr>
          <p:cNvPr id="99" name="그룹 5"/>
          <p:cNvGrpSpPr/>
          <p:nvPr/>
        </p:nvGrpSpPr>
        <p:grpSpPr>
          <a:xfrm>
            <a:off x="1619640" y="5877360"/>
            <a:ext cx="2952000" cy="461520"/>
            <a:chOff x="1619640" y="5877360"/>
            <a:chExt cx="2952000" cy="461520"/>
          </a:xfrm>
        </p:grpSpPr>
        <p:sp>
          <p:nvSpPr>
            <p:cNvPr id="100" name="TextBox 9"/>
            <p:cNvSpPr/>
            <p:nvPr/>
          </p:nvSpPr>
          <p:spPr>
            <a:xfrm>
              <a:off x="1619640" y="587736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0"/>
            <p:cNvSpPr/>
            <p:nvPr/>
          </p:nvSpPr>
          <p:spPr>
            <a:xfrm>
              <a:off x="1619640" y="604188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6"/>
          <p:cNvSpPr/>
          <p:nvPr/>
        </p:nvSpPr>
        <p:spPr>
          <a:xfrm>
            <a:off x="1321200" y="476640"/>
            <a:ext cx="334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나눔고딕"/>
                <a:ea typeface="나눔고딕"/>
              </a:rPr>
              <a:t>收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898" t="1215" r="3068" b="3029"/>
          <a:stretch/>
        </p:blipFill>
        <p:spPr>
          <a:xfrm>
            <a:off x="4716000" y="548640"/>
            <a:ext cx="3886920" cy="5417640"/>
          </a:xfrm>
          <a:prstGeom prst="rect">
            <a:avLst/>
          </a:prstGeom>
          <a:ln w="9525">
            <a:noFill/>
          </a:ln>
          <a:effectLst>
            <a:outerShdw algn="ctr" blurRad="63360" rotWithShape="0">
              <a:srgbClr val="000000">
                <a:alpha val="40000"/>
              </a:srgbClr>
            </a:outerShdw>
          </a:effectLst>
        </p:spPr>
      </p:pic>
      <p:grpSp>
        <p:nvGrpSpPr>
          <p:cNvPr id="104" name="그룹 5"/>
          <p:cNvGrpSpPr/>
          <p:nvPr/>
        </p:nvGrpSpPr>
        <p:grpSpPr>
          <a:xfrm>
            <a:off x="467640" y="548640"/>
            <a:ext cx="2952000" cy="461520"/>
            <a:chOff x="467640" y="548640"/>
            <a:chExt cx="2952000" cy="461520"/>
          </a:xfrm>
        </p:grpSpPr>
        <p:sp>
          <p:nvSpPr>
            <p:cNvPr id="105" name="TextBox 9"/>
            <p:cNvSpPr/>
            <p:nvPr/>
          </p:nvSpPr>
          <p:spPr>
            <a:xfrm>
              <a:off x="467640" y="54864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0"/>
            <p:cNvSpPr/>
            <p:nvPr/>
          </p:nvSpPr>
          <p:spPr>
            <a:xfrm>
              <a:off x="467640" y="71316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58640" y="548640"/>
            <a:ext cx="5457240" cy="3528000"/>
          </a:xfrm>
          <a:prstGeom prst="rect">
            <a:avLst/>
          </a:prstGeom>
          <a:ln w="9525">
            <a:noFill/>
          </a:ln>
        </p:spPr>
      </p:pic>
      <p:grpSp>
        <p:nvGrpSpPr>
          <p:cNvPr id="108" name="그룹 4"/>
          <p:cNvGrpSpPr/>
          <p:nvPr/>
        </p:nvGrpSpPr>
        <p:grpSpPr>
          <a:xfrm>
            <a:off x="3060000" y="4474800"/>
            <a:ext cx="2952000" cy="461880"/>
            <a:chOff x="3060000" y="4474800"/>
            <a:chExt cx="2952000" cy="461880"/>
          </a:xfrm>
        </p:grpSpPr>
        <p:sp>
          <p:nvSpPr>
            <p:cNvPr id="109" name="TextBox 5"/>
            <p:cNvSpPr/>
            <p:nvPr/>
          </p:nvSpPr>
          <p:spPr>
            <a:xfrm>
              <a:off x="3060000" y="447480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6"/>
            <p:cNvSpPr/>
            <p:nvPr/>
          </p:nvSpPr>
          <p:spPr>
            <a:xfrm>
              <a:off x="3060000" y="463968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5"/>
          <p:cNvSpPr/>
          <p:nvPr/>
        </p:nvSpPr>
        <p:spPr>
          <a:xfrm>
            <a:off x="32760" y="6381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59595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165320" y="1124640"/>
            <a:ext cx="7438680" cy="3866760"/>
          </a:xfrm>
          <a:prstGeom prst="rect">
            <a:avLst/>
          </a:prstGeom>
          <a:ln w="9525">
            <a:noFill/>
          </a:ln>
        </p:spPr>
      </p:pic>
      <p:grpSp>
        <p:nvGrpSpPr>
          <p:cNvPr id="113" name="그룹 5"/>
          <p:cNvGrpSpPr/>
          <p:nvPr/>
        </p:nvGrpSpPr>
        <p:grpSpPr>
          <a:xfrm>
            <a:off x="1331640" y="5445360"/>
            <a:ext cx="2952000" cy="461520"/>
            <a:chOff x="1331640" y="5445360"/>
            <a:chExt cx="2952000" cy="461520"/>
          </a:xfrm>
        </p:grpSpPr>
        <p:sp>
          <p:nvSpPr>
            <p:cNvPr id="114" name="TextBox 6"/>
            <p:cNvSpPr/>
            <p:nvPr/>
          </p:nvSpPr>
          <p:spPr>
            <a:xfrm>
              <a:off x="1331640" y="544536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9"/>
            <p:cNvSpPr/>
            <p:nvPr/>
          </p:nvSpPr>
          <p:spPr>
            <a:xfrm>
              <a:off x="1331640" y="560988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테마">
  <a:themeElements>
    <a:clrScheme name="사용자 지정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595959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테마">
  <a:themeElements>
    <a:clrScheme name="사용자 지정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595959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  <Words>250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6:09:17Z</dcterms:created>
  <dc:creator>네이버 한글캠페인</dc:creator>
  <dc:description/>
  <dc:language>en-US</dc:language>
  <cp:lastModifiedBy>yu wang</cp:lastModifiedBy>
  <dcterms:modified xsi:type="dcterms:W3CDTF">2015-08-03T12:25:16Z</dcterms:modified>
  <cp:revision>4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