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32A-60C5-4A67-8333-1E377F6E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41F-8FC4-49A6-B82B-CAEEF406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9EB-AD1E-4D94-9C46-DA39B346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996-6AA4-42E0-A2BB-F4E13809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B18-8DC9-4CBB-B529-C52D69E7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16D4-3958-4B96-81D3-AC600B8A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7189-EB98-414D-8ADE-937612F8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D0F-7BD2-41AC-99A4-3317934E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2CF-C621-43E5-81B7-8DBA849B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E72-62DA-42AF-9367-4E963635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445-F045-4A93-8AAB-05681169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E8B-1ADC-479A-A1A1-9979804A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8A7F-9BBE-4F35-9775-ACC49132C9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1848960" y="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立体小雨伞创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1118160" y="1211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3497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54979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1078920" y="1357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5140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6998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497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283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101240" y="1262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783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426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7837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078920" y="121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18572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37836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7121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150560" y="1357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1643040" y="4214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213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6426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95280" y="63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1007640" y="121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6426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44978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140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3:34Z</dcterms:modified>
  <cp:revision>51</cp:revision>
  <dc:subject/>
  <dc:title>幻灯片 1</dc:title>
</cp:coreProperties>
</file>