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136-2AE2-4DFA-B0A6-9193FA55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F72-C43C-464F-A5A5-C3D8736A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F04-F52F-4A33-8F04-A7AA0C4E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3CD-3F29-4A0C-9AFE-2146495A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9870-64BE-414F-97F5-921DE5D2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ABCA-9BE0-4DC9-B0CA-58D7D3E0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3050-D030-4D0B-A686-72EB4F4F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33C7-9431-4676-90E2-4186934F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D865-180B-4647-8906-16A03FBE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B765-4613-4AED-B7C2-6873C377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0F16-9C82-42C3-BE4D-287C401D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45E-4749-410C-AA10-D81C8F5F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37D6-88FC-4B0A-B432-08F65203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BE13-E87E-4353-B628-FD9D49CD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822-DFDE-42DA-857C-F6EB8C2B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71A2-EBC8-4A59-8F4E-CDCF031D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001A-764C-45E2-B055-136B6B31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68D8-7742-495B-B10B-4F3EA81B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49EA-1743-4CE6-9322-9A50F171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E410-0DFB-46B6-B153-2ABFB196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81AB-3F9A-4454-BE6B-BF2FA961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C439-AE22-4313-B4D3-7D8F84E5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904-BFDE-41C2-85D0-D7E2ACD6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E6FB-C672-4990-BA70-DAFE570E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F13B-4B72-451C-9986-77B6AD1A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10EF-D84B-4F54-95CD-0273EA4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5635-05D1-429B-AD38-DE68C33D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B872-90E4-4F70-8ECB-D5641CB0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F9012-C716-45C7-BB55-BE084AD3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3352-8F72-4A76-9E07-CC7ADBB1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F04-B419-49D7-B197-2006308B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4F5-0B1B-41C6-BB49-99CE45B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AAC-723F-4D0D-8BE1-4E05D361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FB5-1419-493D-BED0-137EC643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96F-C617-464C-A2A7-C0B123E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DE5-D33B-49DB-8501-98980EC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181080" y="-316080"/>
            <a:ext cx="10082160" cy="74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5B59-B207-4D6B-B558-9450746E96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-181080" y="-316080"/>
            <a:ext cx="10082160" cy="74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0" y="0"/>
            <a:ext cx="785880" cy="2276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8358120" y="4581360"/>
            <a:ext cx="785880" cy="2276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0" y="2276640"/>
            <a:ext cx="785880" cy="4581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8358120" y="0"/>
            <a:ext cx="785880" cy="4581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F084-7ADC-4B01-ACDD-A0E97CDBA8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1"/>
          <p:cNvSpPr/>
          <p:nvPr/>
        </p:nvSpPr>
        <p:spPr>
          <a:xfrm>
            <a:off x="-181080" y="-316080"/>
            <a:ext cx="10082160" cy="74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0" y="0"/>
            <a:ext cx="785880" cy="2276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8358120" y="4581360"/>
            <a:ext cx="785880" cy="2276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0" y="2276640"/>
            <a:ext cx="785880" cy="4581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8358120" y="0"/>
            <a:ext cx="785880" cy="4581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EA1B-33EC-4088-8486-BA013E997B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hyperlink" Target="http://www.eeppt.com/moban/shangwu/" TargetMode="External"/><Relationship Id="rId4" Type="http://schemas.openxmlformats.org/officeDocument/2006/relationships/hyperlink" Target="http://www.eeppt.com/moban/shangwu/" TargetMode="Externa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8"/>
          <p:cNvSpPr/>
          <p:nvPr/>
        </p:nvSpPr>
        <p:spPr>
          <a:xfrm>
            <a:off x="0" y="1125360"/>
            <a:ext cx="9144000" cy="337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4"/>
          <p:cNvGrpSpPr/>
          <p:nvPr/>
        </p:nvGrpSpPr>
        <p:grpSpPr>
          <a:xfrm>
            <a:off x="-642960" y="2938320"/>
            <a:ext cx="10501200" cy="3286440"/>
            <a:chOff x="-642960" y="2938320"/>
            <a:chExt cx="10501200" cy="3286440"/>
          </a:xfrm>
        </p:grpSpPr>
        <p:sp>
          <p:nvSpPr>
            <p:cNvPr id="136" name="直接连接符 5"/>
            <p:cNvSpPr/>
            <p:nvPr/>
          </p:nvSpPr>
          <p:spPr>
            <a:xfrm>
              <a:off x="-642960" y="4500720"/>
              <a:ext cx="10501200" cy="144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2" descr="C:\Documents and Settings\Administrator\桌面\图片2.png"/>
            <p:cNvPicPr/>
            <p:nvPr/>
          </p:nvPicPr>
          <p:blipFill>
            <a:blip r:embed="rId1"/>
            <a:stretch/>
          </p:blipFill>
          <p:spPr>
            <a:xfrm>
              <a:off x="5148000" y="2938320"/>
              <a:ext cx="4370400" cy="328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3" descr="C:\Documents and Settings\Administrator\桌面\20107231192824139.png"/>
          <p:cNvPicPr/>
          <p:nvPr/>
        </p:nvPicPr>
        <p:blipFill>
          <a:blip r:embed="rId2"/>
          <a:stretch/>
        </p:blipFill>
        <p:spPr>
          <a:xfrm>
            <a:off x="5156280" y="2941560"/>
            <a:ext cx="4357440" cy="3268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0" y="1357200"/>
            <a:ext cx="671508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13</a:t>
            </a:r>
            <a:r>
              <a:rPr b="0" lang="zh-CN" sz="199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招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571680" y="4572000"/>
            <a:ext cx="51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提高你的摄影水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3"/>
          <p:cNvSpPr/>
          <p:nvPr/>
        </p:nvSpPr>
        <p:spPr>
          <a:xfrm>
            <a:off x="611280" y="1125360"/>
            <a:ext cx="16239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13832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找到黄金比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2232000" y="2276640"/>
            <a:ext cx="3460680" cy="2304720"/>
          </a:xfrm>
          <a:prstGeom prst="rect">
            <a:avLst/>
          </a:prstGeom>
          <a:ln w="0">
            <a:noFill/>
          </a:ln>
        </p:spPr>
      </p:pic>
      <p:sp>
        <p:nvSpPr>
          <p:cNvPr id="201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你的相片更能吸引观众的注意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3"/>
          <p:cNvSpPr/>
          <p:nvPr/>
        </p:nvSpPr>
        <p:spPr>
          <a:xfrm>
            <a:off x="611280" y="1125360"/>
            <a:ext cx="16113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41760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摆脱自动设置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2233440" y="2278080"/>
            <a:ext cx="3457800" cy="2303280"/>
          </a:xfrm>
          <a:prstGeom prst="rect">
            <a:avLst/>
          </a:prstGeom>
          <a:ln w="0">
            <a:noFill/>
          </a:ln>
        </p:spPr>
      </p:pic>
      <p:sp>
        <p:nvSpPr>
          <p:cNvPr id="208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动设置功能是创意和摄影技术的毒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3"/>
          <p:cNvSpPr/>
          <p:nvPr/>
        </p:nvSpPr>
        <p:spPr>
          <a:xfrm>
            <a:off x="611280" y="1125360"/>
            <a:ext cx="16113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1760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11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拍摄不擅长的题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Documents and Settings\Administrator\桌面\e9427dacdd42ccfe.jpg"/>
          <p:cNvPicPr/>
          <p:nvPr/>
        </p:nvPicPr>
        <p:blipFill>
          <a:blip r:embed="rId1"/>
          <a:srcRect l="0" t="0" r="0" b="6268"/>
          <a:stretch/>
        </p:blipFill>
        <p:spPr>
          <a:xfrm>
            <a:off x="2209680" y="2278080"/>
            <a:ext cx="3702240" cy="2303280"/>
          </a:xfrm>
          <a:prstGeom prst="rect">
            <a:avLst/>
          </a:prstGeom>
          <a:ln w="0">
            <a:noFill/>
          </a:ln>
        </p:spPr>
      </p:pic>
      <p:sp>
        <p:nvSpPr>
          <p:cNvPr id="215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你对相机的理解更加深刻，你会因此而拥有全新的创意和想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68200" y="648504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3"/>
          <p:cNvSpPr/>
          <p:nvPr/>
        </p:nvSpPr>
        <p:spPr>
          <a:xfrm>
            <a:off x="611280" y="1125360"/>
            <a:ext cx="16113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41760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12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使用三脚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使用三脚架时，自然而然会更加认真地思考着如何构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3492360" y="1125360"/>
            <a:ext cx="34578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"/>
          <p:cNvSpPr/>
          <p:nvPr/>
        </p:nvSpPr>
        <p:spPr>
          <a:xfrm>
            <a:off x="611280" y="1125360"/>
            <a:ext cx="16239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41760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13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加入摄影俱乐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2222640" y="2278080"/>
            <a:ext cx="3454200" cy="2303280"/>
          </a:xfrm>
          <a:prstGeom prst="rect">
            <a:avLst/>
          </a:prstGeom>
          <a:ln w="0">
            <a:noFill/>
          </a:ln>
        </p:spPr>
      </p:pic>
      <p:sp>
        <p:nvSpPr>
          <p:cNvPr id="230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入那些拥有有才华的摄影师，并会经常举办活动的俱乐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7"/>
          <p:cNvSpPr/>
          <p:nvPr/>
        </p:nvSpPr>
        <p:spPr>
          <a:xfrm>
            <a:off x="527040" y="1125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36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本</a:t>
            </a:r>
            <a:r>
              <a:rPr b="0" lang="en-US" sz="4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所用蓝本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3"/>
          <p:cNvSpPr/>
          <p:nvPr/>
        </p:nvSpPr>
        <p:spPr>
          <a:xfrm>
            <a:off x="5580000" y="4583160"/>
            <a:ext cx="2844720" cy="1150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"/>
          <p:cNvSpPr/>
          <p:nvPr/>
        </p:nvSpPr>
        <p:spPr>
          <a:xfrm>
            <a:off x="5580000" y="3141720"/>
            <a:ext cx="3095640" cy="1439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5580000" y="325764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谢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C:\Documents and Settings\Administrator\桌面\20107231192824139.png"/>
          <p:cNvPicPr/>
          <p:nvPr/>
        </p:nvPicPr>
        <p:blipFill>
          <a:blip r:embed="rId1"/>
          <a:stretch/>
        </p:blipFill>
        <p:spPr>
          <a:xfrm>
            <a:off x="826920" y="2708280"/>
            <a:ext cx="457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3"/>
          <p:cNvSpPr/>
          <p:nvPr/>
        </p:nvSpPr>
        <p:spPr>
          <a:xfrm>
            <a:off x="611280" y="1125360"/>
            <a:ext cx="15843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06524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爱上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2197080" y="2278080"/>
            <a:ext cx="3598920" cy="2303280"/>
          </a:xfrm>
          <a:prstGeom prst="rect">
            <a:avLst/>
          </a:prstGeom>
          <a:ln w="0">
            <a:noFill/>
          </a:ln>
        </p:spPr>
      </p:pic>
      <p:sp>
        <p:nvSpPr>
          <p:cNvPr id="145" name="矩形 4"/>
          <p:cNvSpPr/>
          <p:nvPr/>
        </p:nvSpPr>
        <p:spPr>
          <a:xfrm>
            <a:off x="617400" y="2276640"/>
            <a:ext cx="157824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5724360" y="2276640"/>
            <a:ext cx="280224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2195640" y="4581360"/>
            <a:ext cx="66243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2340000" y="4724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怎么强调艺术对摄影的重要性也不过分。如果你想在摄影上有所成就，首先要成为艺术世界的仰慕者和学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3"/>
          <p:cNvSpPr/>
          <p:nvPr/>
        </p:nvSpPr>
        <p:spPr>
          <a:xfrm>
            <a:off x="611280" y="1125360"/>
            <a:ext cx="15843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04292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改变拍摄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2184480" y="2278080"/>
            <a:ext cx="3556080" cy="230328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617400" y="2276640"/>
            <a:ext cx="157824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5727600" y="2276640"/>
            <a:ext cx="279900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2195640" y="4581360"/>
            <a:ext cx="66243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一天时间来考虑拍摄角度的问题。新的拍摄角度几乎总是能给你带来新的灵感和创意。不妨试试从梯子上来拍摄人像，从地面来拍摄花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"/>
          <p:cNvSpPr/>
          <p:nvPr/>
        </p:nvSpPr>
        <p:spPr>
          <a:xfrm>
            <a:off x="611280" y="1125360"/>
            <a:ext cx="16113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13832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到动物园拍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2232000" y="2278080"/>
            <a:ext cx="3460680" cy="2303280"/>
          </a:xfrm>
          <a:prstGeom prst="rect">
            <a:avLst/>
          </a:prstGeom>
          <a:ln w="0">
            <a:noFill/>
          </a:ln>
        </p:spPr>
      </p:pic>
      <p:sp>
        <p:nvSpPr>
          <p:cNvPr id="159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的好处就是你可以在没有心理压力的情况下发挥出你的水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3"/>
          <p:cNvSpPr/>
          <p:nvPr/>
        </p:nvSpPr>
        <p:spPr>
          <a:xfrm>
            <a:off x="611280" y="1125360"/>
            <a:ext cx="16113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13832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尽量少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Documents and Settings\Administrator\桌面\e9427dacdd42ccfe.jpg"/>
          <p:cNvPicPr/>
          <p:nvPr/>
        </p:nvPicPr>
        <p:blipFill>
          <a:blip r:embed="rId1"/>
          <a:srcRect l="0" t="18704" r="0" b="0"/>
          <a:stretch/>
        </p:blipFill>
        <p:spPr>
          <a:xfrm>
            <a:off x="1835280" y="2276640"/>
            <a:ext cx="4257720" cy="230472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鼓作气，再而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而竭。当你频繁地按下快门的时候，每一张相片的用光及构图是否都经过大脑的思考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611280" y="1125360"/>
            <a:ext cx="16239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4572000" y="339840"/>
            <a:ext cx="2916360" cy="4384440"/>
          </a:xfrm>
          <a:prstGeom prst="rect">
            <a:avLst/>
          </a:prstGeom>
          <a:ln w="0">
            <a:noFill/>
          </a:ln>
        </p:spPr>
      </p:pic>
      <p:sp>
        <p:nvSpPr>
          <p:cNvPr id="173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身携带相机可以令你时刻保持警觉。你在观察世界时会好像相机一直在眼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113832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随身携带相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3"/>
          <p:cNvSpPr/>
          <p:nvPr/>
        </p:nvSpPr>
        <p:spPr>
          <a:xfrm>
            <a:off x="611280" y="1125360"/>
            <a:ext cx="16239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113832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保持初学者的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2235240" y="2278080"/>
            <a:ext cx="3454200" cy="2303280"/>
          </a:xfrm>
          <a:prstGeom prst="rect">
            <a:avLst/>
          </a:prstGeom>
          <a:ln w="0">
            <a:noFill/>
          </a:ln>
        </p:spPr>
      </p:pic>
      <p:sp>
        <p:nvSpPr>
          <p:cNvPr id="180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一个人拒绝接受任何新事物，不想改变自己，创意的末日就不远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2222640" y="2278080"/>
            <a:ext cx="3466800" cy="2303280"/>
          </a:xfrm>
          <a:prstGeom prst="rect">
            <a:avLst/>
          </a:prstGeom>
          <a:ln w="0">
            <a:noFill/>
          </a:ln>
        </p:spPr>
      </p:pic>
      <p:sp>
        <p:nvSpPr>
          <p:cNvPr id="185" name="矩形 3"/>
          <p:cNvSpPr/>
          <p:nvPr/>
        </p:nvSpPr>
        <p:spPr>
          <a:xfrm>
            <a:off x="611280" y="1125360"/>
            <a:ext cx="16365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113832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关注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2247840" y="4581360"/>
            <a:ext cx="66103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一种颜色，并以这种颜色做练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"/>
          <p:cNvSpPr/>
          <p:nvPr/>
        </p:nvSpPr>
        <p:spPr>
          <a:xfrm>
            <a:off x="630360" y="2276640"/>
            <a:ext cx="16174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3"/>
          <p:cNvSpPr/>
          <p:nvPr/>
        </p:nvSpPr>
        <p:spPr>
          <a:xfrm>
            <a:off x="611280" y="1125360"/>
            <a:ext cx="162396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1138320" y="765000"/>
            <a:ext cx="59547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500" spc="-1" strike="noStrike">
                <a:solidFill>
                  <a:srgbClr val="ffffff"/>
                </a:solidFill>
                <a:latin typeface="Calibri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追随知名摄影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Documents and Settings\Administrator\桌面\e9427dacdd42ccfe.jpg"/>
          <p:cNvPicPr/>
          <p:nvPr/>
        </p:nvPicPr>
        <p:blipFill>
          <a:blip r:embed="rId1"/>
          <a:stretch/>
        </p:blipFill>
        <p:spPr>
          <a:xfrm>
            <a:off x="2236680" y="2278080"/>
            <a:ext cx="3451320" cy="230328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630360" y="2276640"/>
            <a:ext cx="160488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5676840" y="2276640"/>
            <a:ext cx="2849760" cy="23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233440" y="4581360"/>
            <a:ext cx="6624720" cy="1151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340000" y="4724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学成才成为出色的摄影师是一条艰难的路，拥有一个导师会让一切变得不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3T12:22:29Z</dcterms:modified>
  <cp:revision>47</cp:revision>
  <dc:subject/>
  <dc:title>幻灯片 1</dc:title>
</cp:coreProperties>
</file>