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wind.wav" ContentType="audio/x-wav"/>
  <Override PartName="/ppt/media/chimes.wav" ContentType="audio/x-wav"/>
  <Override PartName="/ppt/media/image16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3.png" ContentType="image/png"/>
  <Override PartName="/ppt/media/drumroll.wav" ContentType="audio/x-wav"/>
  <Override PartName="/ppt/media/image15.png" ContentType="image/png"/>
  <Override PartName="/ppt/media/image14.png" ContentType="image/png"/>
  <Override PartName="/ppt/media/arrow.wav" ContentType="audio/x-wav"/>
  <Override PartName="/ppt/media/image13.jpeg" ContentType="image/jpeg"/>
  <Override PartName="/ppt/media/image12.png" ContentType="image/png"/>
  <Override PartName="/ppt/media/laser.wav" ContentType="audio/x-wav"/>
  <Override PartName="/ppt/media/image17.png" ContentType="image/png"/>
  <Override PartName="/ppt/media/type.wav" ContentType="audio/x-wav"/>
  <Override PartName="/ppt/media/image11.png" ContentType="image/png"/>
  <Override PartName="/ppt/media/applause.wav" ContentType="audio/x-wav"/>
  <Override PartName="/ppt/media/breeze.wav" ContentType="audio/x-wav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CB0-05B4-4229-956E-E09A0C40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69C-FC23-4C9E-BEFE-F4361345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8A8-6943-4E55-B4B6-8C70033F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9658-A9BC-489B-9717-7227711C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2A1-5141-4B53-B716-5F4AA8CE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7153-5829-4180-BC9E-040126C2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C1C-A267-40E2-9D38-5FF8658C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EEF-C9F9-45B5-B389-BBF1F449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C67-FD9D-40C0-9D2B-58CB8F5C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6ED-C54B-4441-9088-FA2E082D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B9D-5895-4079-8B0B-603F9A11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6A7-9BFA-4CB4-B529-7B326C8D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D161-A0E3-4BEF-8DE4-AE27849750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audio" Target="../media/breeze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" Target="slide4.xml"/><Relationship Id="rId7" Type="http://schemas.openxmlformats.org/officeDocument/2006/relationships/audio" Target="../media/wind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audio" Target="../media/wind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type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1"/>
          <p:cNvPicPr/>
          <p:nvPr/>
        </p:nvPicPr>
        <p:blipFill>
          <a:blip r:embed="rId16"/>
          <a:stretch/>
        </p:blipFill>
        <p:spPr>
          <a:xfrm>
            <a:off x="-716040" y="-33480"/>
            <a:ext cx="13565160" cy="7810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2181240" y="3530520"/>
            <a:ext cx="8304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纸鹤蓝色创意</a:t>
            </a:r>
            <a:r>
              <a:rPr b="0" lang="en-US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9"/>
          <p:cNvPicPr/>
          <p:nvPr/>
        </p:nvPicPr>
        <p:blipFill>
          <a:blip r:embed="rId17"/>
          <a:stretch/>
        </p:blipFill>
        <p:spPr>
          <a:xfrm>
            <a:off x="5308560" y="2222640"/>
            <a:ext cx="1575000" cy="1307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9副本"/>
          <p:cNvPicPr/>
          <p:nvPr/>
        </p:nvPicPr>
        <p:blipFill>
          <a:blip r:embed="rId18"/>
          <a:stretch/>
        </p:blipFill>
        <p:spPr>
          <a:xfrm>
            <a:off x="5423040" y="3656160"/>
            <a:ext cx="1368360" cy="155520"/>
          </a:xfrm>
          <a:prstGeom prst="rect">
            <a:avLst/>
          </a:prstGeom>
          <a:ln w="0">
            <a:noFill/>
          </a:ln>
        </p:spPr>
      </p:pic>
      <p:sp>
        <p:nvSpPr>
          <p:cNvPr id="46" name="矩形 12"/>
          <p:cNvSpPr/>
          <p:nvPr/>
        </p:nvSpPr>
        <p:spPr>
          <a:xfrm>
            <a:off x="787680" y="6519960"/>
            <a:ext cx="1829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baseline="-25000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4"/>
          <p:cNvPicPr/>
          <p:nvPr/>
        </p:nvPicPr>
        <p:blipFill>
          <a:blip r:embed="rId1"/>
          <a:stretch/>
        </p:blipFill>
        <p:spPr>
          <a:xfrm>
            <a:off x="-27000" y="-25560"/>
            <a:ext cx="12250800" cy="6915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7"/>
          <p:cNvPicPr/>
          <p:nvPr/>
        </p:nvPicPr>
        <p:blipFill>
          <a:blip r:embed="rId2"/>
          <a:stretch/>
        </p:blipFill>
        <p:spPr>
          <a:xfrm>
            <a:off x="4826160" y="2139840"/>
            <a:ext cx="7613640" cy="3807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6"/>
          <p:cNvPicPr/>
          <p:nvPr/>
        </p:nvPicPr>
        <p:blipFill>
          <a:blip r:embed="rId3"/>
          <a:stretch/>
        </p:blipFill>
        <p:spPr>
          <a:xfrm>
            <a:off x="7643880" y="1189080"/>
            <a:ext cx="4070160" cy="452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1"/>
          <p:cNvPicPr/>
          <p:nvPr/>
        </p:nvPicPr>
        <p:blipFill>
          <a:blip r:embed="rId4"/>
          <a:stretch/>
        </p:blipFill>
        <p:spPr>
          <a:xfrm>
            <a:off x="9244080" y="1620720"/>
            <a:ext cx="253800" cy="24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11"/>
          <p:cNvPicPr/>
          <p:nvPr/>
        </p:nvPicPr>
        <p:blipFill>
          <a:blip r:embed="rId5"/>
          <a:stretch/>
        </p:blipFill>
        <p:spPr>
          <a:xfrm>
            <a:off x="11385720" y="4940280"/>
            <a:ext cx="339480" cy="335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1244520" y="3133800"/>
            <a:ext cx="265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18000">
                <a:solidFill>
                  <a:srgbClr val="44546a"/>
                </a:solidFill>
                <a:latin typeface="DFPZongYiBold-GB"/>
                <a:ea typeface="方正中倩简体"/>
              </a:rPr>
              <a:t>目录</a:t>
            </a:r>
            <a:r>
              <a:rPr b="1" lang="zh-CN" sz="5400" spc="-1" strike="noStrike" baseline="18000">
                <a:solidFill>
                  <a:srgbClr val="44546a"/>
                </a:solidFill>
                <a:latin typeface="DFPZongYiBold-GB"/>
                <a:ea typeface="方正细倩简体"/>
              </a:rPr>
              <a:t> </a:t>
            </a:r>
            <a:r>
              <a:rPr b="0" lang="zh-CN" sz="4000" spc="-1" strike="noStrike" baseline="18000">
                <a:solidFill>
                  <a:srgbClr val="00ccff"/>
                </a:solidFill>
                <a:latin typeface="Boring Boron"/>
                <a:ea typeface="Dotum"/>
              </a:rPr>
              <a:t>Catalo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992920" y="3506760"/>
            <a:ext cx="278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9">
            <a:hlinkClick r:id="rId6" action="ppaction://hlinksldjump"/>
          </p:cNvPr>
          <p:cNvSpPr/>
          <p:nvPr/>
        </p:nvSpPr>
        <p:spPr>
          <a:xfrm>
            <a:off x="6729480" y="2205000"/>
            <a:ext cx="177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424560" y="2852640"/>
            <a:ext cx="234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319720" y="4948200"/>
            <a:ext cx="41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599080" y="4237200"/>
            <a:ext cx="41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副本"/>
          <p:cNvPicPr/>
          <p:nvPr/>
        </p:nvPicPr>
        <p:blipFill>
          <a:blip r:embed="rId1"/>
          <a:stretch/>
        </p:blipFill>
        <p:spPr>
          <a:xfrm>
            <a:off x="-28440" y="-42840"/>
            <a:ext cx="12252240" cy="6885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1"/>
          <p:cNvPicPr/>
          <p:nvPr/>
        </p:nvPicPr>
        <p:blipFill>
          <a:blip r:embed="rId2"/>
          <a:stretch/>
        </p:blipFill>
        <p:spPr>
          <a:xfrm>
            <a:off x="-27000" y="3294000"/>
            <a:ext cx="12249000" cy="35989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4"/>
          <p:cNvSpPr/>
          <p:nvPr/>
        </p:nvSpPr>
        <p:spPr>
          <a:xfrm>
            <a:off x="7013520" y="3073320"/>
            <a:ext cx="4753080" cy="443160"/>
          </a:xfrm>
          <a:prstGeom prst="flowChartTerminator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1"/>
          <p:cNvPicPr/>
          <p:nvPr/>
        </p:nvPicPr>
        <p:blipFill>
          <a:blip r:embed="rId3"/>
          <a:stretch/>
        </p:blipFill>
        <p:spPr>
          <a:xfrm>
            <a:off x="-28440" y="-42840"/>
            <a:ext cx="6426000" cy="6558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8112240" y="3111480"/>
            <a:ext cx="28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961240" y="1409760"/>
            <a:ext cx="6248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baseline="-25000">
                <a:solidFill>
                  <a:srgbClr val="000000"/>
                </a:solidFill>
                <a:latin typeface="方正中倩简体"/>
                <a:ea typeface="方正中倩简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4"/>
          <p:cNvPicPr/>
          <p:nvPr/>
        </p:nvPicPr>
        <p:blipFill>
          <a:blip r:embed="rId1"/>
          <a:stretch/>
        </p:blipFill>
        <p:spPr>
          <a:xfrm>
            <a:off x="-27000" y="-25560"/>
            <a:ext cx="12250800" cy="6915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13"/>
          <p:cNvPicPr/>
          <p:nvPr/>
        </p:nvPicPr>
        <p:blipFill>
          <a:blip r:embed="rId2"/>
          <a:stretch/>
        </p:blipFill>
        <p:spPr>
          <a:xfrm>
            <a:off x="2627280" y="1746360"/>
            <a:ext cx="4862520" cy="380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1"/>
          <p:cNvPicPr/>
          <p:nvPr/>
        </p:nvPicPr>
        <p:blipFill>
          <a:blip r:embed="rId3"/>
          <a:stretch/>
        </p:blipFill>
        <p:spPr>
          <a:xfrm>
            <a:off x="6432480" y="1733400"/>
            <a:ext cx="6308640" cy="334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16"/>
          <p:cNvPicPr/>
          <p:nvPr/>
        </p:nvPicPr>
        <p:blipFill>
          <a:blip r:embed="rId4"/>
          <a:stretch/>
        </p:blipFill>
        <p:spPr>
          <a:xfrm>
            <a:off x="7534440" y="3983040"/>
            <a:ext cx="3477960" cy="92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15"/>
          <p:cNvPicPr/>
          <p:nvPr/>
        </p:nvPicPr>
        <p:blipFill>
          <a:blip r:embed="rId5"/>
          <a:stretch/>
        </p:blipFill>
        <p:spPr>
          <a:xfrm>
            <a:off x="6988320" y="1857240"/>
            <a:ext cx="5622840" cy="198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4"/>
          <p:cNvPicPr/>
          <p:nvPr/>
        </p:nvPicPr>
        <p:blipFill>
          <a:blip r:embed="rId6"/>
          <a:stretch/>
        </p:blipFill>
        <p:spPr>
          <a:xfrm>
            <a:off x="5707080" y="1262160"/>
            <a:ext cx="2170080" cy="4808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3659040" y="3103560"/>
            <a:ext cx="278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305240" y="1816200"/>
            <a:ext cx="177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938760" y="2463840"/>
            <a:ext cx="234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baseline="-25000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048120" y="4559400"/>
            <a:ext cx="41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35320" y="3833640"/>
            <a:ext cx="41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方正细倩简体"/>
              </a:rPr>
              <a:t>幻灯片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7035840" y="1268280"/>
            <a:ext cx="48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5f5f5f"/>
                </a:solidFill>
                <a:latin typeface="Calibri"/>
                <a:ea typeface="方正中倩简体"/>
              </a:rPr>
              <a:t>「好的工作计划，是保证工作顺利实施的开端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8589960" y="5245200"/>
            <a:ext cx="141120" cy="14112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8956800" y="5235480"/>
            <a:ext cx="141120" cy="13968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16"/>
          <p:cNvSpPr/>
          <p:nvPr/>
        </p:nvSpPr>
        <p:spPr>
          <a:xfrm>
            <a:off x="9331200" y="5240160"/>
            <a:ext cx="141480" cy="14148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4"/>
          <p:cNvPicPr/>
          <p:nvPr/>
        </p:nvPicPr>
        <p:blipFill>
          <a:blip r:embed="rId1"/>
          <a:stretch/>
        </p:blipFill>
        <p:spPr>
          <a:xfrm>
            <a:off x="-27000" y="-25560"/>
            <a:ext cx="12249000" cy="6915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18"/>
          <p:cNvPicPr/>
          <p:nvPr/>
        </p:nvPicPr>
        <p:blipFill>
          <a:blip r:embed="rId2"/>
          <a:stretch/>
        </p:blipFill>
        <p:spPr>
          <a:xfrm>
            <a:off x="5324400" y="2550960"/>
            <a:ext cx="1236600" cy="6890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5027760" y="3133800"/>
            <a:ext cx="21524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baseline="-25000">
                <a:solidFill>
                  <a:srgbClr val="5b9bd5"/>
                </a:solidFill>
                <a:latin typeface="Boring Boron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3188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881064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baseline="-25000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yu wang</cp:lastModifiedBy>
  <dcterms:modified xsi:type="dcterms:W3CDTF">2015-08-03T12:24:2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