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480175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512-8E65-46D6-8878-C4894A01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5832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5285160"/>
            <a:ext cx="5832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8EF-E07B-4BF7-B626-A1AABA60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52851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12360" y="52851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676-403E-4EB6-9A9F-6D9C3E6E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1877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95720" y="2133360"/>
            <a:ext cx="1877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7800" y="2133360"/>
            <a:ext cx="1877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5285160"/>
            <a:ext cx="1877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95720" y="5285160"/>
            <a:ext cx="1877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67800" y="5285160"/>
            <a:ext cx="1877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1A0-EE9D-4DB6-A553-D8F891A6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2133360"/>
            <a:ext cx="58323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684-5036-4E86-BE5E-89E3B3D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5832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FDC-1321-4A4A-9DB4-2C4C3A4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2846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846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780-1CE0-4071-A4D6-BA6504F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F76-ED3B-4C05-9E7D-56B16679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366480"/>
            <a:ext cx="5832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BD6-9749-45DC-A4FA-B2A304C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846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52851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0B9-2369-4DB5-AD92-171C517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2846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12360" y="52851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0D6-9D33-44F6-8F35-2C3958E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846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5285160"/>
            <a:ext cx="5832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9B1-BE8C-4E50-81B1-D163314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366480"/>
            <a:ext cx="5832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2133360"/>
            <a:ext cx="5832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26440"/>
            <a:ext cx="15112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2920" y="8326440"/>
            <a:ext cx="20541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5080" y="8326440"/>
            <a:ext cx="15112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C2F6-7DCD-47AF-87BB-60053602D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conpng.com/icon/29178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conpng.com/icon/12134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iconpng.com/icon/34096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iconpng.com/icon/30604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iconpng.com/icon/3440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6e2b4d2djw1dwc4ppxe1hj"/>
          <p:cNvPicPr/>
          <p:nvPr/>
        </p:nvPicPr>
        <p:blipFill>
          <a:blip r:embed="rId1"/>
          <a:srcRect l="0" t="72518" r="0" b="25415"/>
          <a:stretch/>
        </p:blipFill>
        <p:spPr>
          <a:xfrm>
            <a:off x="0" y="0"/>
            <a:ext cx="6480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445760" y="1692360"/>
            <a:ext cx="26874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8</a:t>
            </a:r>
            <a:endParaRPr b="1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红色的心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87640" y="5508720"/>
            <a:ext cx="1536480" cy="1536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825360" y="5459400"/>
            <a:ext cx="195588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pact"/>
              </a:rPr>
              <a:t>Learning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920" y="860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6f0b9c3fgw1dwhg7jqvlrj"/>
          <p:cNvPicPr/>
          <p:nvPr/>
        </p:nvPicPr>
        <p:blipFill>
          <a:blip r:embed="rId1"/>
          <a:srcRect l="54619" t="37141" r="0" b="59569"/>
          <a:stretch/>
        </p:blipFill>
        <p:spPr>
          <a:xfrm>
            <a:off x="0" y="0"/>
            <a:ext cx="6480000" cy="918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f0b9c3fgw1dwhg7jqvlrj"/>
          <p:cNvPicPr/>
          <p:nvPr/>
        </p:nvPicPr>
        <p:blipFill>
          <a:blip r:embed="rId2"/>
          <a:srcRect l="55463" t="40221" r="0" b="55504"/>
          <a:stretch/>
        </p:blipFill>
        <p:spPr>
          <a:xfrm>
            <a:off x="2736720" y="3492360"/>
            <a:ext cx="2087640" cy="1231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反馈改进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46400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用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56240" y="39528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8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968720" y="8778960"/>
            <a:ext cx="30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854000" y="4954680"/>
            <a:ext cx="347400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Feedback for improvement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5267160" y="7362720"/>
            <a:ext cx="127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" descr="6f0b9c3fgw1dwhg7jqvlrj"/>
          <p:cNvPicPr/>
          <p:nvPr/>
        </p:nvPicPr>
        <p:blipFill>
          <a:blip r:embed="rId1"/>
          <a:srcRect l="0" t="54" r="53460" b="97756"/>
          <a:stretch/>
        </p:blipFill>
        <p:spPr>
          <a:xfrm>
            <a:off x="0" y="0"/>
            <a:ext cx="6480000" cy="9144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753080" y="8004240"/>
            <a:ext cx="19429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9920" bIns="342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418000" y="7237440"/>
            <a:ext cx="1256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67040" y="3952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1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6f0b9c3fgw1dwhg7jqvlrj"/>
          <p:cNvPicPr/>
          <p:nvPr/>
        </p:nvPicPr>
        <p:blipFill>
          <a:blip r:embed="rId2"/>
          <a:srcRect l="0" t="2073" r="53460" b="90838"/>
          <a:stretch/>
        </p:blipFill>
        <p:spPr>
          <a:xfrm>
            <a:off x="2087640" y="3635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6"/>
          <p:cNvSpPr/>
          <p:nvPr/>
        </p:nvSpPr>
        <p:spPr>
          <a:xfrm>
            <a:off x="3745080" y="7956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产生好奇心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19040" y="5293080"/>
            <a:ext cx="20912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600" spc="-1" strike="noStrike">
                <a:solidFill>
                  <a:srgbClr val="c0c0c0"/>
                </a:solidFill>
                <a:latin typeface="Impact"/>
              </a:rPr>
              <a:t>A simple attempt</a:t>
            </a:r>
            <a:r>
              <a:rPr b="1" lang="en-US" sz="16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28840" y="5505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简单尝试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4480" y="1332000"/>
            <a:ext cx="48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工作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6e2b4d2djw1dwc4ppxe1hj"/>
          <p:cNvPicPr/>
          <p:nvPr/>
        </p:nvPicPr>
        <p:blipFill>
          <a:blip r:embed="rId1"/>
          <a:srcRect l="-580" t="28741" r="0" b="70246"/>
          <a:stretch/>
        </p:blipFill>
        <p:spPr>
          <a:xfrm>
            <a:off x="-36360" y="0"/>
            <a:ext cx="6516360" cy="914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发现差距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553480" y="4826160"/>
            <a:ext cx="18021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Find the gap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61640" y="39528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2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3564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细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70640" y="7381800"/>
            <a:ext cx="12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753080" y="8004240"/>
            <a:ext cx="19429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9920" bIns="342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2" descr="红色的高跟鞋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76360" y="3348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6f0b9c3fgw1dwhg7jqvlrj"/>
          <p:cNvPicPr/>
          <p:nvPr/>
        </p:nvPicPr>
        <p:blipFill>
          <a:blip r:embed="rId1"/>
          <a:srcRect l="51495" t="50607" r="4278" b="47081"/>
          <a:stretch/>
        </p:blipFill>
        <p:spPr>
          <a:xfrm>
            <a:off x="0" y="0"/>
            <a:ext cx="6480000" cy="914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6f0b9c3fgw1dwhg7jqvlrj"/>
          <p:cNvPicPr/>
          <p:nvPr/>
        </p:nvPicPr>
        <p:blipFill>
          <a:blip r:embed="rId2">
            <a:lum bright="100000"/>
          </a:blip>
          <a:srcRect l="59168" t="52818" r="4278" b="40961"/>
          <a:stretch/>
        </p:blipFill>
        <p:spPr>
          <a:xfrm>
            <a:off x="2538360" y="3492360"/>
            <a:ext cx="1925640" cy="2016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161640" y="39528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3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模仿作品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3564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耐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4753080" y="8004240"/>
            <a:ext cx="19429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9920" bIns="342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2301840" y="4788000"/>
            <a:ext cx="22165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Imitation works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5560920" y="7362720"/>
            <a:ext cx="12564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6f0b9c3fgw1dwhg7jqvlrj"/>
          <p:cNvPicPr/>
          <p:nvPr/>
        </p:nvPicPr>
        <p:blipFill>
          <a:blip r:embed="rId1"/>
          <a:srcRect l="1250" t="74986" r="56881" b="22299"/>
          <a:stretch/>
        </p:blipFill>
        <p:spPr>
          <a:xfrm>
            <a:off x="0" y="0"/>
            <a:ext cx="6480000" cy="9144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求教高手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453564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虚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56240" y="39528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4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2530440" y="4859280"/>
            <a:ext cx="172908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Seek expert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4968720" y="8778960"/>
            <a:ext cx="30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5487840" y="7362720"/>
            <a:ext cx="12564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2" descr="bullet error ic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4000" y="3564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6f0b9c3fgw1dwhg7jqvlrj"/>
          <p:cNvPicPr/>
          <p:nvPr/>
        </p:nvPicPr>
        <p:blipFill>
          <a:blip r:embed="rId1"/>
          <a:srcRect l="53105" t="200" r="3118" b="97050"/>
          <a:stretch/>
        </p:blipFill>
        <p:spPr>
          <a:xfrm>
            <a:off x="0" y="-36360"/>
            <a:ext cx="6480000" cy="9180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长期实践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53564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恒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60200" y="395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5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4968720" y="8778960"/>
            <a:ext cx="30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2208600" y="4883040"/>
            <a:ext cx="255348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Long term practice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711760" y="7362720"/>
            <a:ext cx="127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2743200" y="4075200"/>
            <a:ext cx="9954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5" descr="长角牛图标">
            <a:hlinkClick r:id="rId2"/>
          </p:cNvPr>
          <p:cNvPicPr/>
          <p:nvPr/>
        </p:nvPicPr>
        <p:blipFill>
          <a:blip r:embed="rId3">
            <a:lum bright="78000"/>
          </a:blip>
          <a:stretch/>
        </p:blipFill>
        <p:spPr>
          <a:xfrm>
            <a:off x="2592360" y="341964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5" descr="6f0b9c3fgw1dwhg7jqvlrj"/>
          <p:cNvPicPr/>
          <p:nvPr/>
        </p:nvPicPr>
        <p:blipFill>
          <a:blip r:embed="rId1"/>
          <a:srcRect l="54175" t="12566" r="0" b="85138"/>
          <a:stretch/>
        </p:blipFill>
        <p:spPr>
          <a:xfrm>
            <a:off x="0" y="0"/>
            <a:ext cx="6480000" cy="9144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1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形成风格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53708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专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8040" y="395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6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968720" y="8778960"/>
            <a:ext cx="30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2656800" y="4859280"/>
            <a:ext cx="15811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【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Form style</a:t>
            </a: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5638680" y="7381800"/>
            <a:ext cx="127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6" descr="6f0b9c3fgw1dwhg7jqvlrj"/>
          <p:cNvPicPr/>
          <p:nvPr/>
        </p:nvPicPr>
        <p:blipFill>
          <a:blip r:embed="rId2"/>
          <a:srcRect l="52609" t="90074" r="889" b="3688"/>
          <a:stretch/>
        </p:blipFill>
        <p:spPr>
          <a:xfrm>
            <a:off x="2376360" y="3689280"/>
            <a:ext cx="1943280" cy="1603440"/>
          </a:xfrm>
          <a:prstGeom prst="rect">
            <a:avLst/>
          </a:prstGeom>
          <a:ln w="0">
            <a:noFill/>
          </a:ln>
        </p:spPr>
      </p:pic>
      <p:sp>
        <p:nvSpPr>
          <p:cNvPr id="108" name="矩形 13"/>
          <p:cNvSpPr/>
          <p:nvPr/>
        </p:nvSpPr>
        <p:spPr>
          <a:xfrm>
            <a:off x="1971720" y="438768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6f0b9c3fgw1dwhg7jqvlrj"/>
          <p:cNvPicPr/>
          <p:nvPr/>
        </p:nvPicPr>
        <p:blipFill>
          <a:blip r:embed="rId1"/>
          <a:srcRect l="3524" t="63541" r="50335" b="33967"/>
          <a:stretch/>
        </p:blipFill>
        <p:spPr>
          <a:xfrm>
            <a:off x="-3240" y="0"/>
            <a:ext cx="6483240" cy="9169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544840" y="507348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分享心得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464000" y="8093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开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-36720" y="8820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Impact"/>
              </a:rPr>
              <a:t>WULALA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87480" y="8832960"/>
            <a:ext cx="792000" cy="21096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63440" y="3952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【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Step 7</a:t>
            </a:r>
            <a:r>
              <a:rPr b="1" lang="en-US" sz="1800" spc="-1" strike="noStrike">
                <a:solidFill>
                  <a:srgbClr val="b2b2b2"/>
                </a:solidFill>
                <a:latin typeface="Cambria"/>
                <a:ea typeface="微软雅黑"/>
              </a:rPr>
              <a:t>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968720" y="8778960"/>
            <a:ext cx="30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无线网络标识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81440" y="399744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0"/>
          <p:cNvSpPr/>
          <p:nvPr/>
        </p:nvSpPr>
        <p:spPr>
          <a:xfrm>
            <a:off x="5295960" y="7362720"/>
            <a:ext cx="127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2420640" y="4788000"/>
            <a:ext cx="2129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9920" bIns="3427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Impact"/>
              </a:rPr>
              <a:t>[Share experience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1560" y="252360"/>
            <a:ext cx="58165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693800"/>
            <a:ext cx="632772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164200" y="444600"/>
            <a:ext cx="98424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441-E1CD-48DA-8FDB-F44797845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0:43:40Z</dcterms:created>
  <dc:creator>微软用户</dc:creator>
  <dc:description/>
  <dc:language>en-US</dc:language>
  <cp:lastModifiedBy>微软用户</cp:lastModifiedBy>
  <dcterms:modified xsi:type="dcterms:W3CDTF">2015-08-09T01:08:4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