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4.jpeg" ContentType="image/jpeg"/>
  <Override PartName="/ppt/media/image20.jpeg" ContentType="image/jpeg"/>
  <Override PartName="/ppt/media/image23.png" ContentType="image/png"/>
  <Override PartName="/ppt/media/image18.gif" ContentType="image/gif"/>
  <Override PartName="/ppt/media/image15.gif" ContentType="image/gif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jpeg" ContentType="image/jpeg"/>
  <Override PartName="/ppt/media/image9.jpeg" ContentType="image/jpeg"/>
  <Override PartName="/ppt/media/image13.gif" ContentType="image/gif"/>
  <Override PartName="/ppt/media/image30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jpeg" ContentType="image/jpeg"/>
  <Override PartName="/ppt/media/image14.gif" ContentType="image/gif"/>
  <Override PartName="/ppt/media/image16.gif" ContentType="image/gif"/>
  <Override PartName="/ppt/media/image21.png" ContentType="image/png"/>
  <Override PartName="/ppt/media/image1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AF1-9FD8-461F-96E8-A0410D4D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E3A-E37A-4EE0-8C5E-8A6A1141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B07-293D-44B2-8B48-80442355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BD8-CABE-4EE3-93B0-6C02CFA6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5C0-CAE1-4F70-950B-02265678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CDA-B15C-4480-A90A-F2B28C4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D3D-0019-4ADD-8697-EA45F86D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95AE-D35E-45F9-A031-18226CC1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7C68-AC3C-4E48-BB9A-C699491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BB3-BC53-4031-BD20-6B0ABD62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027-7C01-4BE5-8F48-609B143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2D1-2843-4D67-9992-0321B4CA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9D3A-0B57-494E-8F2A-7D5CED6B5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478800" y="946080"/>
            <a:ext cx="8170560" cy="4936320"/>
            <a:chOff x="478800" y="946080"/>
            <a:chExt cx="8170560" cy="4936320"/>
          </a:xfrm>
        </p:grpSpPr>
        <p:pic>
          <p:nvPicPr>
            <p:cNvPr id="42" name="Picture 3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 rot="243000">
              <a:off x="697680" y="1212120"/>
              <a:ext cx="7696080" cy="4402800"/>
            </a:xfrm>
            <a:prstGeom prst="rect">
              <a:avLst/>
            </a:prstGeom>
            <a:ln w="0">
              <a:noFill/>
            </a:ln>
            <a:effectLst>
              <a:outerShdw dist="28080" dir="5400000" blurRad="0" rotWithShape="0">
                <a:srgbClr val="000000">
                  <a:alpha val="30000"/>
                </a:srgbClr>
              </a:outerShdw>
            </a:effectLst>
          </p:spPr>
        </p:pic>
        <p:grpSp>
          <p:nvGrpSpPr>
            <p:cNvPr id="43" name="组合 7"/>
            <p:cNvGrpSpPr/>
            <p:nvPr/>
          </p:nvGrpSpPr>
          <p:grpSpPr>
            <a:xfrm>
              <a:off x="478800" y="974520"/>
              <a:ext cx="8170560" cy="4907880"/>
              <a:chOff x="478800" y="974520"/>
              <a:chExt cx="8170560" cy="4907880"/>
            </a:xfrm>
          </p:grpSpPr>
          <p:pic>
            <p:nvPicPr>
              <p:cNvPr id="44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7859880" y="1690560"/>
                <a:ext cx="754200" cy="393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478800" y="1179000"/>
                <a:ext cx="678600" cy="392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780480" y="975240"/>
                <a:ext cx="7868880" cy="877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96800" y="5004360"/>
                <a:ext cx="7863120" cy="87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班会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在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8" descr="C:\Documents and Settings\Owner\My Documents\My Pictures\7675514_192259942000_2_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1600200" y="2819520"/>
            <a:ext cx="595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参加的考</a:t>
            </a:r>
            <a:r>
              <a:rPr b="1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2057400" y="1219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临考前的通宵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4800600" y="3581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宿舍人一起讨论重点时的画面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1676520" y="434340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还记得曾经有过的挂科和补考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Documents and Settings\Owner\My Documents\My Pictures\6474443_103759403174_2.png"/>
          <p:cNvPicPr/>
          <p:nvPr/>
        </p:nvPicPr>
        <p:blipFill>
          <a:blip r:embed="rId2"/>
          <a:stretch/>
        </p:blipFill>
        <p:spPr>
          <a:xfrm>
            <a:off x="6858000" y="5486400"/>
            <a:ext cx="2438280" cy="15908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066680" y="12193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还记得四年前我们写下的梦想吗，不管它们有没有实现，我们都不要有遗憾，因为我们即将起航，去完成我们新的人生梦想。。。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1600200" y="5029200"/>
            <a:ext cx="541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顺利毕业，去到我梦想的公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考上理想学校的研究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后，我会找到自己心仪的对象，嘿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行楷"/>
                <a:ea typeface="华文行楷"/>
              </a:rPr>
              <a:t>。。。。。。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04787 L 0.00764 0.08395 L 0.02275 -0.04787 L 0.03872 0.08395 L 0.05469 -0.04787 L 0.06962 0.08395 L 0.08559 -0.04787 L 0.1007 0.08395 L 0.11667 -0.04787 L 0.13264 0.08395 L 0.14775 -0.04787 L 0.16372 0.08395 L 0.17865 -0.04787 L 0.19462 0.08395 L 0.21059 -0.04787 L 0.2257 0.08395 L 0.24167 -0.04787 E">
                                      <p:cBhvr>
                                        <p:cTn id="316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Owner\My Documents\My Pictures\256_498919_ca1e1ed7d466e3f_副本_副本.png"/>
          <p:cNvPicPr/>
          <p:nvPr/>
        </p:nvPicPr>
        <p:blipFill>
          <a:blip r:embed="rId2"/>
          <a:stretch/>
        </p:blipFill>
        <p:spPr>
          <a:xfrm>
            <a:off x="1219320" y="3657600"/>
            <a:ext cx="1019160" cy="1666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Owner\My Documents\My Pictures\256_498919_ca1e、e3f_副本_副本.png"/>
          <p:cNvPicPr/>
          <p:nvPr/>
        </p:nvPicPr>
        <p:blipFill>
          <a:blip r:embed="rId3"/>
          <a:stretch/>
        </p:blipFill>
        <p:spPr>
          <a:xfrm>
            <a:off x="2743200" y="3276720"/>
            <a:ext cx="1190520" cy="22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C:\Documents and Settings\Owner\My Documents\My Pictures\256_498919_ca1d7d66e3f_副本_副本.png"/>
          <p:cNvPicPr/>
          <p:nvPr/>
        </p:nvPicPr>
        <p:blipFill>
          <a:blip r:embed="rId4"/>
          <a:stretch/>
        </p:blipFill>
        <p:spPr>
          <a:xfrm>
            <a:off x="6553080" y="3733920"/>
            <a:ext cx="990720" cy="157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Documents and Settings\Owner\My Documents\My Pictures\256_498919_ca1d7d466e3f_副本_副本.png"/>
          <p:cNvPicPr/>
          <p:nvPr/>
        </p:nvPicPr>
        <p:blipFill>
          <a:blip r:embed="rId5"/>
          <a:stretch/>
        </p:blipFill>
        <p:spPr>
          <a:xfrm>
            <a:off x="4572000" y="3352680"/>
            <a:ext cx="1467000" cy="20574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3852360" y="10666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毕业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C:\Documents and Settings\Owner\My Documents\My Pictures\u=1373653399,429047420&amp;fm=51&amp;gp=0_副本_副本.png"/>
          <p:cNvPicPr/>
          <p:nvPr/>
        </p:nvPicPr>
        <p:blipFill>
          <a:blip r:embed="rId6"/>
          <a:stretch/>
        </p:blipFill>
        <p:spPr>
          <a:xfrm>
            <a:off x="914400" y="-895320"/>
            <a:ext cx="1514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Owner\My Documents\My Pictures\u=1373653399,429047420&amp;fm=51&amp;gp=0_副本_副本.png"/>
          <p:cNvPicPr/>
          <p:nvPr/>
        </p:nvPicPr>
        <p:blipFill>
          <a:blip r:embed="rId7"/>
          <a:stretch/>
        </p:blipFill>
        <p:spPr>
          <a:xfrm>
            <a:off x="2362320" y="-946080"/>
            <a:ext cx="1600200" cy="946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:\Documents and Settings\Owner\My Documents\My Pictures\u=1373653399,429047420&amp;fm=51&amp;gp=0_副本_副本.png"/>
          <p:cNvPicPr/>
          <p:nvPr/>
        </p:nvPicPr>
        <p:blipFill>
          <a:blip r:embed="rId8"/>
          <a:stretch/>
        </p:blipFill>
        <p:spPr>
          <a:xfrm>
            <a:off x="4114800" y="-1062000"/>
            <a:ext cx="1666800" cy="1062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C:\Documents and Settings\Owner\My Documents\My Pictures\u=1373653399,429047420&amp;fm=51&amp;gp=0_副本_副本.png"/>
          <p:cNvPicPr/>
          <p:nvPr/>
        </p:nvPicPr>
        <p:blipFill>
          <a:blip r:embed="rId9"/>
          <a:stretch/>
        </p:blipFill>
        <p:spPr>
          <a:xfrm>
            <a:off x="6207120" y="-838080"/>
            <a:ext cx="1641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6087E-006 L 0.00052 0.62026 E">
                                      <p:cBhvr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1064 L 0.03385 0.58788 E">
                                      <p:cBhvr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0.01249 L 0.00417 0.62026 E">
                                      <p:cBhvr>
                                        <p:cTn id="36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232 L 0.02084 0.56846 E">
                                      <p:cBhvr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067-9735-47E1-A2A2-BA57E6175A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4"/>
          <p:cNvGrpSpPr/>
          <p:nvPr/>
        </p:nvGrpSpPr>
        <p:grpSpPr>
          <a:xfrm>
            <a:off x="762120" y="1143000"/>
            <a:ext cx="7924680" cy="4495680"/>
            <a:chOff x="762120" y="1143000"/>
            <a:chExt cx="7924680" cy="4495680"/>
          </a:xfrm>
        </p:grpSpPr>
        <p:pic>
          <p:nvPicPr>
            <p:cNvPr id="121" name="Picture 5" descr="E:\ppt模板\个人作品\素材\6474443_103759403174_2.jpg"/>
            <p:cNvPicPr/>
            <p:nvPr/>
          </p:nvPicPr>
          <p:blipFill>
            <a:blip r:embed="rId2"/>
            <a:stretch/>
          </p:blipFill>
          <p:spPr>
            <a:xfrm>
              <a:off x="1447920" y="1676160"/>
              <a:ext cx="6553080" cy="358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" name="组合 8"/>
            <p:cNvGrpSpPr/>
            <p:nvPr/>
          </p:nvGrpSpPr>
          <p:grpSpPr>
            <a:xfrm>
              <a:off x="762120" y="1143000"/>
              <a:ext cx="7924680" cy="4495680"/>
              <a:chOff x="762120" y="1143000"/>
              <a:chExt cx="7924680" cy="4495680"/>
            </a:xfrm>
          </p:grpSpPr>
          <p:pic>
            <p:nvPicPr>
              <p:cNvPr id="123" name="Picture 2" descr="E:\ppt模板\个人作品\毕业\7397268_165311702131_2.jpg"/>
              <p:cNvPicPr/>
              <p:nvPr/>
            </p:nvPicPr>
            <p:blipFill>
              <a:blip r:embed="rId3"/>
              <a:stretch/>
            </p:blipFill>
            <p:spPr>
              <a:xfrm>
                <a:off x="762120" y="1469520"/>
                <a:ext cx="7924680" cy="37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2" descr="E:\ppt模板\个人作品\毕业\7397268_165311702131_2.jpg"/>
              <p:cNvPicPr/>
              <p:nvPr/>
            </p:nvPicPr>
            <p:blipFill>
              <a:blip r:embed="rId4"/>
              <a:stretch/>
            </p:blipFill>
            <p:spPr>
              <a:xfrm>
                <a:off x="762120" y="4985640"/>
                <a:ext cx="7924680" cy="3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2" descr="E:\ppt模板\个人作品\毕业\7397268_165311702131_2.jpg"/>
              <p:cNvPicPr/>
              <p:nvPr/>
            </p:nvPicPr>
            <p:blipFill>
              <a:blip r:embed="rId5"/>
              <a:stretch/>
            </p:blipFill>
            <p:spPr>
              <a:xfrm>
                <a:off x="1194480" y="114300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2" descr="E:\ppt模板\个人作品\毕业\7397268_165311702131_2.jpg"/>
              <p:cNvPicPr/>
              <p:nvPr/>
            </p:nvPicPr>
            <p:blipFill>
              <a:blip r:embed="rId6"/>
              <a:stretch/>
            </p:blipFill>
            <p:spPr>
              <a:xfrm>
                <a:off x="7779600" y="1208160"/>
                <a:ext cx="474480" cy="443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7" name="标题 1"/>
          <p:cNvSpPr/>
          <p:nvPr/>
        </p:nvSpPr>
        <p:spPr>
          <a:xfrm>
            <a:off x="990720" y="2514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明天，你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们来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90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91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3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7500"/>
                            </p:stCondLst>
                            <p:childTnLst>
                              <p:par>
                                <p:cTn id="3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500"/>
                            </p:stCondLst>
                            <p:childTnLst>
                              <p:par>
                                <p:cTn id="40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609480" y="1143000"/>
            <a:ext cx="51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真的就要毕业了吗，昨天还觉得毕业是件很遥远的事，今天却就在眼前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343400" y="38098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欢笑和泪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的付出和收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有着太多太多的回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四年，让我永远都不会忘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ppt模板\个人作品\毕业\1c950a7b02087bf4366585adf2d3572c10dfcfed.jpg"/>
          <p:cNvPicPr/>
          <p:nvPr/>
        </p:nvPicPr>
        <p:blipFill>
          <a:blip r:embed="rId2"/>
          <a:stretch/>
        </p:blipFill>
        <p:spPr>
          <a:xfrm>
            <a:off x="0" y="0"/>
            <a:ext cx="3352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886200" y="2057400"/>
            <a:ext cx="449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校花神马的都是浮云，哥从不谈感情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DOTA</a:t>
            </a: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才是我的至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95760" y="838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你们听说了吗，有人在追校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3809880" y="358128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艾，四儿，我觉得她长得不咋样，你说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5355000" y="4495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呼。呼。呼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655600" y="54100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靠，又睡死过去了，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 rot="470400">
            <a:off x="5743080" y="35049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开过的卧谈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E:\ppt模板\个人作品\毕业\62fb850ftw1dmtcec8wncj.jpg"/>
          <p:cNvPicPr/>
          <p:nvPr/>
        </p:nvPicPr>
        <p:blipFill>
          <a:blip r:embed="rId2"/>
          <a:stretch/>
        </p:blipFill>
        <p:spPr>
          <a:xfrm>
            <a:off x="2514600" y="0"/>
            <a:ext cx="662940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2362320" y="4648320"/>
            <a:ext cx="63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逃过的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594720" y="4572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又不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好吧。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02672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下次一定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:\ppt模板\个人作品\毕业\cdbf6c81800a19d8b1a82e4333fa828ba71e46c8.jpg"/>
          <p:cNvPicPr/>
          <p:nvPr/>
        </p:nvPicPr>
        <p:blipFill>
          <a:blip r:embed="rId2"/>
          <a:stretch/>
        </p:blipFill>
        <p:spPr>
          <a:xfrm>
            <a:off x="0" y="0"/>
            <a:ext cx="5410080" cy="4432320"/>
          </a:xfrm>
          <a:prstGeom prst="rect">
            <a:avLst/>
          </a:prstGeom>
          <a:ln w="0">
            <a:noFill/>
          </a:ln>
        </p:spPr>
      </p:pic>
      <p:sp>
        <p:nvSpPr>
          <p:cNvPr id="64" name="云形标注 5"/>
          <p:cNvSpPr/>
          <p:nvPr/>
        </p:nvSpPr>
        <p:spPr>
          <a:xfrm rot="1807800">
            <a:off x="5447880" y="185400"/>
            <a:ext cx="35733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562720" y="914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你们晒吧，我不晒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天这么好，我再睡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。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941560" y="517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晒过的被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形标注 8"/>
          <p:cNvSpPr/>
          <p:nvPr/>
        </p:nvSpPr>
        <p:spPr>
          <a:xfrm>
            <a:off x="5486400" y="3505320"/>
            <a:ext cx="3429000" cy="18288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189120" y="403848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我说拿错哥被子的那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毕业了不用还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E:\ppt模板\个人作品\毕业\f222334aaec76c18d48dc23982c9a8f4.jpg"/>
          <p:cNvPicPr/>
          <p:nvPr/>
        </p:nvPicPr>
        <p:blipFill>
          <a:blip r:embed="rId2"/>
          <a:stretch/>
        </p:blipFill>
        <p:spPr>
          <a:xfrm>
            <a:off x="1981080" y="3809880"/>
            <a:ext cx="7162920" cy="3048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4"/>
          <p:cNvSpPr/>
          <p:nvPr/>
        </p:nvSpPr>
        <p:spPr>
          <a:xfrm rot="191400">
            <a:off x="69840" y="1239480"/>
            <a:ext cx="3575160" cy="2628720"/>
          </a:xfrm>
          <a:prstGeom prst="cloudCallout">
            <a:avLst>
              <a:gd name="adj1" fmla="val -20833"/>
              <a:gd name="adj2" fmla="val 6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1121760" y="198108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美的不止女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，也有男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34720" y="9144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当然多数的男生是为找不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件干净衣服而发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3"/>
          <p:cNvSpPr/>
          <p:nvPr/>
        </p:nvSpPr>
        <p:spPr>
          <a:xfrm>
            <a:off x="569556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失恋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C:\DOCUME~1\Owner\LOCALS~1\Temp\5BK2}FOHU$7E{24ILNE_L~K.GIF"/>
          <p:cNvPicPr/>
          <p:nvPr/>
        </p:nvPicPr>
        <p:blipFill>
          <a:blip r:embed="rId2"/>
          <a:stretch/>
        </p:blipFill>
        <p:spPr>
          <a:xfrm>
            <a:off x="7345440" y="1523880"/>
            <a:ext cx="1280880" cy="9144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13"/>
          <p:cNvGrpSpPr/>
          <p:nvPr/>
        </p:nvGrpSpPr>
        <p:grpSpPr>
          <a:xfrm>
            <a:off x="685800" y="685800"/>
            <a:ext cx="2356200" cy="914400"/>
            <a:chOff x="685800" y="685800"/>
            <a:chExt cx="2356200" cy="914400"/>
          </a:xfrm>
        </p:grpSpPr>
        <p:sp>
          <p:nvSpPr>
            <p:cNvPr id="76" name="TextBox 1"/>
            <p:cNvSpPr/>
            <p:nvPr/>
          </p:nvSpPr>
          <p:spPr>
            <a:xfrm>
              <a:off x="2038320" y="685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咋地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2" descr="C:\DOCUME~1\Owner\LOCALS~1\Temp\4}H]JFF@N3H}K1{78KZ[KXS.GIF"/>
            <p:cNvPicPr/>
            <p:nvPr/>
          </p:nvPicPr>
          <p:blipFill>
            <a:blip r:embed="rId3"/>
            <a:stretch/>
          </p:blipFill>
          <p:spPr>
            <a:xfrm>
              <a:off x="685800" y="685800"/>
              <a:ext cx="9144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组合 14"/>
          <p:cNvGrpSpPr/>
          <p:nvPr/>
        </p:nvGrpSpPr>
        <p:grpSpPr>
          <a:xfrm>
            <a:off x="762120" y="2895480"/>
            <a:ext cx="4276080" cy="1143000"/>
            <a:chOff x="762120" y="2895480"/>
            <a:chExt cx="4276080" cy="1143000"/>
          </a:xfrm>
        </p:grpSpPr>
        <p:sp>
          <p:nvSpPr>
            <p:cNvPr id="79" name="TextBox 4"/>
            <p:cNvSpPr/>
            <p:nvPr/>
          </p:nvSpPr>
          <p:spPr>
            <a:xfrm>
              <a:off x="2662920" y="3124080"/>
              <a:ext cx="237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上星期不才失恋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3" descr="C:\DOCUME~1\Owner\LOCALS~1\Temp\Q6W_7`0ALYK_0@N4X3$O$QS.gif"/>
            <p:cNvPicPr/>
            <p:nvPr/>
          </p:nvPicPr>
          <p:blipFill>
            <a:blip r:embed="rId4"/>
            <a:stretch/>
          </p:blipFill>
          <p:spPr>
            <a:xfrm>
              <a:off x="762120" y="2895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5"/>
          <p:cNvGrpSpPr/>
          <p:nvPr/>
        </p:nvGrpSpPr>
        <p:grpSpPr>
          <a:xfrm>
            <a:off x="5655600" y="4191120"/>
            <a:ext cx="3213720" cy="914400"/>
            <a:chOff x="5655600" y="4191120"/>
            <a:chExt cx="3213720" cy="914400"/>
          </a:xfrm>
        </p:grpSpPr>
        <p:sp>
          <p:nvSpPr>
            <p:cNvPr id="82" name="TextBox 5"/>
            <p:cNvSpPr/>
            <p:nvPr/>
          </p:nvSpPr>
          <p:spPr>
            <a:xfrm>
              <a:off x="5655600" y="426708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这不又了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C:\DOCUME~1\Owner\LOCALS~1\Temp\O`S2XMW2@EQ~L6((0X}3_{6.gif"/>
            <p:cNvPicPr/>
            <p:nvPr/>
          </p:nvPicPr>
          <p:blipFill>
            <a:blip r:embed="rId5"/>
            <a:stretch/>
          </p:blipFill>
          <p:spPr>
            <a:xfrm>
              <a:off x="7772040" y="4191120"/>
              <a:ext cx="1097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组合 16"/>
          <p:cNvGrpSpPr/>
          <p:nvPr/>
        </p:nvGrpSpPr>
        <p:grpSpPr>
          <a:xfrm>
            <a:off x="934560" y="5105520"/>
            <a:ext cx="3256560" cy="990360"/>
            <a:chOff x="934560" y="5105520"/>
            <a:chExt cx="3256560" cy="990360"/>
          </a:xfrm>
        </p:grpSpPr>
        <p:sp>
          <p:nvSpPr>
            <p:cNvPr id="85" name="TextBox 6"/>
            <p:cNvSpPr/>
            <p:nvPr/>
          </p:nvSpPr>
          <p:spPr>
            <a:xfrm>
              <a:off x="934560" y="51055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方正舒体"/>
                  <a:ea typeface="方正舒体"/>
                </a:rPr>
                <a:t>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" descr="C:\DOCUME~1\Owner\LOCALS~1\Temp\EXB9GEPZ2Q)3VN2FYL~$$_W.GIF"/>
            <p:cNvPicPr/>
            <p:nvPr/>
          </p:nvPicPr>
          <p:blipFill>
            <a:blip r:embed="rId6"/>
            <a:stretch/>
          </p:blipFill>
          <p:spPr>
            <a:xfrm>
              <a:off x="1904760" y="518148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6" descr="C:\DOCUME~1\Owner\LOCALS~1\Temp\)U0M(X$`FJIEH0L(60JB3U8.GIF"/>
            <p:cNvPicPr/>
            <p:nvPr/>
          </p:nvPicPr>
          <p:blipFill>
            <a:blip r:embed="rId7"/>
            <a:stretch/>
          </p:blipFill>
          <p:spPr>
            <a:xfrm>
              <a:off x="3048120" y="5181480"/>
              <a:ext cx="11430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533520" y="228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C:\DOCUME~1\Owner\LOCALS~1\Temp\1TRF@UG4E)W4]9CB0U459LC.jpg"/>
          <p:cNvPicPr/>
          <p:nvPr/>
        </p:nvPicPr>
        <p:blipFill>
          <a:blip r:embed="rId2"/>
          <a:stretch/>
        </p:blipFill>
        <p:spPr>
          <a:xfrm>
            <a:off x="609480" y="3505320"/>
            <a:ext cx="2895840" cy="2692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4259880" y="914400"/>
            <a:ext cx="282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咋就毕业了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方正舒体"/>
                <a:ea typeface="方正舒体"/>
              </a:rPr>
              <a:t>哥还没找对象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448160" y="2438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那些年我们一起追过的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E:\ppt模板\个人作品\素材\6474443_103759403174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:\ppt模板\个人作品\素材\7675514_192259942000_2_副本_副本_副本_副本_副本.png"/>
          <p:cNvPicPr/>
          <p:nvPr/>
        </p:nvPicPr>
        <p:blipFill>
          <a:blip r:embed="rId2"/>
          <a:stretch/>
        </p:blipFill>
        <p:spPr>
          <a:xfrm>
            <a:off x="838080" y="542880"/>
            <a:ext cx="7599600" cy="55101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2267640" y="175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科目：英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876680" y="236232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考试时间：</a:t>
            </a:r>
            <a:r>
              <a:rPr b="0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14:00</a:t>
            </a:r>
            <a:r>
              <a:rPr b="1" lang="en-US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-1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5638680" y="1295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按学号坐好不要乱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1962720" y="480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注意考场纪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1931400" y="297180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考老师：李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** 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张</a:t>
            </a: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290680" y="29718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同学们把书和不相关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都收起来准备考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0:59:34Z</dcterms:created>
  <dc:creator/>
  <dc:description/>
  <dc:language>en-US</dc:language>
  <cp:lastModifiedBy>微软用户</cp:lastModifiedBy>
  <dcterms:modified xsi:type="dcterms:W3CDTF">2015-08-09T01:10:4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