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1BA-3941-4E57-AA01-73C988D9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08D7-3EB6-45F0-80D8-42C900BF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2D8-C726-4535-B26F-488B7285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C26-176B-46B1-BA27-8F852A5F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054-8619-4A8B-91C1-FA3DC63F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2DC-0114-4004-9540-83A3C401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2E9-30D3-4D0B-9B45-D2B133A1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F34-25C1-4E0F-9F73-64FBBEA2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4CE-FA6A-4D8C-AF74-4FBA538C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925C-0EB0-44D1-AF97-EDB21109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433-4E03-4B11-B755-93680490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DCB-AD1D-428F-BA9F-67DFA096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9D65-6214-4FF0-B2B7-85C7AF124A8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C8AC-3655-4E8F-B6D4-FCED6FA7B24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5"/>
          <p:cNvSpPr/>
          <p:nvPr/>
        </p:nvSpPr>
        <p:spPr>
          <a:xfrm>
            <a:off x="1857240" y="2087640"/>
            <a:ext cx="242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00440" y="476280"/>
            <a:ext cx="722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彩绘美女工作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9B1-D8EB-406A-B3E7-EC9C2B0912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136908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3297960" y="5000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544104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79792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4092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94084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394092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29788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51208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58388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65516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15496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51260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208368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458388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15512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29812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22660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29788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494100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22660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08368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458388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86904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565560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58396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86904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315504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158364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129780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479808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465516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158364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236916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486972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479808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PC</cp:lastModifiedBy>
  <dcterms:modified xsi:type="dcterms:W3CDTF">2015-08-09T01:10:17Z</dcterms:modified>
  <cp:revision>1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