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FED-9810-49AE-A135-A8F9ABF1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9FD-AD23-4B68-9DC5-820DDA6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748-C989-4EB0-A8DD-C1535B6D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D9B-3890-4A4A-A842-36F3D09C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1F2-A87D-4102-8A7D-AAB709E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2CD-5664-4801-99A0-CE4C5F7B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1FA-2DB7-40AE-A067-C59ED183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049-3051-4C41-B1EA-63D332C4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0C0-E455-4058-B641-EF54EA5E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C15-0897-423C-945C-35AB3E02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080-80B8-448F-82A1-9A9FFAE9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C50-9F6C-4571-9119-B047249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045C4-F284-4239-AB2A-64FB29D4FD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3081D-D9D1-42E7-8C1E-07F01DF67E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1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 1"/>
          <p:cNvGrpSpPr/>
          <p:nvPr/>
        </p:nvGrpSpPr>
        <p:grpSpPr>
          <a:xfrm>
            <a:off x="0" y="162000"/>
            <a:ext cx="5210280" cy="3536640"/>
            <a:chOff x="0" y="162000"/>
            <a:chExt cx="5210280" cy="3536640"/>
          </a:xfrm>
        </p:grpSpPr>
        <p:sp>
          <p:nvSpPr>
            <p:cNvPr id="44" name="文本框 7"/>
            <p:cNvSpPr/>
            <p:nvPr/>
          </p:nvSpPr>
          <p:spPr>
            <a:xfrm>
              <a:off x="3382200" y="3238920"/>
              <a:ext cx="18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6efc9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2400" spc="-1" strike="noStrike">
                  <a:solidFill>
                    <a:srgbClr val="f6efc9"/>
                  </a:solidFill>
                  <a:latin typeface="华文楷体"/>
                  <a:ea typeface="华文楷体"/>
                </a:rPr>
                <a:t>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8"/>
            <p:cNvSpPr/>
            <p:nvPr/>
          </p:nvSpPr>
          <p:spPr>
            <a:xfrm>
              <a:off x="0" y="162000"/>
              <a:ext cx="48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名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369880" y="7207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春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38020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5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D59-6CB7-4AE6-8F01-82593A78E6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4" descr="2.jpg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7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1:46:00Z</dcterms:created>
  <dc:creator>outline</dc:creator>
  <dc:description/>
  <dc:language>en-US</dc:language>
  <cp:lastModifiedBy>微软用户</cp:lastModifiedBy>
  <dcterms:modified xsi:type="dcterms:W3CDTF">2015-08-09T01:10:26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