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D75-579E-4478-AB2F-8A27415F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BC1-4117-424A-A25F-9773AD4E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ABE-C3B7-461E-8B44-50C9B0DF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528-A81E-40B2-BFC4-76F329BE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3DE2-B7C4-4872-9EA6-0CE6C16F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59B4-74E5-4231-B1FF-6210B203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5190-1411-428E-B4F4-60E7361F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39AB-661C-46FA-A28D-19C0E1A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D39-AD77-47C5-9312-6DEB23D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825C-EB6F-4179-926F-531565B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F38B-E755-47DA-925E-CDB1F65D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080-D2C7-4A04-B2C1-50BDE37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4C6C-9CE7-4BB1-9516-DBB74F6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D6A7-3F42-4A7A-B8FB-C2A3F7D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ED5E-F4DE-422B-BF25-AD30834A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6F42-7698-46DF-A4A4-E3940871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5B3C-6CC3-41FF-99BB-1B2D4FE9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162-2AA8-42C0-8494-9EE3392F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BEB-C456-4BAA-8407-A5B57E88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776-4191-4546-A6C3-D4A08A9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AF2-4414-490B-A6AA-0BA5FEFA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D44-39D8-4323-BD4A-0FCA28C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BCF-AD5E-4512-984A-919AEA25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F70-701E-4A2D-8CEE-55102083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EA3-275A-4AB1-9519-5C883827BF7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9B90-9E03-41BA-B7D1-93EAA416DA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-36360" y="5006880"/>
            <a:ext cx="9194760" cy="1851120"/>
          </a:xfrm>
          <a:prstGeom prst="rect">
            <a:avLst/>
          </a:prstGeom>
          <a:solidFill>
            <a:srgbClr val="29a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组合 2" descr=""/>
          <p:cNvPicPr/>
          <p:nvPr/>
        </p:nvPicPr>
        <p:blipFill>
          <a:blip r:embed="rId1"/>
          <a:stretch/>
        </p:blipFill>
        <p:spPr>
          <a:xfrm>
            <a:off x="3724200" y="3687840"/>
            <a:ext cx="4919760" cy="263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:\Users\Administrator.ZGC--20101104KR\Desktop\QQ截图20121216180243.png"/>
          <p:cNvPicPr/>
          <p:nvPr/>
        </p:nvPicPr>
        <p:blipFill>
          <a:blip r:embed="rId2"/>
          <a:stretch/>
        </p:blipFill>
        <p:spPr>
          <a:xfrm>
            <a:off x="503280" y="2232000"/>
            <a:ext cx="283824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159640" y="1085760"/>
            <a:ext cx="52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135400" y="1916280"/>
            <a:ext cx="33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  快乐办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0760" y="384120"/>
            <a:ext cx="53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感工作轻松办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53"/>
          <p:cNvGrpSpPr/>
          <p:nvPr/>
        </p:nvGrpSpPr>
        <p:grpSpPr>
          <a:xfrm>
            <a:off x="-284760" y="1651680"/>
            <a:ext cx="3718800" cy="5750280"/>
            <a:chOff x="-284760" y="1651680"/>
            <a:chExt cx="3718800" cy="5750280"/>
          </a:xfrm>
        </p:grpSpPr>
        <p:sp>
          <p:nvSpPr>
            <p:cNvPr id="90" name="矩形 4"/>
            <p:cNvSpPr/>
            <p:nvPr/>
          </p:nvSpPr>
          <p:spPr>
            <a:xfrm rot="1507200">
              <a:off x="850680" y="1690560"/>
              <a:ext cx="1447560" cy="5672160"/>
            </a:xfrm>
            <a:custGeom>
              <a:avLst/>
              <a:gdLst/>
              <a:ahLst/>
              <a:rect l="l" t="t" r="r" b="b"/>
              <a:pathLst>
                <a:path w="1728586" h="6771677">
                  <a:moveTo>
                    <a:pt x="497434" y="81951"/>
                  </a:moveTo>
                  <a:cubicBezTo>
                    <a:pt x="929513" y="-120664"/>
                    <a:pt x="1444035" y="65354"/>
                    <a:pt x="1646650" y="497434"/>
                  </a:cubicBezTo>
                  <a:cubicBezTo>
                    <a:pt x="1832170" y="893059"/>
                    <a:pt x="1691869" y="1357801"/>
                    <a:pt x="1334649" y="1588107"/>
                  </a:cubicBezTo>
                  <a:cubicBezTo>
                    <a:pt x="1223560" y="3139878"/>
                    <a:pt x="1413694" y="5507498"/>
                    <a:pt x="1228130" y="6324764"/>
                  </a:cubicBezTo>
                  <a:lnTo>
                    <a:pt x="273249" y="6771677"/>
                  </a:lnTo>
                  <a:lnTo>
                    <a:pt x="223836" y="1444434"/>
                  </a:lnTo>
                  <a:cubicBezTo>
                    <a:pt x="167464" y="1382423"/>
                    <a:pt x="119385" y="1310995"/>
                    <a:pt x="81951" y="1231168"/>
                  </a:cubicBezTo>
                  <a:cubicBezTo>
                    <a:pt x="-120664" y="799088"/>
                    <a:pt x="65354" y="284566"/>
                    <a:pt x="497434" y="81951"/>
                  </a:cubicBezTo>
                  <a:close/>
                </a:path>
              </a:pathLst>
            </a:custGeom>
            <a:solidFill>
              <a:srgbClr val="6acff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55"/>
            <p:cNvSpPr/>
            <p:nvPr/>
          </p:nvSpPr>
          <p:spPr>
            <a:xfrm>
              <a:off x="1928880" y="2058840"/>
              <a:ext cx="1098360" cy="109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组合 56" descr=""/>
          <p:cNvPicPr/>
          <p:nvPr/>
        </p:nvPicPr>
        <p:blipFill>
          <a:blip r:embed="rId1"/>
          <a:stretch/>
        </p:blipFill>
        <p:spPr>
          <a:xfrm>
            <a:off x="23760" y="2786040"/>
            <a:ext cx="4415040" cy="4187880"/>
          </a:xfrm>
          <a:prstGeom prst="rect">
            <a:avLst/>
          </a:prstGeom>
          <a:ln w="0">
            <a:noFill/>
          </a:ln>
        </p:spPr>
      </p:pic>
      <p:pic>
        <p:nvPicPr>
          <p:cNvPr id="93" name="组合 59" descr=""/>
          <p:cNvPicPr/>
          <p:nvPr/>
        </p:nvPicPr>
        <p:blipFill>
          <a:blip r:embed="rId2"/>
          <a:stretch/>
        </p:blipFill>
        <p:spPr>
          <a:xfrm>
            <a:off x="871560" y="3333600"/>
            <a:ext cx="5243400" cy="3176640"/>
          </a:xfrm>
          <a:prstGeom prst="rect">
            <a:avLst/>
          </a:prstGeom>
          <a:ln w="0">
            <a:noFill/>
          </a:ln>
        </p:spPr>
      </p:pic>
      <p:pic>
        <p:nvPicPr>
          <p:cNvPr id="94" name="组合 62" descr=""/>
          <p:cNvPicPr/>
          <p:nvPr/>
        </p:nvPicPr>
        <p:blipFill>
          <a:blip r:embed="rId3"/>
          <a:stretch/>
        </p:blipFill>
        <p:spPr>
          <a:xfrm>
            <a:off x="298440" y="5132520"/>
            <a:ext cx="5584680" cy="3133440"/>
          </a:xfrm>
          <a:prstGeom prst="rect">
            <a:avLst/>
          </a:prstGeom>
          <a:ln w="0">
            <a:noFill/>
          </a:ln>
        </p:spPr>
      </p:pic>
      <p:sp>
        <p:nvSpPr>
          <p:cNvPr id="95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6"/>
          <p:cNvSpPr/>
          <p:nvPr/>
        </p:nvSpPr>
        <p:spPr>
          <a:xfrm>
            <a:off x="2260440" y="2284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7"/>
          <p:cNvSpPr/>
          <p:nvPr/>
        </p:nvSpPr>
        <p:spPr>
          <a:xfrm>
            <a:off x="34207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8"/>
          <p:cNvSpPr/>
          <p:nvPr/>
        </p:nvSpPr>
        <p:spPr>
          <a:xfrm>
            <a:off x="5100480" y="3767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9"/>
          <p:cNvSpPr/>
          <p:nvPr/>
        </p:nvSpPr>
        <p:spPr>
          <a:xfrm>
            <a:off x="4879800" y="5541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0"/>
          <p:cNvSpPr/>
          <p:nvPr/>
        </p:nvSpPr>
        <p:spPr>
          <a:xfrm>
            <a:off x="4369320" y="1655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1"/>
          <p:cNvSpPr/>
          <p:nvPr/>
        </p:nvSpPr>
        <p:spPr>
          <a:xfrm>
            <a:off x="5814360" y="2708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2"/>
          <p:cNvSpPr/>
          <p:nvPr/>
        </p:nvSpPr>
        <p:spPr>
          <a:xfrm>
            <a:off x="6674760" y="3755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3"/>
          <p:cNvSpPr/>
          <p:nvPr/>
        </p:nvSpPr>
        <p:spPr>
          <a:xfrm>
            <a:off x="6585840" y="563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4"/>
          <p:cNvSpPr/>
          <p:nvPr/>
        </p:nvSpPr>
        <p:spPr>
          <a:xfrm>
            <a:off x="94284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直接连接符 7"/>
          <p:cNvSpPr/>
          <p:nvPr/>
        </p:nvSpPr>
        <p:spPr>
          <a:xfrm flipH="1" flipV="1">
            <a:off x="7524720" y="5950080"/>
            <a:ext cx="161928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"/>
          <p:cNvSpPr/>
          <p:nvPr/>
        </p:nvSpPr>
        <p:spPr>
          <a:xfrm>
            <a:off x="0" y="0"/>
            <a:ext cx="161928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8"/>
          <p:cNvSpPr/>
          <p:nvPr/>
        </p:nvSpPr>
        <p:spPr>
          <a:xfrm flipV="1">
            <a:off x="7524720" y="0"/>
            <a:ext cx="162072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22"/>
          <p:cNvSpPr/>
          <p:nvPr/>
        </p:nvSpPr>
        <p:spPr>
          <a:xfrm flipV="1">
            <a:off x="0" y="5950080"/>
            <a:ext cx="161928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8"/>
          <p:cNvSpPr/>
          <p:nvPr/>
        </p:nvSpPr>
        <p:spPr>
          <a:xfrm>
            <a:off x="1619280" y="907920"/>
            <a:ext cx="0" cy="504216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9"/>
          <p:cNvSpPr/>
          <p:nvPr/>
        </p:nvSpPr>
        <p:spPr>
          <a:xfrm>
            <a:off x="7524720" y="907920"/>
            <a:ext cx="0" cy="504216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36"/>
          <p:cNvSpPr/>
          <p:nvPr/>
        </p:nvSpPr>
        <p:spPr>
          <a:xfrm>
            <a:off x="1619280" y="3422520"/>
            <a:ext cx="5905440" cy="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9"/>
          <p:cNvSpPr/>
          <p:nvPr/>
        </p:nvSpPr>
        <p:spPr>
          <a:xfrm>
            <a:off x="1628640" y="4149720"/>
            <a:ext cx="5896080" cy="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0"/>
          <p:cNvSpPr/>
          <p:nvPr/>
        </p:nvSpPr>
        <p:spPr>
          <a:xfrm>
            <a:off x="4528080" y="350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：标题过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"/>
          <p:cNvSpPr/>
          <p:nvPr/>
        </p:nvSpPr>
        <p:spPr>
          <a:xfrm flipH="1">
            <a:off x="3027240" y="998640"/>
            <a:ext cx="2627280" cy="642960"/>
          </a:xfrm>
          <a:custGeom>
            <a:avLst/>
            <a:gdLst/>
            <a:ahLst/>
            <a:rect l="l" t="t" r="r" b="b"/>
            <a:pathLst>
              <a:path w="5162589" h="945035">
                <a:moveTo>
                  <a:pt x="4265021" y="268288"/>
                </a:moveTo>
                <a:cubicBezTo>
                  <a:pt x="3207130" y="268288"/>
                  <a:pt x="2349539" y="549107"/>
                  <a:pt x="2349539" y="895515"/>
                </a:cubicBezTo>
                <a:cubicBezTo>
                  <a:pt x="2349539" y="912072"/>
                  <a:pt x="2351498" y="928478"/>
                  <a:pt x="2357102" y="944563"/>
                </a:cubicBezTo>
                <a:cubicBezTo>
                  <a:pt x="2850401" y="582141"/>
                  <a:pt x="3794125" y="337562"/>
                  <a:pt x="4877054" y="337562"/>
                </a:cubicBezTo>
                <a:lnTo>
                  <a:pt x="5162589" y="343479"/>
                </a:lnTo>
                <a:cubicBezTo>
                  <a:pt x="4895643" y="294751"/>
                  <a:pt x="4589770" y="268288"/>
                  <a:pt x="4265021" y="268288"/>
                </a:cubicBezTo>
                <a:close/>
                <a:moveTo>
                  <a:pt x="749674" y="0"/>
                </a:moveTo>
                <a:cubicBezTo>
                  <a:pt x="478435" y="0"/>
                  <a:pt x="222961" y="36980"/>
                  <a:pt x="0" y="105072"/>
                </a:cubicBezTo>
                <a:lnTo>
                  <a:pt x="238487" y="96804"/>
                </a:lnTo>
                <a:cubicBezTo>
                  <a:pt x="1142980" y="96804"/>
                  <a:pt x="1931205" y="438582"/>
                  <a:pt x="2343222" y="945035"/>
                </a:cubicBezTo>
                <a:cubicBezTo>
                  <a:pt x="2347903" y="922558"/>
                  <a:pt x="2349539" y="899631"/>
                  <a:pt x="2349539" y="876494"/>
                </a:cubicBezTo>
                <a:cubicBezTo>
                  <a:pt x="2349539" y="392420"/>
                  <a:pt x="1633255" y="0"/>
                  <a:pt x="749674" y="0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5"/>
          <p:cNvGrpSpPr/>
          <p:nvPr/>
        </p:nvGrpSpPr>
        <p:grpSpPr>
          <a:xfrm>
            <a:off x="5180040" y="1666800"/>
            <a:ext cx="1027080" cy="363600"/>
            <a:chOff x="5180040" y="1666800"/>
            <a:chExt cx="1027080" cy="363600"/>
          </a:xfrm>
        </p:grpSpPr>
        <p:sp>
          <p:nvSpPr>
            <p:cNvPr id="117" name="椭圆 10"/>
            <p:cNvSpPr/>
            <p:nvPr/>
          </p:nvSpPr>
          <p:spPr>
            <a:xfrm rot="560400">
              <a:off x="5193720" y="1706040"/>
              <a:ext cx="501840" cy="21024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0"/>
            <p:cNvSpPr/>
            <p:nvPr/>
          </p:nvSpPr>
          <p:spPr>
            <a:xfrm rot="560400">
              <a:off x="5692680" y="1780560"/>
              <a:ext cx="500400" cy="21024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52"/>
          <p:cNvGrpSpPr/>
          <p:nvPr/>
        </p:nvGrpSpPr>
        <p:grpSpPr>
          <a:xfrm>
            <a:off x="136440" y="115920"/>
            <a:ext cx="1041480" cy="957240"/>
            <a:chOff x="136440" y="115920"/>
            <a:chExt cx="1041480" cy="957240"/>
          </a:xfrm>
        </p:grpSpPr>
        <p:sp>
          <p:nvSpPr>
            <p:cNvPr id="120" name="椭圆 24"/>
            <p:cNvSpPr/>
            <p:nvPr/>
          </p:nvSpPr>
          <p:spPr>
            <a:xfrm>
              <a:off x="488880" y="444600"/>
              <a:ext cx="288720" cy="290520"/>
            </a:xfrm>
            <a:prstGeom prst="ellipse">
              <a:avLst/>
            </a:prstGeom>
            <a:solidFill>
              <a:srgbClr val="29ace4"/>
            </a:solidFill>
            <a:ln w="255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25"/>
            <p:cNvSpPr/>
            <p:nvPr/>
          </p:nvSpPr>
          <p:spPr>
            <a:xfrm>
              <a:off x="169560" y="323640"/>
              <a:ext cx="277920" cy="1666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27"/>
            <p:cNvSpPr/>
            <p:nvPr/>
          </p:nvSpPr>
          <p:spPr>
            <a:xfrm flipV="1">
              <a:off x="136440" y="650520"/>
              <a:ext cx="30492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35"/>
            <p:cNvSpPr/>
            <p:nvPr/>
          </p:nvSpPr>
          <p:spPr>
            <a:xfrm>
              <a:off x="801720" y="735120"/>
              <a:ext cx="277920" cy="164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38"/>
            <p:cNvSpPr/>
            <p:nvPr/>
          </p:nvSpPr>
          <p:spPr>
            <a:xfrm flipV="1">
              <a:off x="854280" y="523440"/>
              <a:ext cx="32364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39"/>
            <p:cNvSpPr/>
            <p:nvPr/>
          </p:nvSpPr>
          <p:spPr>
            <a:xfrm>
              <a:off x="558720" y="11592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41"/>
            <p:cNvSpPr/>
            <p:nvPr/>
          </p:nvSpPr>
          <p:spPr>
            <a:xfrm>
              <a:off x="652320" y="79560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42"/>
            <p:cNvSpPr/>
            <p:nvPr/>
          </p:nvSpPr>
          <p:spPr>
            <a:xfrm flipH="1">
              <a:off x="298080" y="768600"/>
              <a:ext cx="188640" cy="2253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45"/>
            <p:cNvSpPr/>
            <p:nvPr/>
          </p:nvSpPr>
          <p:spPr>
            <a:xfrm flipH="1">
              <a:off x="777960" y="210960"/>
              <a:ext cx="188640" cy="2268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"/>
          <p:cNvSpPr/>
          <p:nvPr/>
        </p:nvSpPr>
        <p:spPr>
          <a:xfrm>
            <a:off x="1079640" y="900000"/>
            <a:ext cx="4402080" cy="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9"/>
          <p:cNvGrpSpPr/>
          <p:nvPr/>
        </p:nvGrpSpPr>
        <p:grpSpPr>
          <a:xfrm>
            <a:off x="7308360" y="476280"/>
            <a:ext cx="1008720" cy="1008000"/>
            <a:chOff x="7308360" y="476280"/>
            <a:chExt cx="1008720" cy="1008000"/>
          </a:xfrm>
        </p:grpSpPr>
        <p:sp>
          <p:nvSpPr>
            <p:cNvPr id="132" name="矩形 50"/>
            <p:cNvSpPr/>
            <p:nvPr/>
          </p:nvSpPr>
          <p:spPr>
            <a:xfrm>
              <a:off x="7308720" y="476280"/>
              <a:ext cx="1008360" cy="1008000"/>
            </a:xfrm>
            <a:prstGeom prst="rect">
              <a:avLst/>
            </a:prstGeom>
            <a:noFill/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51"/>
            <p:cNvSpPr/>
            <p:nvPr/>
          </p:nvSpPr>
          <p:spPr>
            <a:xfrm>
              <a:off x="7813800" y="476280"/>
              <a:ext cx="0" cy="10080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53"/>
            <p:cNvSpPr/>
            <p:nvPr/>
          </p:nvSpPr>
          <p:spPr>
            <a:xfrm flipH="1">
              <a:off x="7308360" y="981000"/>
              <a:ext cx="1008360" cy="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5"/>
          <p:cNvGrpSpPr/>
          <p:nvPr/>
        </p:nvGrpSpPr>
        <p:grpSpPr>
          <a:xfrm>
            <a:off x="7345800" y="727560"/>
            <a:ext cx="388080" cy="141840"/>
            <a:chOff x="7345800" y="727560"/>
            <a:chExt cx="388080" cy="141840"/>
          </a:xfrm>
        </p:grpSpPr>
        <p:sp>
          <p:nvSpPr>
            <p:cNvPr id="136" name="椭圆 10"/>
            <p:cNvSpPr/>
            <p:nvPr/>
          </p:nvSpPr>
          <p:spPr>
            <a:xfrm flipH="1" rot="561000">
              <a:off x="7538760" y="772200"/>
              <a:ext cx="189360" cy="8208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10"/>
            <p:cNvSpPr/>
            <p:nvPr/>
          </p:nvSpPr>
          <p:spPr>
            <a:xfrm flipH="1" rot="561000">
              <a:off x="7351200" y="741960"/>
              <a:ext cx="187920" cy="8208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20"/>
          <p:cNvSpPr/>
          <p:nvPr/>
        </p:nvSpPr>
        <p:spPr>
          <a:xfrm>
            <a:off x="1513800" y="33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bd6"/>
                </a:solidFill>
                <a:latin typeface="微软雅黑"/>
                <a:ea typeface="微软雅黑"/>
              </a:rPr>
              <a:t>内容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52"/>
          <p:cNvGrpSpPr/>
          <p:nvPr/>
        </p:nvGrpSpPr>
        <p:grpSpPr>
          <a:xfrm>
            <a:off x="611280" y="404640"/>
            <a:ext cx="2022480" cy="1857600"/>
            <a:chOff x="611280" y="404640"/>
            <a:chExt cx="2022480" cy="1857600"/>
          </a:xfrm>
        </p:grpSpPr>
        <p:sp>
          <p:nvSpPr>
            <p:cNvPr id="141" name="椭圆 24"/>
            <p:cNvSpPr/>
            <p:nvPr/>
          </p:nvSpPr>
          <p:spPr>
            <a:xfrm>
              <a:off x="1295280" y="1042920"/>
              <a:ext cx="560160" cy="561960"/>
            </a:xfrm>
            <a:prstGeom prst="ellipse">
              <a:avLst/>
            </a:prstGeom>
            <a:solidFill>
              <a:srgbClr val="29ace4"/>
            </a:solidFill>
            <a:ln w="255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25"/>
            <p:cNvSpPr/>
            <p:nvPr/>
          </p:nvSpPr>
          <p:spPr>
            <a:xfrm>
              <a:off x="676080" y="809280"/>
              <a:ext cx="539640" cy="322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27"/>
            <p:cNvSpPr/>
            <p:nvPr/>
          </p:nvSpPr>
          <p:spPr>
            <a:xfrm flipV="1">
              <a:off x="611280" y="1444320"/>
              <a:ext cx="590400" cy="9684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35"/>
            <p:cNvSpPr/>
            <p:nvPr/>
          </p:nvSpPr>
          <p:spPr>
            <a:xfrm>
              <a:off x="1903680" y="1604880"/>
              <a:ext cx="538200" cy="322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38"/>
            <p:cNvSpPr/>
            <p:nvPr/>
          </p:nvSpPr>
          <p:spPr>
            <a:xfrm flipV="1">
              <a:off x="2006640" y="1194840"/>
              <a:ext cx="627120" cy="982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39"/>
            <p:cNvSpPr/>
            <p:nvPr/>
          </p:nvSpPr>
          <p:spPr>
            <a:xfrm>
              <a:off x="1432080" y="404640"/>
              <a:ext cx="77760" cy="53964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1"/>
            <p:cNvSpPr/>
            <p:nvPr/>
          </p:nvSpPr>
          <p:spPr>
            <a:xfrm>
              <a:off x="1614600" y="1722600"/>
              <a:ext cx="75960" cy="53964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2"/>
            <p:cNvSpPr/>
            <p:nvPr/>
          </p:nvSpPr>
          <p:spPr>
            <a:xfrm flipH="1">
              <a:off x="925200" y="1670040"/>
              <a:ext cx="368280" cy="439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5"/>
            <p:cNvSpPr/>
            <p:nvPr/>
          </p:nvSpPr>
          <p:spPr>
            <a:xfrm flipH="1">
              <a:off x="1855440" y="590400"/>
              <a:ext cx="368280" cy="43812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1"/>
          <p:cNvSpPr/>
          <p:nvPr/>
        </p:nvSpPr>
        <p:spPr>
          <a:xfrm>
            <a:off x="6588000" y="4827600"/>
            <a:ext cx="1476360" cy="169704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"/>
          <p:cNvSpPr/>
          <p:nvPr/>
        </p:nvSpPr>
        <p:spPr>
          <a:xfrm>
            <a:off x="8209080" y="5902200"/>
            <a:ext cx="541080" cy="62100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340776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bd6"/>
                </a:solidFill>
                <a:latin typeface="微软雅黑"/>
                <a:ea typeface="微软雅黑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B83-C3B6-4591-A576-92CB5508BF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18"/>
          <p:cNvSpPr/>
          <p:nvPr/>
        </p:nvSpPr>
        <p:spPr>
          <a:xfrm>
            <a:off x="5003640" y="1398600"/>
            <a:ext cx="1311480" cy="131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1853640" y="2698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2"/>
          <p:cNvGrpSpPr/>
          <p:nvPr/>
        </p:nvGrpSpPr>
        <p:grpSpPr>
          <a:xfrm>
            <a:off x="4848120" y="1844280"/>
            <a:ext cx="4332240" cy="3261240"/>
            <a:chOff x="4848120" y="1844280"/>
            <a:chExt cx="4332240" cy="3261240"/>
          </a:xfrm>
        </p:grpSpPr>
        <p:sp>
          <p:nvSpPr>
            <p:cNvPr id="160" name="直接连接符 23"/>
            <p:cNvSpPr/>
            <p:nvPr/>
          </p:nvSpPr>
          <p:spPr>
            <a:xfrm flipH="1" flipV="1">
              <a:off x="8412120" y="4662360"/>
              <a:ext cx="76824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24"/>
            <p:cNvSpPr/>
            <p:nvPr/>
          </p:nvSpPr>
          <p:spPr>
            <a:xfrm>
              <a:off x="4848120" y="1844640"/>
              <a:ext cx="76680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25"/>
            <p:cNvSpPr/>
            <p:nvPr/>
          </p:nvSpPr>
          <p:spPr>
            <a:xfrm flipV="1">
              <a:off x="8412120" y="1844280"/>
              <a:ext cx="76824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26"/>
            <p:cNvSpPr/>
            <p:nvPr/>
          </p:nvSpPr>
          <p:spPr>
            <a:xfrm flipV="1">
              <a:off x="4848120" y="4662360"/>
              <a:ext cx="76680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27"/>
            <p:cNvSpPr/>
            <p:nvPr/>
          </p:nvSpPr>
          <p:spPr>
            <a:xfrm>
              <a:off x="5614920" y="2274840"/>
              <a:ext cx="0" cy="2387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8"/>
            <p:cNvSpPr/>
            <p:nvPr/>
          </p:nvSpPr>
          <p:spPr>
            <a:xfrm>
              <a:off x="8412120" y="2274840"/>
              <a:ext cx="0" cy="2387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"/>
            <p:cNvSpPr/>
            <p:nvPr/>
          </p:nvSpPr>
          <p:spPr>
            <a:xfrm flipH="1">
              <a:off x="6280920" y="2317680"/>
              <a:ext cx="1244520" cy="304560"/>
            </a:xfrm>
            <a:custGeom>
              <a:avLst/>
              <a:gdLst/>
              <a:ahLst/>
              <a:rect l="l" t="t" r="r" b="b"/>
              <a:pathLst>
                <a:path w="5162589" h="945035">
                  <a:moveTo>
                    <a:pt x="4265021" y="268288"/>
                  </a:moveTo>
                  <a:cubicBezTo>
                    <a:pt x="3207130" y="268288"/>
                    <a:pt x="2349539" y="549107"/>
                    <a:pt x="2349539" y="895515"/>
                  </a:cubicBezTo>
                  <a:cubicBezTo>
                    <a:pt x="2349539" y="912072"/>
                    <a:pt x="2351498" y="928478"/>
                    <a:pt x="2357102" y="944563"/>
                  </a:cubicBezTo>
                  <a:cubicBezTo>
                    <a:pt x="2850401" y="582141"/>
                    <a:pt x="3794125" y="337562"/>
                    <a:pt x="4877054" y="337562"/>
                  </a:cubicBezTo>
                  <a:lnTo>
                    <a:pt x="5162589" y="343479"/>
                  </a:lnTo>
                  <a:cubicBezTo>
                    <a:pt x="4895643" y="294751"/>
                    <a:pt x="4589770" y="268288"/>
                    <a:pt x="4265021" y="268288"/>
                  </a:cubicBezTo>
                  <a:close/>
                  <a:moveTo>
                    <a:pt x="749674" y="0"/>
                  </a:moveTo>
                  <a:cubicBezTo>
                    <a:pt x="478435" y="0"/>
                    <a:pt x="222961" y="36980"/>
                    <a:pt x="0" y="105072"/>
                  </a:cubicBezTo>
                  <a:lnTo>
                    <a:pt x="238487" y="96804"/>
                  </a:lnTo>
                  <a:cubicBezTo>
                    <a:pt x="1142980" y="96804"/>
                    <a:pt x="1931205" y="438582"/>
                    <a:pt x="2343222" y="945035"/>
                  </a:cubicBezTo>
                  <a:cubicBezTo>
                    <a:pt x="2347903" y="922558"/>
                    <a:pt x="2349539" y="899631"/>
                    <a:pt x="2349539" y="876494"/>
                  </a:cubicBezTo>
                  <a:cubicBezTo>
                    <a:pt x="2349539" y="392420"/>
                    <a:pt x="1633255" y="0"/>
                    <a:pt x="749674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3"/>
            <p:cNvSpPr/>
            <p:nvPr/>
          </p:nvSpPr>
          <p:spPr>
            <a:xfrm>
              <a:off x="4848120" y="4942080"/>
              <a:ext cx="4332240" cy="163440"/>
            </a:xfrm>
            <a:custGeom>
              <a:avLst/>
              <a:gdLst/>
              <a:ahLst/>
              <a:rect l="l" t="t" r="r" b="b"/>
              <a:pathLst>
                <a:path w="9144000" h="344962">
                  <a:moveTo>
                    <a:pt x="522514" y="29028"/>
                  </a:moveTo>
                  <a:lnTo>
                    <a:pt x="8505372" y="0"/>
                  </a:lnTo>
                  <a:lnTo>
                    <a:pt x="9144000" y="344962"/>
                  </a:lnTo>
                  <a:lnTo>
                    <a:pt x="0" y="344962"/>
                  </a:lnTo>
                  <a:lnTo>
                    <a:pt x="522514" y="29028"/>
                  </a:lnTo>
                  <a:close/>
                </a:path>
              </a:pathLst>
            </a:custGeom>
            <a:solidFill>
              <a:srgbClr val="008bd6"/>
            </a:solidFill>
            <a:ln w="25560">
              <a:solidFill>
                <a:srgbClr val="008b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15"/>
            <p:cNvGrpSpPr/>
            <p:nvPr/>
          </p:nvGrpSpPr>
          <p:grpSpPr>
            <a:xfrm>
              <a:off x="7302240" y="2631600"/>
              <a:ext cx="486000" cy="175680"/>
              <a:chOff x="7302240" y="2631600"/>
              <a:chExt cx="486000" cy="175680"/>
            </a:xfrm>
          </p:grpSpPr>
          <p:sp>
            <p:nvSpPr>
              <p:cNvPr id="169" name="椭圆 10"/>
              <p:cNvSpPr/>
              <p:nvPr/>
            </p:nvSpPr>
            <p:spPr>
              <a:xfrm rot="560400">
                <a:off x="7308720" y="2649960"/>
                <a:ext cx="237240" cy="102240"/>
              </a:xfrm>
              <a:custGeom>
                <a:avLst/>
                <a:gdLst/>
                <a:ahLst/>
                <a:rect l="l" t="t" r="r" b="b"/>
                <a:pathLst>
                  <a:path w="1550904" h="492804">
                    <a:moveTo>
                      <a:pt x="775452" y="0"/>
                    </a:moveTo>
                    <a:cubicBezTo>
                      <a:pt x="1131235" y="0"/>
                      <a:pt x="1434613" y="204861"/>
                      <a:pt x="1550904" y="492804"/>
                    </a:cubicBezTo>
                    <a:cubicBezTo>
                      <a:pt x="1355669" y="275206"/>
                      <a:pt x="1080366" y="140136"/>
                      <a:pt x="775452" y="140136"/>
                    </a:cubicBezTo>
                    <a:cubicBezTo>
                      <a:pt x="470538" y="140136"/>
                      <a:pt x="195236" y="275206"/>
                      <a:pt x="0" y="492804"/>
                    </a:cubicBezTo>
                    <a:cubicBezTo>
                      <a:pt x="116291" y="204861"/>
                      <a:pt x="419669" y="0"/>
                      <a:pt x="775452" y="0"/>
                    </a:cubicBezTo>
                    <a:close/>
                  </a:path>
                </a:pathLst>
              </a:custGeom>
              <a:solidFill>
                <a:srgbClr val="29ace4"/>
              </a:solidFill>
              <a:ln w="25560">
                <a:solidFill>
                  <a:srgbClr val="29ac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0"/>
              <p:cNvSpPr/>
              <p:nvPr/>
            </p:nvSpPr>
            <p:spPr>
              <a:xfrm rot="560400">
                <a:off x="7544160" y="2687760"/>
                <a:ext cx="237240" cy="100800"/>
              </a:xfrm>
              <a:custGeom>
                <a:avLst/>
                <a:gdLst/>
                <a:ahLst/>
                <a:rect l="l" t="t" r="r" b="b"/>
                <a:pathLst>
                  <a:path w="1550904" h="492804">
                    <a:moveTo>
                      <a:pt x="775452" y="0"/>
                    </a:moveTo>
                    <a:cubicBezTo>
                      <a:pt x="1131235" y="0"/>
                      <a:pt x="1434613" y="204861"/>
                      <a:pt x="1550904" y="492804"/>
                    </a:cubicBezTo>
                    <a:cubicBezTo>
                      <a:pt x="1355669" y="275206"/>
                      <a:pt x="1080366" y="140136"/>
                      <a:pt x="775452" y="140136"/>
                    </a:cubicBezTo>
                    <a:cubicBezTo>
                      <a:pt x="470538" y="140136"/>
                      <a:pt x="195236" y="275206"/>
                      <a:pt x="0" y="492804"/>
                    </a:cubicBezTo>
                    <a:cubicBezTo>
                      <a:pt x="116291" y="204861"/>
                      <a:pt x="419669" y="0"/>
                      <a:pt x="775452" y="0"/>
                    </a:cubicBezTo>
                    <a:close/>
                  </a:path>
                </a:pathLst>
              </a:custGeom>
              <a:solidFill>
                <a:srgbClr val="29ace4"/>
              </a:solidFill>
              <a:ln w="25560">
                <a:solidFill>
                  <a:srgbClr val="29ac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矩形 3"/>
          <p:cNvSpPr/>
          <p:nvPr/>
        </p:nvSpPr>
        <p:spPr>
          <a:xfrm>
            <a:off x="0" y="0"/>
            <a:ext cx="4932360" cy="6885000"/>
          </a:xfrm>
          <a:prstGeom prst="rect">
            <a:avLst/>
          </a:prstGeom>
          <a:solidFill>
            <a:srgbClr val="29a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918440" y="3016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收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7392960" y="4106880"/>
            <a:ext cx="541440" cy="62064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7972560" y="4176720"/>
            <a:ext cx="269640" cy="30960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52"/>
          <p:cNvGrpSpPr/>
          <p:nvPr/>
        </p:nvGrpSpPr>
        <p:grpSpPr>
          <a:xfrm>
            <a:off x="4948200" y="879480"/>
            <a:ext cx="1041480" cy="957240"/>
            <a:chOff x="4948200" y="879480"/>
            <a:chExt cx="1041480" cy="957240"/>
          </a:xfrm>
        </p:grpSpPr>
        <p:sp>
          <p:nvSpPr>
            <p:cNvPr id="176" name="椭圆 38"/>
            <p:cNvSpPr/>
            <p:nvPr/>
          </p:nvSpPr>
          <p:spPr>
            <a:xfrm>
              <a:off x="5300640" y="1208160"/>
              <a:ext cx="288720" cy="290520"/>
            </a:xfrm>
            <a:prstGeom prst="ellipse">
              <a:avLst/>
            </a:prstGeom>
            <a:solidFill>
              <a:srgbClr val="29ace4"/>
            </a:solidFill>
            <a:ln w="255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39"/>
            <p:cNvSpPr/>
            <p:nvPr/>
          </p:nvSpPr>
          <p:spPr>
            <a:xfrm>
              <a:off x="4981320" y="1087200"/>
              <a:ext cx="277920" cy="1666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40"/>
            <p:cNvSpPr/>
            <p:nvPr/>
          </p:nvSpPr>
          <p:spPr>
            <a:xfrm flipV="1">
              <a:off x="4948200" y="1414080"/>
              <a:ext cx="30492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41"/>
            <p:cNvSpPr/>
            <p:nvPr/>
          </p:nvSpPr>
          <p:spPr>
            <a:xfrm>
              <a:off x="5613480" y="1498680"/>
              <a:ext cx="277920" cy="164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42"/>
            <p:cNvSpPr/>
            <p:nvPr/>
          </p:nvSpPr>
          <p:spPr>
            <a:xfrm flipV="1">
              <a:off x="5666040" y="1287000"/>
              <a:ext cx="32364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43"/>
            <p:cNvSpPr/>
            <p:nvPr/>
          </p:nvSpPr>
          <p:spPr>
            <a:xfrm>
              <a:off x="5370480" y="87948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4"/>
            <p:cNvSpPr/>
            <p:nvPr/>
          </p:nvSpPr>
          <p:spPr>
            <a:xfrm>
              <a:off x="5464080" y="155916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45"/>
            <p:cNvSpPr/>
            <p:nvPr/>
          </p:nvSpPr>
          <p:spPr>
            <a:xfrm flipH="1">
              <a:off x="5109840" y="1532160"/>
              <a:ext cx="188640" cy="2253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46"/>
            <p:cNvSpPr/>
            <p:nvPr/>
          </p:nvSpPr>
          <p:spPr>
            <a:xfrm flipH="1">
              <a:off x="5589720" y="974520"/>
              <a:ext cx="188640" cy="2268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8-09T01:09:09Z</dcterms:modified>
  <cp:revision>101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