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FEC8-8352-4236-BB61-953B9EFF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A8CE-FE1E-46D1-B0EC-9D04F138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B834-EAB0-4AEA-9F63-CE213C73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A2B1-3C9C-44D9-9DDA-7EE45180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2799-66B2-4C74-A818-DA8ECAA1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611F-D0F0-4F37-8A6F-8664BC92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2B27-F291-4900-9D94-5189FD0B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498F-BC24-4851-89CD-E64C8E5C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B555-DE05-4967-BA7B-AA27556E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4762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74A3-97EC-4A6A-98FE-C3E5731F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4738-0BE0-4A64-A2E2-B9EBE1CF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5A90-9EC0-486C-A286-9EBD2111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DAD2-E0ED-4EE8-9437-3FE7FE9F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200F-6499-4DF2-8699-8E608E29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D784-7BB0-46E6-9388-8AA07938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9CF6-B9D1-4E91-B8F7-CCF018D6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E1AA-4587-4F69-BE55-4D7A16C1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7248F-D42D-45BC-BA4A-B70CC7D8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91948-E2E6-4DB3-8148-D93E0394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ED2FC-7B1B-44DD-882A-EE163F38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D48A4-22B0-4BD1-B91E-9C1E2118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EF8A8-75E7-4F95-A2CA-6E54C0AB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65F5-58AF-4561-89B6-9A0EA9C0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4762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38D78-B652-43DC-BAE2-E1DA7EBF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DF564-5ACD-4827-AB12-DCB35A18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76EAB-A1EE-42DD-9F06-2D0D06B5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DF194-D443-4373-8302-4C194B1E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E5AC0-A6D3-4C1D-AA47-12469706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63832-6DCB-4E12-BC31-849D414F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0995F-911D-48C8-BB0E-4B844FF4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2CB6-AFE4-4094-AC17-1314FE8A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7BF5-46E3-4F82-BBF7-99D48CA2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762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01C5-640C-4F28-BA3C-1715A166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DF3A-5956-4DBF-B218-A445A466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110B-23EB-491D-AB98-B6D716D7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A1FB-0CC1-4621-BA1B-574F9A7D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nordridesign.cn/index.php" TargetMode="External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03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9257-3ED2-44B7-9CFA-4C73CE9D4567}" type="slidenum"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5A3B-04C6-4CF6-893A-E5303C344A0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8131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029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2559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45435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47577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5037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52642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54784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4078080" y="301932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logo"/>
          <p:cNvPicPr/>
          <p:nvPr/>
        </p:nvPicPr>
        <p:blipFill>
          <a:blip r:embed="rId2"/>
          <a:stretch/>
        </p:blipFill>
        <p:spPr>
          <a:xfrm>
            <a:off x="3116160" y="2525760"/>
            <a:ext cx="782640" cy="73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logo2"/>
          <p:cNvPicPr/>
          <p:nvPr/>
        </p:nvPicPr>
        <p:blipFill>
          <a:blip r:embed="rId3"/>
          <a:stretch/>
        </p:blipFill>
        <p:spPr>
          <a:xfrm>
            <a:off x="2563920" y="2347920"/>
            <a:ext cx="3828960" cy="13255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8">
            <a:hlinkClick r:id="rId4"/>
          </p:cNvPr>
          <p:cNvSpPr/>
          <p:nvPr/>
        </p:nvSpPr>
        <p:spPr>
          <a:xfrm>
            <a:off x="2484360" y="2060640"/>
            <a:ext cx="3987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393840" y="62654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16160" y="6265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41560" y="6265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7027-0F8E-4227-B874-9C96FE4A3919}" type="slidenum"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8" descr="Unbenannt-2"/>
          <p:cNvPicPr/>
          <p:nvPr/>
        </p:nvPicPr>
        <p:blipFill>
          <a:blip r:embed="rId2"/>
          <a:stretch/>
        </p:blipFill>
        <p:spPr>
          <a:xfrm>
            <a:off x="5724360" y="2997360"/>
            <a:ext cx="279720" cy="431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58320" y="1341360"/>
            <a:ext cx="52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淡雅风格汇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默认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首页主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3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；副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内页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；内页内容文字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华文细黑）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59500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59D6-6B13-40E3-94D2-DB028711C0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71960" y="2571840"/>
            <a:ext cx="338616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感谢您的关注！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8T08:43:48Z</dcterms:created>
  <dc:creator>PowerBar_lxym148</dc:creator>
  <dc:description>PowerBar：中国专业ppt设计交流论坛，是基于PowerPoint软件，以设计，创意，技巧，讨论，赏析，模板发布内容为主。
通过Nordri设计团队并汇集国内优秀PowerPoint设计者/爱好者的原创力量，建立更多与PPT相关的专业内容，为网友共享。 
</dc:description>
  <cp:keywords>ppt模板 PPT专业模板 PowerBar 专业PPT论坛</cp:keywords>
  <dc:language>en-US</dc:language>
  <cp:lastModifiedBy>toshiba</cp:lastModifiedBy>
  <dcterms:modified xsi:type="dcterms:W3CDTF">2015-08-09T01:10:52Z</dcterms:modified>
  <cp:revision>39</cp:revision>
  <dc:subject>PowerBar原创专业PPT模板</dc:subject>
  <dc:title>PowerBar原创专业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