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3CF6-A1A8-4FB0-9D80-923A2F71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8439-DDF0-4C9C-BE15-C2B1F07A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D247-C9BB-4115-9675-93CBE697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BC932-C1A3-41D3-A22C-4F4BAB77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F305-861A-4C05-BFF8-D23932A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12EA-91E3-4C55-A9A0-9FCC6E6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5D63-62C7-4224-BBE9-6C11CE02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95A7-768E-4AA3-BDF5-01364C63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A5D2D-92D0-4DE2-99E2-868F850F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8761-6314-4164-9CA3-4F5647C0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9DFF-5AA2-4D16-A688-536F8A3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3AF9-37A4-49A3-BB1E-9464F3B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72440" cy="887400"/>
          </a:xfrm>
          <a:custGeom>
            <a:avLst/>
            <a:gdLst/>
            <a:ahLst/>
            <a:rect l="l" t="t" r="r" b="b"/>
            <a:pathLst>
              <a:path w="5778" h="565">
                <a:moveTo>
                  <a:pt x="0" y="565"/>
                </a:moveTo>
                <a:lnTo>
                  <a:pt x="0" y="0"/>
                </a:lnTo>
                <a:lnTo>
                  <a:pt x="5766" y="0"/>
                </a:lnTo>
                <a:lnTo>
                  <a:pt x="5778" y="565"/>
                </a:lnTo>
                <a:lnTo>
                  <a:pt x="0" y="565"/>
                </a:lnTo>
                <a:close/>
              </a:path>
            </a:pathLst>
          </a:custGeom>
          <a:gradFill rotWithShape="0">
            <a:gsLst>
              <a:gs pos="0">
                <a:srgbClr val="20a0ba"/>
              </a:gs>
              <a:gs pos="100000">
                <a:srgbClr val="2029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3917" r="0" b="0"/>
          <a:stretch/>
        </p:blipFill>
        <p:spPr>
          <a:xfrm>
            <a:off x="3048120" y="0"/>
            <a:ext cx="6095880" cy="9302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4514400" y="5410080"/>
            <a:ext cx="4638600" cy="1517760"/>
            <a:chOff x="4514400" y="5410080"/>
            <a:chExt cx="4638600" cy="1517760"/>
          </a:xfrm>
        </p:grpSpPr>
        <p:sp>
          <p:nvSpPr>
            <p:cNvPr id="3" name=""/>
            <p:cNvSpPr/>
            <p:nvPr/>
          </p:nvSpPr>
          <p:spPr>
            <a:xfrm flipH="1" flipV="1">
              <a:off x="4603320" y="5508360"/>
              <a:ext cx="4541040" cy="1403280"/>
            </a:xfrm>
            <a:custGeom>
              <a:avLst/>
              <a:gdLst/>
              <a:ahLst/>
              <a:rect l="l" t="t" r="r" b="b"/>
              <a:pathLst>
                <a:path w="3682" h="1203">
                  <a:moveTo>
                    <a:pt x="0" y="1203"/>
                  </a:moveTo>
                  <a:lnTo>
                    <a:pt x="0" y="51"/>
                  </a:lnTo>
                  <a:cubicBezTo>
                    <a:pt x="0" y="51"/>
                    <a:pt x="3475" y="0"/>
                    <a:pt x="3682" y="51"/>
                  </a:cubicBezTo>
                  <a:cubicBezTo>
                    <a:pt x="2491" y="76"/>
                    <a:pt x="2161" y="90"/>
                    <a:pt x="1242" y="355"/>
                  </a:cubicBezTo>
                  <a:cubicBezTo>
                    <a:pt x="323" y="620"/>
                    <a:pt x="0" y="1203"/>
                    <a:pt x="0" y="1203"/>
                  </a:cubicBezTo>
                  <a:close/>
                </a:path>
              </a:pathLst>
            </a:custGeom>
            <a:gradFill rotWithShape="0">
              <a:gsLst>
                <a:gs pos="0">
                  <a:srgbClr val="20a0ba"/>
                </a:gs>
                <a:gs pos="100000">
                  <a:srgbClr val="2029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flipV="1">
              <a:off x="4514040" y="5410080"/>
              <a:ext cx="4638600" cy="1517760"/>
            </a:xfrm>
            <a:custGeom>
              <a:avLst/>
              <a:gdLst/>
              <a:ahLst/>
              <a:rect l="l" t="t" r="r" b="b"/>
              <a:pathLst>
                <a:path w="3761" h="1301">
                  <a:moveTo>
                    <a:pt x="0" y="1301"/>
                  </a:moveTo>
                  <a:cubicBezTo>
                    <a:pt x="537" y="615"/>
                    <a:pt x="887" y="532"/>
                    <a:pt x="1514" y="330"/>
                  </a:cubicBezTo>
                  <a:cubicBezTo>
                    <a:pt x="2141" y="128"/>
                    <a:pt x="3761" y="80"/>
                    <a:pt x="3747" y="65"/>
                  </a:cubicBezTo>
                  <a:cubicBezTo>
                    <a:pt x="2738" y="0"/>
                    <a:pt x="2001" y="110"/>
                    <a:pt x="1469" y="246"/>
                  </a:cubicBezTo>
                  <a:cubicBezTo>
                    <a:pt x="939" y="382"/>
                    <a:pt x="395" y="615"/>
                    <a:pt x="7" y="1081"/>
                  </a:cubicBezTo>
                  <a:lnTo>
                    <a:pt x="0" y="1301"/>
                  </a:lnTo>
                  <a:close/>
                </a:path>
              </a:pathLst>
            </a:custGeom>
            <a:solidFill>
              <a:srgbClr val="1c1c1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a0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822240"/>
            <a:ext cx="9144000" cy="128520"/>
          </a:xfrm>
          <a:prstGeom prst="rect">
            <a:avLst/>
          </a:prstGeom>
          <a:solidFill>
            <a:srgbClr val="1c1c1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83F4-8F7B-4513-BD6B-219D4A3AB38A}" type="slidenum"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8267760" y="138240"/>
            <a:ext cx="762120" cy="765000"/>
            <a:chOff x="8267760" y="138240"/>
            <a:chExt cx="762120" cy="765000"/>
          </a:xfrm>
        </p:grpSpPr>
        <p:sp>
          <p:nvSpPr>
            <p:cNvPr id="12" name=""/>
            <p:cNvSpPr/>
            <p:nvPr/>
          </p:nvSpPr>
          <p:spPr>
            <a:xfrm>
              <a:off x="8502120" y="138240"/>
              <a:ext cx="248760" cy="765000"/>
            </a:xfrm>
            <a:custGeom>
              <a:avLst/>
              <a:gdLst/>
              <a:ahLst/>
              <a:rect l="l" t="t" r="r" b="b"/>
              <a:pathLst>
                <a:path w="558" h="1716">
                  <a:moveTo>
                    <a:pt x="273" y="12"/>
                  </a:moveTo>
                  <a:lnTo>
                    <a:pt x="318" y="0"/>
                  </a:lnTo>
                  <a:lnTo>
                    <a:pt x="351" y="27"/>
                  </a:lnTo>
                  <a:lnTo>
                    <a:pt x="342" y="294"/>
                  </a:lnTo>
                  <a:lnTo>
                    <a:pt x="327" y="741"/>
                  </a:lnTo>
                  <a:lnTo>
                    <a:pt x="306" y="828"/>
                  </a:lnTo>
                  <a:lnTo>
                    <a:pt x="321" y="933"/>
                  </a:lnTo>
                  <a:lnTo>
                    <a:pt x="303" y="1026"/>
                  </a:lnTo>
                  <a:lnTo>
                    <a:pt x="315" y="1140"/>
                  </a:lnTo>
                  <a:lnTo>
                    <a:pt x="297" y="1248"/>
                  </a:lnTo>
                  <a:lnTo>
                    <a:pt x="306" y="1314"/>
                  </a:lnTo>
                  <a:lnTo>
                    <a:pt x="297" y="1386"/>
                  </a:lnTo>
                  <a:lnTo>
                    <a:pt x="327" y="1554"/>
                  </a:lnTo>
                  <a:lnTo>
                    <a:pt x="444" y="1653"/>
                  </a:lnTo>
                  <a:lnTo>
                    <a:pt x="558" y="1677"/>
                  </a:lnTo>
                  <a:lnTo>
                    <a:pt x="543" y="1695"/>
                  </a:lnTo>
                  <a:lnTo>
                    <a:pt x="309" y="1716"/>
                  </a:lnTo>
                  <a:lnTo>
                    <a:pt x="147" y="1713"/>
                  </a:lnTo>
                  <a:lnTo>
                    <a:pt x="15" y="1689"/>
                  </a:lnTo>
                  <a:lnTo>
                    <a:pt x="0" y="1665"/>
                  </a:lnTo>
                  <a:lnTo>
                    <a:pt x="45" y="1653"/>
                  </a:lnTo>
                  <a:lnTo>
                    <a:pt x="141" y="1620"/>
                  </a:lnTo>
                  <a:lnTo>
                    <a:pt x="228" y="1539"/>
                  </a:lnTo>
                  <a:lnTo>
                    <a:pt x="246" y="1473"/>
                  </a:lnTo>
                  <a:lnTo>
                    <a:pt x="243" y="1443"/>
                  </a:lnTo>
                  <a:lnTo>
                    <a:pt x="255" y="1368"/>
                  </a:lnTo>
                  <a:lnTo>
                    <a:pt x="249" y="1311"/>
                  </a:lnTo>
                  <a:lnTo>
                    <a:pt x="261" y="1227"/>
                  </a:lnTo>
                  <a:lnTo>
                    <a:pt x="252" y="1146"/>
                  </a:lnTo>
                  <a:lnTo>
                    <a:pt x="264" y="1008"/>
                  </a:lnTo>
                  <a:lnTo>
                    <a:pt x="255" y="933"/>
                  </a:lnTo>
                  <a:lnTo>
                    <a:pt x="270" y="819"/>
                  </a:lnTo>
                  <a:lnTo>
                    <a:pt x="258" y="741"/>
                  </a:lnTo>
                  <a:lnTo>
                    <a:pt x="27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52800" y="202320"/>
              <a:ext cx="388440" cy="49320"/>
            </a:xfrm>
            <a:custGeom>
              <a:avLst/>
              <a:gdLst/>
              <a:ahLst/>
              <a:rect l="l" t="t" r="r" b="b"/>
              <a:pathLst>
                <a:path w="871" h="111">
                  <a:moveTo>
                    <a:pt x="51" y="45"/>
                  </a:moveTo>
                  <a:cubicBezTo>
                    <a:pt x="40" y="45"/>
                    <a:pt x="12" y="31"/>
                    <a:pt x="6" y="39"/>
                  </a:cubicBezTo>
                  <a:cubicBezTo>
                    <a:pt x="0" y="47"/>
                    <a:pt x="7" y="86"/>
                    <a:pt x="15" y="96"/>
                  </a:cubicBezTo>
                  <a:lnTo>
                    <a:pt x="54" y="99"/>
                  </a:lnTo>
                  <a:lnTo>
                    <a:pt x="111" y="57"/>
                  </a:lnTo>
                  <a:lnTo>
                    <a:pt x="246" y="33"/>
                  </a:lnTo>
                  <a:lnTo>
                    <a:pt x="462" y="30"/>
                  </a:lnTo>
                  <a:lnTo>
                    <a:pt x="717" y="66"/>
                  </a:lnTo>
                  <a:lnTo>
                    <a:pt x="789" y="111"/>
                  </a:lnTo>
                  <a:lnTo>
                    <a:pt x="843" y="87"/>
                  </a:lnTo>
                  <a:cubicBezTo>
                    <a:pt x="855" y="75"/>
                    <a:pt x="871" y="47"/>
                    <a:pt x="861" y="39"/>
                  </a:cubicBezTo>
                  <a:cubicBezTo>
                    <a:pt x="851" y="31"/>
                    <a:pt x="799" y="37"/>
                    <a:pt x="783" y="39"/>
                  </a:cubicBezTo>
                  <a:lnTo>
                    <a:pt x="765" y="54"/>
                  </a:lnTo>
                  <a:lnTo>
                    <a:pt x="669" y="18"/>
                  </a:lnTo>
                  <a:lnTo>
                    <a:pt x="387" y="0"/>
                  </a:lnTo>
                  <a:lnTo>
                    <a:pt x="234" y="0"/>
                  </a:lnTo>
                  <a:lnTo>
                    <a:pt x="72" y="42"/>
                  </a:lnTo>
                  <a:lnTo>
                    <a:pt x="5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1600" y="232920"/>
              <a:ext cx="299520" cy="419760"/>
            </a:xfrm>
            <a:custGeom>
              <a:avLst/>
              <a:gdLst/>
              <a:ahLst/>
              <a:rect l="l" t="t" r="r" b="b"/>
              <a:pathLst>
                <a:path w="672" h="942">
                  <a:moveTo>
                    <a:pt x="363" y="33"/>
                  </a:moveTo>
                  <a:lnTo>
                    <a:pt x="39" y="864"/>
                  </a:lnTo>
                  <a:lnTo>
                    <a:pt x="0" y="888"/>
                  </a:lnTo>
                  <a:lnTo>
                    <a:pt x="63" y="891"/>
                  </a:lnTo>
                  <a:lnTo>
                    <a:pt x="81" y="819"/>
                  </a:lnTo>
                  <a:lnTo>
                    <a:pt x="369" y="63"/>
                  </a:lnTo>
                  <a:lnTo>
                    <a:pt x="627" y="903"/>
                  </a:lnTo>
                  <a:lnTo>
                    <a:pt x="618" y="930"/>
                  </a:lnTo>
                  <a:lnTo>
                    <a:pt x="660" y="942"/>
                  </a:lnTo>
                  <a:lnTo>
                    <a:pt x="672" y="918"/>
                  </a:lnTo>
                  <a:lnTo>
                    <a:pt x="645" y="897"/>
                  </a:lnTo>
                  <a:lnTo>
                    <a:pt x="369" y="0"/>
                  </a:lnTo>
                  <a:lnTo>
                    <a:pt x="354" y="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3320" y="228960"/>
              <a:ext cx="342360" cy="457200"/>
            </a:xfrm>
            <a:custGeom>
              <a:avLst/>
              <a:gdLst/>
              <a:ahLst/>
              <a:rect l="l" t="t" r="r" b="b"/>
              <a:pathLst>
                <a:path w="768" h="1026">
                  <a:moveTo>
                    <a:pt x="369" y="21"/>
                  </a:moveTo>
                  <a:lnTo>
                    <a:pt x="26" y="960"/>
                  </a:lnTo>
                  <a:lnTo>
                    <a:pt x="0" y="1026"/>
                  </a:lnTo>
                  <a:lnTo>
                    <a:pt x="66" y="1017"/>
                  </a:lnTo>
                  <a:lnTo>
                    <a:pt x="54" y="975"/>
                  </a:lnTo>
                  <a:lnTo>
                    <a:pt x="375" y="78"/>
                  </a:lnTo>
                  <a:lnTo>
                    <a:pt x="711" y="999"/>
                  </a:lnTo>
                  <a:lnTo>
                    <a:pt x="693" y="1017"/>
                  </a:lnTo>
                  <a:lnTo>
                    <a:pt x="738" y="1023"/>
                  </a:lnTo>
                  <a:lnTo>
                    <a:pt x="768" y="1014"/>
                  </a:lnTo>
                  <a:lnTo>
                    <a:pt x="735" y="990"/>
                  </a:lnTo>
                  <a:lnTo>
                    <a:pt x="380" y="3"/>
                  </a:lnTo>
                  <a:lnTo>
                    <a:pt x="36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42880" y="542880"/>
              <a:ext cx="387000" cy="173880"/>
            </a:xfrm>
            <a:custGeom>
              <a:avLst/>
              <a:gdLst/>
              <a:ahLst/>
              <a:rect l="l" t="t" r="r" b="b"/>
              <a:pathLst>
                <a:path w="868" h="390">
                  <a:moveTo>
                    <a:pt x="360" y="3"/>
                  </a:moveTo>
                  <a:cubicBezTo>
                    <a:pt x="340" y="0"/>
                    <a:pt x="293" y="1"/>
                    <a:pt x="266" y="3"/>
                  </a:cubicBezTo>
                  <a:cubicBezTo>
                    <a:pt x="239" y="5"/>
                    <a:pt x="204" y="13"/>
                    <a:pt x="197" y="17"/>
                  </a:cubicBezTo>
                  <a:lnTo>
                    <a:pt x="225" y="30"/>
                  </a:lnTo>
                  <a:lnTo>
                    <a:pt x="221" y="46"/>
                  </a:lnTo>
                  <a:lnTo>
                    <a:pt x="279" y="52"/>
                  </a:lnTo>
                  <a:lnTo>
                    <a:pt x="219" y="51"/>
                  </a:lnTo>
                  <a:lnTo>
                    <a:pt x="210" y="78"/>
                  </a:lnTo>
                  <a:lnTo>
                    <a:pt x="344" y="91"/>
                  </a:lnTo>
                  <a:lnTo>
                    <a:pt x="207" y="84"/>
                  </a:lnTo>
                  <a:lnTo>
                    <a:pt x="329" y="96"/>
                  </a:lnTo>
                  <a:lnTo>
                    <a:pt x="204" y="93"/>
                  </a:lnTo>
                  <a:lnTo>
                    <a:pt x="198" y="108"/>
                  </a:lnTo>
                  <a:lnTo>
                    <a:pt x="207" y="153"/>
                  </a:lnTo>
                  <a:lnTo>
                    <a:pt x="219" y="180"/>
                  </a:lnTo>
                  <a:lnTo>
                    <a:pt x="219" y="192"/>
                  </a:lnTo>
                  <a:lnTo>
                    <a:pt x="264" y="201"/>
                  </a:lnTo>
                  <a:lnTo>
                    <a:pt x="213" y="198"/>
                  </a:lnTo>
                  <a:lnTo>
                    <a:pt x="207" y="219"/>
                  </a:lnTo>
                  <a:lnTo>
                    <a:pt x="228" y="228"/>
                  </a:lnTo>
                  <a:lnTo>
                    <a:pt x="273" y="235"/>
                  </a:lnTo>
                  <a:lnTo>
                    <a:pt x="212" y="231"/>
                  </a:lnTo>
                  <a:lnTo>
                    <a:pt x="201" y="231"/>
                  </a:lnTo>
                  <a:lnTo>
                    <a:pt x="198" y="261"/>
                  </a:lnTo>
                  <a:lnTo>
                    <a:pt x="174" y="297"/>
                  </a:lnTo>
                  <a:lnTo>
                    <a:pt x="113" y="301"/>
                  </a:lnTo>
                  <a:lnTo>
                    <a:pt x="0" y="321"/>
                  </a:lnTo>
                  <a:lnTo>
                    <a:pt x="5" y="340"/>
                  </a:lnTo>
                  <a:cubicBezTo>
                    <a:pt x="17" y="348"/>
                    <a:pt x="23" y="362"/>
                    <a:pt x="72" y="370"/>
                  </a:cubicBezTo>
                  <a:cubicBezTo>
                    <a:pt x="121" y="378"/>
                    <a:pt x="204" y="389"/>
                    <a:pt x="300" y="390"/>
                  </a:cubicBezTo>
                  <a:cubicBezTo>
                    <a:pt x="393" y="390"/>
                    <a:pt x="569" y="382"/>
                    <a:pt x="651" y="375"/>
                  </a:cubicBezTo>
                  <a:cubicBezTo>
                    <a:pt x="733" y="368"/>
                    <a:pt x="764" y="354"/>
                    <a:pt x="795" y="345"/>
                  </a:cubicBezTo>
                  <a:lnTo>
                    <a:pt x="837" y="322"/>
                  </a:lnTo>
                  <a:cubicBezTo>
                    <a:pt x="849" y="315"/>
                    <a:pt x="868" y="307"/>
                    <a:pt x="864" y="300"/>
                  </a:cubicBezTo>
                  <a:cubicBezTo>
                    <a:pt x="859" y="294"/>
                    <a:pt x="837" y="285"/>
                    <a:pt x="810" y="282"/>
                  </a:cubicBezTo>
                  <a:lnTo>
                    <a:pt x="699" y="282"/>
                  </a:lnTo>
                  <a:lnTo>
                    <a:pt x="656" y="274"/>
                  </a:lnTo>
                  <a:lnTo>
                    <a:pt x="650" y="247"/>
                  </a:lnTo>
                  <a:lnTo>
                    <a:pt x="626" y="244"/>
                  </a:lnTo>
                  <a:lnTo>
                    <a:pt x="615" y="226"/>
                  </a:lnTo>
                  <a:lnTo>
                    <a:pt x="593" y="223"/>
                  </a:lnTo>
                  <a:lnTo>
                    <a:pt x="566" y="232"/>
                  </a:lnTo>
                  <a:lnTo>
                    <a:pt x="557" y="208"/>
                  </a:lnTo>
                  <a:lnTo>
                    <a:pt x="549" y="187"/>
                  </a:lnTo>
                  <a:lnTo>
                    <a:pt x="500" y="196"/>
                  </a:lnTo>
                  <a:lnTo>
                    <a:pt x="546" y="181"/>
                  </a:lnTo>
                  <a:lnTo>
                    <a:pt x="546" y="175"/>
                  </a:lnTo>
                  <a:lnTo>
                    <a:pt x="489" y="187"/>
                  </a:lnTo>
                  <a:lnTo>
                    <a:pt x="540" y="172"/>
                  </a:lnTo>
                  <a:lnTo>
                    <a:pt x="474" y="184"/>
                  </a:lnTo>
                  <a:lnTo>
                    <a:pt x="534" y="168"/>
                  </a:lnTo>
                  <a:lnTo>
                    <a:pt x="549" y="141"/>
                  </a:lnTo>
                  <a:lnTo>
                    <a:pt x="537" y="126"/>
                  </a:lnTo>
                  <a:lnTo>
                    <a:pt x="486" y="138"/>
                  </a:lnTo>
                  <a:lnTo>
                    <a:pt x="531" y="120"/>
                  </a:lnTo>
                  <a:lnTo>
                    <a:pt x="465" y="133"/>
                  </a:lnTo>
                  <a:lnTo>
                    <a:pt x="528" y="114"/>
                  </a:lnTo>
                  <a:cubicBezTo>
                    <a:pt x="536" y="105"/>
                    <a:pt x="529" y="82"/>
                    <a:pt x="510" y="78"/>
                  </a:cubicBezTo>
                  <a:cubicBezTo>
                    <a:pt x="491" y="74"/>
                    <a:pt x="434" y="88"/>
                    <a:pt x="414" y="90"/>
                  </a:cubicBezTo>
                  <a:lnTo>
                    <a:pt x="390" y="93"/>
                  </a:lnTo>
                  <a:lnTo>
                    <a:pt x="381" y="78"/>
                  </a:lnTo>
                  <a:lnTo>
                    <a:pt x="387" y="70"/>
                  </a:lnTo>
                  <a:lnTo>
                    <a:pt x="305" y="63"/>
                  </a:lnTo>
                  <a:lnTo>
                    <a:pt x="386" y="66"/>
                  </a:lnTo>
                  <a:lnTo>
                    <a:pt x="389" y="54"/>
                  </a:lnTo>
                  <a:cubicBezTo>
                    <a:pt x="392" y="49"/>
                    <a:pt x="406" y="40"/>
                    <a:pt x="405" y="36"/>
                  </a:cubicBezTo>
                  <a:cubicBezTo>
                    <a:pt x="404" y="32"/>
                    <a:pt x="389" y="32"/>
                    <a:pt x="384" y="27"/>
                  </a:cubicBezTo>
                  <a:lnTo>
                    <a:pt x="377" y="7"/>
                  </a:lnTo>
                  <a:lnTo>
                    <a:pt x="36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67760" y="624960"/>
              <a:ext cx="352800" cy="52920"/>
            </a:xfrm>
            <a:custGeom>
              <a:avLst/>
              <a:gdLst/>
              <a:ahLst/>
              <a:rect l="l" t="t" r="r" b="b"/>
              <a:pathLst>
                <a:path w="791" h="119">
                  <a:moveTo>
                    <a:pt x="370" y="6"/>
                  </a:moveTo>
                  <a:lnTo>
                    <a:pt x="208" y="6"/>
                  </a:lnTo>
                  <a:lnTo>
                    <a:pt x="88" y="0"/>
                  </a:lnTo>
                  <a:lnTo>
                    <a:pt x="13" y="24"/>
                  </a:lnTo>
                  <a:cubicBezTo>
                    <a:pt x="2" y="33"/>
                    <a:pt x="0" y="42"/>
                    <a:pt x="19" y="54"/>
                  </a:cubicBezTo>
                  <a:cubicBezTo>
                    <a:pt x="38" y="66"/>
                    <a:pt x="83" y="87"/>
                    <a:pt x="127" y="96"/>
                  </a:cubicBezTo>
                  <a:cubicBezTo>
                    <a:pt x="171" y="105"/>
                    <a:pt x="221" y="108"/>
                    <a:pt x="286" y="111"/>
                  </a:cubicBezTo>
                  <a:cubicBezTo>
                    <a:pt x="351" y="114"/>
                    <a:pt x="454" y="119"/>
                    <a:pt x="520" y="117"/>
                  </a:cubicBezTo>
                  <a:lnTo>
                    <a:pt x="682" y="102"/>
                  </a:lnTo>
                  <a:lnTo>
                    <a:pt x="751" y="90"/>
                  </a:lnTo>
                  <a:cubicBezTo>
                    <a:pt x="769" y="83"/>
                    <a:pt x="789" y="64"/>
                    <a:pt x="790" y="57"/>
                  </a:cubicBezTo>
                  <a:cubicBezTo>
                    <a:pt x="791" y="50"/>
                    <a:pt x="787" y="49"/>
                    <a:pt x="760" y="45"/>
                  </a:cubicBezTo>
                  <a:lnTo>
                    <a:pt x="628" y="30"/>
                  </a:lnTo>
                  <a:cubicBezTo>
                    <a:pt x="582" y="26"/>
                    <a:pt x="527" y="22"/>
                    <a:pt x="484" y="18"/>
                  </a:cubicBezTo>
                  <a:cubicBezTo>
                    <a:pt x="441" y="14"/>
                    <a:pt x="394" y="9"/>
                    <a:pt x="37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12600" y="5416560"/>
            <a:ext cx="4779720" cy="1517760"/>
            <a:chOff x="-12600" y="5416560"/>
            <a:chExt cx="4779720" cy="1517760"/>
          </a:xfrm>
        </p:grpSpPr>
        <p:sp>
          <p:nvSpPr>
            <p:cNvPr id="19" name=""/>
            <p:cNvSpPr/>
            <p:nvPr/>
          </p:nvSpPr>
          <p:spPr>
            <a:xfrm flipV="1">
              <a:off x="-3240" y="5514840"/>
              <a:ext cx="4678920" cy="1403280"/>
            </a:xfrm>
            <a:custGeom>
              <a:avLst/>
              <a:gdLst/>
              <a:ahLst/>
              <a:rect l="l" t="t" r="r" b="b"/>
              <a:pathLst>
                <a:path w="3682" h="1203">
                  <a:moveTo>
                    <a:pt x="0" y="1203"/>
                  </a:moveTo>
                  <a:lnTo>
                    <a:pt x="0" y="51"/>
                  </a:lnTo>
                  <a:cubicBezTo>
                    <a:pt x="0" y="51"/>
                    <a:pt x="3475" y="0"/>
                    <a:pt x="3682" y="51"/>
                  </a:cubicBezTo>
                  <a:cubicBezTo>
                    <a:pt x="2491" y="76"/>
                    <a:pt x="2161" y="90"/>
                    <a:pt x="1242" y="355"/>
                  </a:cubicBezTo>
                  <a:cubicBezTo>
                    <a:pt x="323" y="620"/>
                    <a:pt x="0" y="1203"/>
                    <a:pt x="0" y="1203"/>
                  </a:cubicBezTo>
                  <a:close/>
                </a:path>
              </a:pathLst>
            </a:custGeom>
            <a:gradFill rotWithShape="0">
              <a:gsLst>
                <a:gs pos="0">
                  <a:srgbClr val="20a0ba"/>
                </a:gs>
                <a:gs pos="100000">
                  <a:srgbClr val="2029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-12240" y="5416560"/>
              <a:ext cx="4779720" cy="1517760"/>
            </a:xfrm>
            <a:custGeom>
              <a:avLst/>
              <a:gdLst/>
              <a:ahLst/>
              <a:rect l="l" t="t" r="r" b="b"/>
              <a:pathLst>
                <a:path w="3761" h="1301">
                  <a:moveTo>
                    <a:pt x="0" y="1301"/>
                  </a:moveTo>
                  <a:cubicBezTo>
                    <a:pt x="537" y="615"/>
                    <a:pt x="887" y="532"/>
                    <a:pt x="1514" y="330"/>
                  </a:cubicBezTo>
                  <a:cubicBezTo>
                    <a:pt x="2141" y="128"/>
                    <a:pt x="3761" y="80"/>
                    <a:pt x="3747" y="65"/>
                  </a:cubicBezTo>
                  <a:cubicBezTo>
                    <a:pt x="2738" y="0"/>
                    <a:pt x="2001" y="110"/>
                    <a:pt x="1469" y="246"/>
                  </a:cubicBezTo>
                  <a:cubicBezTo>
                    <a:pt x="939" y="382"/>
                    <a:pt x="395" y="615"/>
                    <a:pt x="7" y="1081"/>
                  </a:cubicBezTo>
                  <a:lnTo>
                    <a:pt x="0" y="1301"/>
                  </a:lnTo>
                  <a:close/>
                </a:path>
              </a:pathLst>
            </a:custGeom>
            <a:solidFill>
              <a:srgbClr val="1c1c1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" name="" descr=""/>
          <p:cNvPicPr/>
          <p:nvPr/>
        </p:nvPicPr>
        <p:blipFill>
          <a:blip r:embed="rId3"/>
          <a:srcRect l="0" t="0" r="0" b="23595"/>
          <a:stretch/>
        </p:blipFill>
        <p:spPr>
          <a:xfrm>
            <a:off x="0" y="0"/>
            <a:ext cx="2733840" cy="884160"/>
          </a:xfrm>
          <a:prstGeom prst="rect">
            <a:avLst/>
          </a:prstGeom>
          <a:ln w="0">
            <a:noFill/>
          </a:ln>
        </p:spPr>
      </p:pic>
      <p:sp>
        <p:nvSpPr>
          <p:cNvPr id="24" name="PlaceHolder 5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-50760" y="76320"/>
            <a:ext cx="1941480" cy="774720"/>
          </a:xfrm>
          <a:custGeom>
            <a:avLst/>
            <a:gdLst/>
            <a:ahLst/>
            <a:rect l="l" t="t" r="r" b="b"/>
            <a:pathLst>
              <a:path w="1478" h="488">
                <a:moveTo>
                  <a:pt x="0" y="424"/>
                </a:moveTo>
                <a:lnTo>
                  <a:pt x="272" y="100"/>
                </a:lnTo>
                <a:lnTo>
                  <a:pt x="847" y="378"/>
                </a:lnTo>
                <a:lnTo>
                  <a:pt x="1386" y="50"/>
                </a:lnTo>
                <a:lnTo>
                  <a:pt x="1332" y="2"/>
                </a:lnTo>
                <a:lnTo>
                  <a:pt x="1474" y="0"/>
                </a:lnTo>
                <a:lnTo>
                  <a:pt x="1478" y="152"/>
                </a:lnTo>
                <a:lnTo>
                  <a:pt x="1418" y="90"/>
                </a:lnTo>
                <a:lnTo>
                  <a:pt x="847" y="462"/>
                </a:lnTo>
                <a:lnTo>
                  <a:pt x="278" y="184"/>
                </a:lnTo>
                <a:lnTo>
                  <a:pt x="33" y="488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a0ba"/>
            </a:gs>
            <a:gs pos="100000">
              <a:srgbClr val="2029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912240" y="2743560"/>
            <a:ext cx="10327680" cy="3886200"/>
            <a:chOff x="-912240" y="2743560"/>
            <a:chExt cx="10327680" cy="38862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rcRect l="0" t="12108" r="0" b="0"/>
            <a:stretch/>
          </p:blipFill>
          <p:spPr>
            <a:xfrm flipH="1" rot="21468600">
              <a:off x="926280" y="3537360"/>
              <a:ext cx="8422920" cy="24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rcRect l="0" t="12108" r="0" b="0"/>
            <a:stretch/>
          </p:blipFill>
          <p:spPr>
            <a:xfrm flipH="1" rot="21260400">
              <a:off x="-793440" y="3233880"/>
              <a:ext cx="10090440" cy="290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819000" y="4592520"/>
            <a:ext cx="11160" cy="3204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20"/>
                </a:moveTo>
                <a:cubicBezTo>
                  <a:pt x="2" y="13"/>
                  <a:pt x="7" y="0"/>
                  <a:pt x="7" y="0"/>
                </a:cubicBezTo>
                <a:cubicBezTo>
                  <a:pt x="7" y="0"/>
                  <a:pt x="2" y="13"/>
                  <a:pt x="0" y="20"/>
                </a:cubicBezTo>
                <a:close/>
              </a:path>
            </a:pathLst>
          </a:custGeom>
          <a:gradFill rotWithShape="0">
            <a:gsLst>
              <a:gs pos="0">
                <a:srgbClr val="20296a"/>
              </a:gs>
              <a:gs pos="100000">
                <a:srgbClr val="5a6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52560" y="4619520"/>
            <a:ext cx="1646280" cy="2238480"/>
          </a:xfrm>
          <a:custGeom>
            <a:avLst/>
            <a:gdLst/>
            <a:ahLst/>
            <a:rect l="l" t="t" r="r" b="b"/>
            <a:pathLst>
              <a:path w="1037" h="1410">
                <a:moveTo>
                  <a:pt x="252" y="5"/>
                </a:moveTo>
                <a:cubicBezTo>
                  <a:pt x="255" y="0"/>
                  <a:pt x="268" y="26"/>
                  <a:pt x="274" y="26"/>
                </a:cubicBezTo>
                <a:lnTo>
                  <a:pt x="292" y="5"/>
                </a:lnTo>
                <a:lnTo>
                  <a:pt x="321" y="15"/>
                </a:lnTo>
                <a:lnTo>
                  <a:pt x="341" y="15"/>
                </a:lnTo>
                <a:lnTo>
                  <a:pt x="354" y="5"/>
                </a:lnTo>
                <a:lnTo>
                  <a:pt x="393" y="8"/>
                </a:lnTo>
                <a:lnTo>
                  <a:pt x="445" y="15"/>
                </a:lnTo>
                <a:lnTo>
                  <a:pt x="463" y="36"/>
                </a:lnTo>
                <a:lnTo>
                  <a:pt x="507" y="68"/>
                </a:lnTo>
                <a:lnTo>
                  <a:pt x="498" y="84"/>
                </a:lnTo>
                <a:lnTo>
                  <a:pt x="500" y="102"/>
                </a:lnTo>
                <a:lnTo>
                  <a:pt x="490" y="145"/>
                </a:lnTo>
                <a:lnTo>
                  <a:pt x="490" y="179"/>
                </a:lnTo>
                <a:lnTo>
                  <a:pt x="482" y="216"/>
                </a:lnTo>
                <a:lnTo>
                  <a:pt x="466" y="260"/>
                </a:lnTo>
                <a:lnTo>
                  <a:pt x="464" y="279"/>
                </a:lnTo>
                <a:lnTo>
                  <a:pt x="456" y="309"/>
                </a:lnTo>
                <a:lnTo>
                  <a:pt x="455" y="325"/>
                </a:lnTo>
                <a:lnTo>
                  <a:pt x="471" y="344"/>
                </a:lnTo>
                <a:lnTo>
                  <a:pt x="534" y="365"/>
                </a:lnTo>
                <a:lnTo>
                  <a:pt x="575" y="385"/>
                </a:lnTo>
                <a:cubicBezTo>
                  <a:pt x="588" y="391"/>
                  <a:pt x="606" y="391"/>
                  <a:pt x="614" y="400"/>
                </a:cubicBezTo>
                <a:cubicBezTo>
                  <a:pt x="622" y="406"/>
                  <a:pt x="623" y="421"/>
                  <a:pt x="623" y="432"/>
                </a:cubicBezTo>
                <a:lnTo>
                  <a:pt x="619" y="479"/>
                </a:lnTo>
                <a:lnTo>
                  <a:pt x="640" y="521"/>
                </a:lnTo>
                <a:lnTo>
                  <a:pt x="641" y="541"/>
                </a:lnTo>
                <a:lnTo>
                  <a:pt x="659" y="557"/>
                </a:lnTo>
                <a:lnTo>
                  <a:pt x="672" y="585"/>
                </a:lnTo>
                <a:lnTo>
                  <a:pt x="711" y="619"/>
                </a:lnTo>
                <a:lnTo>
                  <a:pt x="724" y="647"/>
                </a:lnTo>
                <a:lnTo>
                  <a:pt x="750" y="647"/>
                </a:lnTo>
                <a:lnTo>
                  <a:pt x="802" y="630"/>
                </a:lnTo>
                <a:lnTo>
                  <a:pt x="830" y="614"/>
                </a:lnTo>
                <a:lnTo>
                  <a:pt x="852" y="593"/>
                </a:lnTo>
                <a:lnTo>
                  <a:pt x="873" y="578"/>
                </a:lnTo>
                <a:lnTo>
                  <a:pt x="894" y="546"/>
                </a:lnTo>
                <a:lnTo>
                  <a:pt x="920" y="526"/>
                </a:lnTo>
                <a:lnTo>
                  <a:pt x="945" y="513"/>
                </a:lnTo>
                <a:lnTo>
                  <a:pt x="989" y="538"/>
                </a:lnTo>
                <a:lnTo>
                  <a:pt x="1032" y="552"/>
                </a:lnTo>
                <a:lnTo>
                  <a:pt x="1037" y="577"/>
                </a:lnTo>
                <a:lnTo>
                  <a:pt x="963" y="544"/>
                </a:lnTo>
                <a:lnTo>
                  <a:pt x="1029" y="567"/>
                </a:lnTo>
                <a:lnTo>
                  <a:pt x="1021" y="590"/>
                </a:lnTo>
                <a:lnTo>
                  <a:pt x="990" y="630"/>
                </a:lnTo>
                <a:lnTo>
                  <a:pt x="912" y="663"/>
                </a:lnTo>
                <a:lnTo>
                  <a:pt x="924" y="677"/>
                </a:lnTo>
                <a:lnTo>
                  <a:pt x="919" y="697"/>
                </a:lnTo>
                <a:lnTo>
                  <a:pt x="901" y="736"/>
                </a:lnTo>
                <a:lnTo>
                  <a:pt x="894" y="762"/>
                </a:lnTo>
                <a:lnTo>
                  <a:pt x="870" y="767"/>
                </a:lnTo>
                <a:lnTo>
                  <a:pt x="779" y="820"/>
                </a:lnTo>
                <a:lnTo>
                  <a:pt x="737" y="832"/>
                </a:lnTo>
                <a:lnTo>
                  <a:pt x="698" y="819"/>
                </a:lnTo>
                <a:lnTo>
                  <a:pt x="654" y="789"/>
                </a:lnTo>
                <a:lnTo>
                  <a:pt x="632" y="776"/>
                </a:lnTo>
                <a:lnTo>
                  <a:pt x="604" y="767"/>
                </a:lnTo>
                <a:lnTo>
                  <a:pt x="604" y="741"/>
                </a:lnTo>
                <a:lnTo>
                  <a:pt x="580" y="724"/>
                </a:lnTo>
                <a:lnTo>
                  <a:pt x="571" y="708"/>
                </a:lnTo>
                <a:lnTo>
                  <a:pt x="552" y="679"/>
                </a:lnTo>
                <a:lnTo>
                  <a:pt x="534" y="684"/>
                </a:lnTo>
                <a:lnTo>
                  <a:pt x="531" y="702"/>
                </a:lnTo>
                <a:lnTo>
                  <a:pt x="562" y="702"/>
                </a:lnTo>
                <a:lnTo>
                  <a:pt x="575" y="713"/>
                </a:lnTo>
                <a:lnTo>
                  <a:pt x="531" y="726"/>
                </a:lnTo>
                <a:lnTo>
                  <a:pt x="528" y="752"/>
                </a:lnTo>
                <a:lnTo>
                  <a:pt x="528" y="780"/>
                </a:lnTo>
                <a:lnTo>
                  <a:pt x="544" y="804"/>
                </a:lnTo>
                <a:lnTo>
                  <a:pt x="552" y="846"/>
                </a:lnTo>
                <a:lnTo>
                  <a:pt x="554" y="877"/>
                </a:lnTo>
                <a:cubicBezTo>
                  <a:pt x="560" y="884"/>
                  <a:pt x="581" y="879"/>
                  <a:pt x="593" y="890"/>
                </a:cubicBezTo>
                <a:cubicBezTo>
                  <a:pt x="604" y="902"/>
                  <a:pt x="625" y="928"/>
                  <a:pt x="628" y="942"/>
                </a:cubicBezTo>
                <a:lnTo>
                  <a:pt x="619" y="984"/>
                </a:lnTo>
                <a:lnTo>
                  <a:pt x="640" y="1043"/>
                </a:lnTo>
                <a:cubicBezTo>
                  <a:pt x="644" y="1059"/>
                  <a:pt x="651" y="1069"/>
                  <a:pt x="654" y="1079"/>
                </a:cubicBezTo>
                <a:cubicBezTo>
                  <a:pt x="657" y="1090"/>
                  <a:pt x="654" y="1101"/>
                  <a:pt x="654" y="1113"/>
                </a:cubicBezTo>
                <a:lnTo>
                  <a:pt x="659" y="1140"/>
                </a:lnTo>
                <a:cubicBezTo>
                  <a:pt x="662" y="1150"/>
                  <a:pt x="670" y="1157"/>
                  <a:pt x="675" y="1168"/>
                </a:cubicBezTo>
                <a:cubicBezTo>
                  <a:pt x="679" y="1179"/>
                  <a:pt x="685" y="1197"/>
                  <a:pt x="685" y="1210"/>
                </a:cubicBezTo>
                <a:lnTo>
                  <a:pt x="680" y="1243"/>
                </a:lnTo>
                <a:lnTo>
                  <a:pt x="685" y="1288"/>
                </a:lnTo>
                <a:cubicBezTo>
                  <a:pt x="688" y="1298"/>
                  <a:pt x="700" y="1295"/>
                  <a:pt x="701" y="1304"/>
                </a:cubicBezTo>
                <a:cubicBezTo>
                  <a:pt x="703" y="1313"/>
                  <a:pt x="692" y="1326"/>
                  <a:pt x="695" y="1343"/>
                </a:cubicBezTo>
                <a:lnTo>
                  <a:pt x="721" y="1410"/>
                </a:lnTo>
                <a:lnTo>
                  <a:pt x="446" y="1410"/>
                </a:lnTo>
                <a:lnTo>
                  <a:pt x="419" y="1301"/>
                </a:lnTo>
                <a:lnTo>
                  <a:pt x="375" y="1261"/>
                </a:lnTo>
                <a:lnTo>
                  <a:pt x="326" y="1405"/>
                </a:lnTo>
                <a:lnTo>
                  <a:pt x="54" y="1407"/>
                </a:lnTo>
                <a:lnTo>
                  <a:pt x="71" y="1194"/>
                </a:lnTo>
                <a:lnTo>
                  <a:pt x="84" y="1173"/>
                </a:lnTo>
                <a:lnTo>
                  <a:pt x="107" y="1002"/>
                </a:lnTo>
                <a:lnTo>
                  <a:pt x="128" y="916"/>
                </a:lnTo>
                <a:lnTo>
                  <a:pt x="120" y="890"/>
                </a:lnTo>
                <a:lnTo>
                  <a:pt x="97" y="893"/>
                </a:lnTo>
                <a:lnTo>
                  <a:pt x="60" y="885"/>
                </a:lnTo>
                <a:lnTo>
                  <a:pt x="34" y="885"/>
                </a:lnTo>
                <a:cubicBezTo>
                  <a:pt x="24" y="876"/>
                  <a:pt x="10" y="843"/>
                  <a:pt x="5" y="827"/>
                </a:cubicBezTo>
                <a:cubicBezTo>
                  <a:pt x="2" y="811"/>
                  <a:pt x="5" y="799"/>
                  <a:pt x="5" y="789"/>
                </a:cubicBezTo>
                <a:lnTo>
                  <a:pt x="0" y="773"/>
                </a:lnTo>
                <a:lnTo>
                  <a:pt x="16" y="690"/>
                </a:lnTo>
                <a:lnTo>
                  <a:pt x="13" y="640"/>
                </a:lnTo>
                <a:lnTo>
                  <a:pt x="0" y="616"/>
                </a:lnTo>
                <a:lnTo>
                  <a:pt x="5" y="593"/>
                </a:lnTo>
                <a:cubicBezTo>
                  <a:pt x="10" y="557"/>
                  <a:pt x="6" y="437"/>
                  <a:pt x="19" y="400"/>
                </a:cubicBezTo>
                <a:cubicBezTo>
                  <a:pt x="34" y="361"/>
                  <a:pt x="67" y="374"/>
                  <a:pt x="88" y="365"/>
                </a:cubicBezTo>
                <a:lnTo>
                  <a:pt x="146" y="346"/>
                </a:lnTo>
                <a:lnTo>
                  <a:pt x="203" y="325"/>
                </a:lnTo>
                <a:lnTo>
                  <a:pt x="260" y="291"/>
                </a:lnTo>
                <a:lnTo>
                  <a:pt x="247" y="271"/>
                </a:lnTo>
                <a:lnTo>
                  <a:pt x="247" y="255"/>
                </a:lnTo>
                <a:lnTo>
                  <a:pt x="229" y="250"/>
                </a:lnTo>
                <a:lnTo>
                  <a:pt x="221" y="197"/>
                </a:lnTo>
                <a:lnTo>
                  <a:pt x="229" y="151"/>
                </a:lnTo>
                <a:lnTo>
                  <a:pt x="239" y="114"/>
                </a:lnTo>
                <a:lnTo>
                  <a:pt x="239" y="80"/>
                </a:lnTo>
                <a:cubicBezTo>
                  <a:pt x="237" y="70"/>
                  <a:pt x="226" y="55"/>
                  <a:pt x="229" y="52"/>
                </a:cubicBezTo>
                <a:cubicBezTo>
                  <a:pt x="231" y="47"/>
                  <a:pt x="250" y="60"/>
                  <a:pt x="253" y="52"/>
                </a:cubicBezTo>
                <a:cubicBezTo>
                  <a:pt x="258" y="44"/>
                  <a:pt x="248" y="8"/>
                  <a:pt x="252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126200" y="2111400"/>
            <a:ext cx="1733760" cy="474660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166760" y="4968720"/>
            <a:ext cx="3905280" cy="2489400"/>
          </a:xfrm>
          <a:custGeom>
            <a:avLst/>
            <a:gdLst/>
            <a:ahLst/>
            <a:rect l="l" t="t" r="r" b="b"/>
            <a:pathLst>
              <a:path w="3988" h="2543">
                <a:moveTo>
                  <a:pt x="4" y="1407"/>
                </a:moveTo>
                <a:lnTo>
                  <a:pt x="828" y="1187"/>
                </a:lnTo>
                <a:lnTo>
                  <a:pt x="788" y="1059"/>
                </a:lnTo>
                <a:lnTo>
                  <a:pt x="764" y="979"/>
                </a:lnTo>
                <a:lnTo>
                  <a:pt x="1004" y="903"/>
                </a:lnTo>
                <a:lnTo>
                  <a:pt x="1156" y="887"/>
                </a:lnTo>
                <a:lnTo>
                  <a:pt x="1248" y="1075"/>
                </a:lnTo>
                <a:lnTo>
                  <a:pt x="1412" y="1019"/>
                </a:lnTo>
                <a:lnTo>
                  <a:pt x="1380" y="899"/>
                </a:lnTo>
                <a:lnTo>
                  <a:pt x="1344" y="855"/>
                </a:lnTo>
                <a:lnTo>
                  <a:pt x="1372" y="835"/>
                </a:lnTo>
                <a:lnTo>
                  <a:pt x="1516" y="787"/>
                </a:lnTo>
                <a:lnTo>
                  <a:pt x="1644" y="799"/>
                </a:lnTo>
                <a:lnTo>
                  <a:pt x="1688" y="955"/>
                </a:lnTo>
                <a:lnTo>
                  <a:pt x="1752" y="935"/>
                </a:lnTo>
                <a:lnTo>
                  <a:pt x="1696" y="839"/>
                </a:lnTo>
                <a:lnTo>
                  <a:pt x="1668" y="775"/>
                </a:lnTo>
                <a:lnTo>
                  <a:pt x="1740" y="747"/>
                </a:lnTo>
                <a:lnTo>
                  <a:pt x="1800" y="619"/>
                </a:lnTo>
                <a:lnTo>
                  <a:pt x="1844" y="559"/>
                </a:lnTo>
                <a:lnTo>
                  <a:pt x="1832" y="491"/>
                </a:lnTo>
                <a:lnTo>
                  <a:pt x="1888" y="415"/>
                </a:lnTo>
                <a:lnTo>
                  <a:pt x="1968" y="423"/>
                </a:lnTo>
                <a:lnTo>
                  <a:pt x="2000" y="455"/>
                </a:lnTo>
                <a:lnTo>
                  <a:pt x="1996" y="527"/>
                </a:lnTo>
                <a:lnTo>
                  <a:pt x="1976" y="583"/>
                </a:lnTo>
                <a:lnTo>
                  <a:pt x="1952" y="611"/>
                </a:lnTo>
                <a:lnTo>
                  <a:pt x="1936" y="663"/>
                </a:lnTo>
                <a:lnTo>
                  <a:pt x="1972" y="707"/>
                </a:lnTo>
                <a:lnTo>
                  <a:pt x="1980" y="639"/>
                </a:lnTo>
                <a:lnTo>
                  <a:pt x="2024" y="615"/>
                </a:lnTo>
                <a:lnTo>
                  <a:pt x="2028" y="587"/>
                </a:lnTo>
                <a:lnTo>
                  <a:pt x="2000" y="539"/>
                </a:lnTo>
                <a:lnTo>
                  <a:pt x="2000" y="467"/>
                </a:lnTo>
                <a:lnTo>
                  <a:pt x="2060" y="439"/>
                </a:lnTo>
                <a:lnTo>
                  <a:pt x="2112" y="471"/>
                </a:lnTo>
                <a:lnTo>
                  <a:pt x="2136" y="535"/>
                </a:lnTo>
                <a:lnTo>
                  <a:pt x="2124" y="627"/>
                </a:lnTo>
                <a:lnTo>
                  <a:pt x="2176" y="683"/>
                </a:lnTo>
                <a:lnTo>
                  <a:pt x="2180" y="723"/>
                </a:lnTo>
                <a:lnTo>
                  <a:pt x="2188" y="615"/>
                </a:lnTo>
                <a:lnTo>
                  <a:pt x="2164" y="547"/>
                </a:lnTo>
                <a:lnTo>
                  <a:pt x="2200" y="447"/>
                </a:lnTo>
                <a:lnTo>
                  <a:pt x="2160" y="399"/>
                </a:lnTo>
                <a:lnTo>
                  <a:pt x="2164" y="291"/>
                </a:lnTo>
                <a:lnTo>
                  <a:pt x="2176" y="195"/>
                </a:lnTo>
                <a:lnTo>
                  <a:pt x="2276" y="147"/>
                </a:lnTo>
                <a:lnTo>
                  <a:pt x="2256" y="100"/>
                </a:lnTo>
                <a:cubicBezTo>
                  <a:pt x="2251" y="79"/>
                  <a:pt x="2230" y="36"/>
                  <a:pt x="2244" y="20"/>
                </a:cubicBezTo>
                <a:cubicBezTo>
                  <a:pt x="2255" y="5"/>
                  <a:pt x="2318" y="0"/>
                  <a:pt x="2340" y="3"/>
                </a:cubicBezTo>
                <a:lnTo>
                  <a:pt x="2375" y="37"/>
                </a:lnTo>
                <a:lnTo>
                  <a:pt x="2380" y="83"/>
                </a:lnTo>
                <a:lnTo>
                  <a:pt x="2380" y="167"/>
                </a:lnTo>
                <a:lnTo>
                  <a:pt x="2468" y="203"/>
                </a:lnTo>
                <a:lnTo>
                  <a:pt x="2468" y="263"/>
                </a:lnTo>
                <a:lnTo>
                  <a:pt x="2468" y="383"/>
                </a:lnTo>
                <a:lnTo>
                  <a:pt x="2480" y="439"/>
                </a:lnTo>
                <a:lnTo>
                  <a:pt x="2456" y="507"/>
                </a:lnTo>
                <a:lnTo>
                  <a:pt x="2436" y="555"/>
                </a:lnTo>
                <a:lnTo>
                  <a:pt x="2424" y="595"/>
                </a:lnTo>
                <a:lnTo>
                  <a:pt x="2416" y="771"/>
                </a:lnTo>
                <a:lnTo>
                  <a:pt x="2496" y="739"/>
                </a:lnTo>
                <a:lnTo>
                  <a:pt x="2772" y="751"/>
                </a:lnTo>
                <a:lnTo>
                  <a:pt x="2808" y="683"/>
                </a:lnTo>
                <a:lnTo>
                  <a:pt x="2844" y="627"/>
                </a:lnTo>
                <a:lnTo>
                  <a:pt x="2852" y="571"/>
                </a:lnTo>
                <a:lnTo>
                  <a:pt x="2920" y="551"/>
                </a:lnTo>
                <a:lnTo>
                  <a:pt x="2876" y="515"/>
                </a:lnTo>
                <a:lnTo>
                  <a:pt x="2896" y="475"/>
                </a:lnTo>
                <a:lnTo>
                  <a:pt x="2900" y="435"/>
                </a:lnTo>
                <a:lnTo>
                  <a:pt x="2932" y="407"/>
                </a:lnTo>
                <a:lnTo>
                  <a:pt x="3016" y="407"/>
                </a:lnTo>
                <a:lnTo>
                  <a:pt x="3060" y="427"/>
                </a:lnTo>
                <a:lnTo>
                  <a:pt x="3068" y="499"/>
                </a:lnTo>
                <a:lnTo>
                  <a:pt x="3032" y="539"/>
                </a:lnTo>
                <a:lnTo>
                  <a:pt x="3132" y="563"/>
                </a:lnTo>
                <a:lnTo>
                  <a:pt x="3144" y="615"/>
                </a:lnTo>
                <a:lnTo>
                  <a:pt x="3132" y="671"/>
                </a:lnTo>
                <a:lnTo>
                  <a:pt x="3120" y="703"/>
                </a:lnTo>
                <a:lnTo>
                  <a:pt x="3184" y="691"/>
                </a:lnTo>
                <a:lnTo>
                  <a:pt x="3236" y="695"/>
                </a:lnTo>
                <a:lnTo>
                  <a:pt x="3200" y="623"/>
                </a:lnTo>
                <a:lnTo>
                  <a:pt x="3200" y="571"/>
                </a:lnTo>
                <a:lnTo>
                  <a:pt x="3200" y="491"/>
                </a:lnTo>
                <a:lnTo>
                  <a:pt x="3228" y="451"/>
                </a:lnTo>
                <a:lnTo>
                  <a:pt x="3320" y="407"/>
                </a:lnTo>
                <a:lnTo>
                  <a:pt x="3396" y="447"/>
                </a:lnTo>
                <a:lnTo>
                  <a:pt x="3448" y="479"/>
                </a:lnTo>
                <a:lnTo>
                  <a:pt x="3452" y="531"/>
                </a:lnTo>
                <a:lnTo>
                  <a:pt x="3424" y="579"/>
                </a:lnTo>
                <a:lnTo>
                  <a:pt x="3464" y="627"/>
                </a:lnTo>
                <a:lnTo>
                  <a:pt x="3520" y="679"/>
                </a:lnTo>
                <a:lnTo>
                  <a:pt x="3600" y="759"/>
                </a:lnTo>
                <a:lnTo>
                  <a:pt x="3664" y="679"/>
                </a:lnTo>
                <a:lnTo>
                  <a:pt x="3696" y="635"/>
                </a:lnTo>
                <a:lnTo>
                  <a:pt x="3636" y="599"/>
                </a:lnTo>
                <a:lnTo>
                  <a:pt x="3652" y="535"/>
                </a:lnTo>
                <a:lnTo>
                  <a:pt x="3628" y="503"/>
                </a:lnTo>
                <a:lnTo>
                  <a:pt x="3668" y="487"/>
                </a:lnTo>
                <a:lnTo>
                  <a:pt x="3700" y="423"/>
                </a:lnTo>
                <a:lnTo>
                  <a:pt x="3788" y="391"/>
                </a:lnTo>
                <a:lnTo>
                  <a:pt x="3864" y="423"/>
                </a:lnTo>
                <a:lnTo>
                  <a:pt x="3900" y="475"/>
                </a:lnTo>
                <a:lnTo>
                  <a:pt x="3888" y="571"/>
                </a:lnTo>
                <a:lnTo>
                  <a:pt x="3876" y="603"/>
                </a:lnTo>
                <a:lnTo>
                  <a:pt x="3940" y="671"/>
                </a:lnTo>
                <a:lnTo>
                  <a:pt x="3988" y="831"/>
                </a:lnTo>
                <a:lnTo>
                  <a:pt x="3968" y="927"/>
                </a:lnTo>
                <a:lnTo>
                  <a:pt x="3920" y="979"/>
                </a:lnTo>
                <a:lnTo>
                  <a:pt x="3976" y="1039"/>
                </a:lnTo>
                <a:lnTo>
                  <a:pt x="3964" y="1099"/>
                </a:lnTo>
                <a:lnTo>
                  <a:pt x="3916" y="1207"/>
                </a:lnTo>
                <a:lnTo>
                  <a:pt x="3840" y="1371"/>
                </a:lnTo>
                <a:lnTo>
                  <a:pt x="3836" y="1615"/>
                </a:lnTo>
                <a:lnTo>
                  <a:pt x="3792" y="1667"/>
                </a:lnTo>
                <a:lnTo>
                  <a:pt x="3776" y="1455"/>
                </a:lnTo>
                <a:lnTo>
                  <a:pt x="3680" y="1487"/>
                </a:lnTo>
                <a:lnTo>
                  <a:pt x="3708" y="1635"/>
                </a:lnTo>
                <a:lnTo>
                  <a:pt x="3676" y="1671"/>
                </a:lnTo>
                <a:lnTo>
                  <a:pt x="3656" y="1507"/>
                </a:lnTo>
                <a:lnTo>
                  <a:pt x="3580" y="1583"/>
                </a:lnTo>
                <a:lnTo>
                  <a:pt x="3624" y="1835"/>
                </a:lnTo>
                <a:lnTo>
                  <a:pt x="3576" y="1875"/>
                </a:lnTo>
                <a:lnTo>
                  <a:pt x="3524" y="1591"/>
                </a:lnTo>
                <a:lnTo>
                  <a:pt x="3360" y="1723"/>
                </a:lnTo>
                <a:lnTo>
                  <a:pt x="3392" y="2063"/>
                </a:lnTo>
                <a:lnTo>
                  <a:pt x="3352" y="2115"/>
                </a:lnTo>
                <a:lnTo>
                  <a:pt x="3300" y="1739"/>
                </a:lnTo>
                <a:lnTo>
                  <a:pt x="3204" y="1791"/>
                </a:lnTo>
                <a:lnTo>
                  <a:pt x="3244" y="2219"/>
                </a:lnTo>
                <a:lnTo>
                  <a:pt x="3196" y="2255"/>
                </a:lnTo>
                <a:lnTo>
                  <a:pt x="3128" y="1787"/>
                </a:lnTo>
                <a:lnTo>
                  <a:pt x="3052" y="1791"/>
                </a:lnTo>
                <a:lnTo>
                  <a:pt x="3028" y="1679"/>
                </a:lnTo>
                <a:lnTo>
                  <a:pt x="2940" y="1743"/>
                </a:lnTo>
                <a:lnTo>
                  <a:pt x="2960" y="1975"/>
                </a:lnTo>
                <a:lnTo>
                  <a:pt x="2976" y="2447"/>
                </a:lnTo>
                <a:lnTo>
                  <a:pt x="2928" y="2495"/>
                </a:lnTo>
                <a:lnTo>
                  <a:pt x="2888" y="1991"/>
                </a:lnTo>
                <a:lnTo>
                  <a:pt x="2728" y="2023"/>
                </a:lnTo>
                <a:lnTo>
                  <a:pt x="2724" y="2531"/>
                </a:lnTo>
                <a:lnTo>
                  <a:pt x="2640" y="2535"/>
                </a:lnTo>
                <a:lnTo>
                  <a:pt x="2552" y="2087"/>
                </a:lnTo>
                <a:lnTo>
                  <a:pt x="2336" y="1951"/>
                </a:lnTo>
                <a:lnTo>
                  <a:pt x="2176" y="2063"/>
                </a:lnTo>
                <a:lnTo>
                  <a:pt x="1644" y="2543"/>
                </a:lnTo>
                <a:lnTo>
                  <a:pt x="0" y="2535"/>
                </a:lnTo>
                <a:lnTo>
                  <a:pt x="4" y="14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>
            <a:lum contrast="12000"/>
          </a:blip>
          <a:srcRect l="-426" t="0" r="0" b="29688"/>
          <a:stretch/>
        </p:blipFill>
        <p:spPr>
          <a:xfrm>
            <a:off x="5342040" y="0"/>
            <a:ext cx="38019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62360" y="3852720"/>
            <a:ext cx="2600280" cy="3314880"/>
          </a:xfrm>
          <a:custGeom>
            <a:avLst/>
            <a:gdLst/>
            <a:ahLst/>
            <a:rect l="l" t="t" r="r" b="b"/>
            <a:pathLst>
              <a:path w="1539" h="1965">
                <a:moveTo>
                  <a:pt x="609" y="300"/>
                </a:moveTo>
                <a:lnTo>
                  <a:pt x="597" y="273"/>
                </a:lnTo>
                <a:lnTo>
                  <a:pt x="612" y="243"/>
                </a:lnTo>
                <a:lnTo>
                  <a:pt x="609" y="192"/>
                </a:lnTo>
                <a:lnTo>
                  <a:pt x="624" y="150"/>
                </a:lnTo>
                <a:lnTo>
                  <a:pt x="585" y="102"/>
                </a:lnTo>
                <a:lnTo>
                  <a:pt x="516" y="84"/>
                </a:lnTo>
                <a:lnTo>
                  <a:pt x="450" y="93"/>
                </a:lnTo>
                <a:lnTo>
                  <a:pt x="393" y="168"/>
                </a:lnTo>
                <a:lnTo>
                  <a:pt x="396" y="225"/>
                </a:lnTo>
                <a:lnTo>
                  <a:pt x="405" y="249"/>
                </a:lnTo>
                <a:lnTo>
                  <a:pt x="381" y="276"/>
                </a:lnTo>
                <a:lnTo>
                  <a:pt x="351" y="297"/>
                </a:lnTo>
                <a:lnTo>
                  <a:pt x="348" y="336"/>
                </a:lnTo>
                <a:lnTo>
                  <a:pt x="246" y="420"/>
                </a:lnTo>
                <a:lnTo>
                  <a:pt x="213" y="462"/>
                </a:lnTo>
                <a:lnTo>
                  <a:pt x="180" y="471"/>
                </a:lnTo>
                <a:lnTo>
                  <a:pt x="183" y="534"/>
                </a:lnTo>
                <a:lnTo>
                  <a:pt x="183" y="576"/>
                </a:lnTo>
                <a:lnTo>
                  <a:pt x="180" y="621"/>
                </a:lnTo>
                <a:lnTo>
                  <a:pt x="192" y="654"/>
                </a:lnTo>
                <a:lnTo>
                  <a:pt x="183" y="696"/>
                </a:lnTo>
                <a:lnTo>
                  <a:pt x="195" y="741"/>
                </a:lnTo>
                <a:lnTo>
                  <a:pt x="174" y="774"/>
                </a:lnTo>
                <a:lnTo>
                  <a:pt x="177" y="801"/>
                </a:lnTo>
                <a:lnTo>
                  <a:pt x="174" y="831"/>
                </a:lnTo>
                <a:lnTo>
                  <a:pt x="174" y="873"/>
                </a:lnTo>
                <a:lnTo>
                  <a:pt x="165" y="954"/>
                </a:lnTo>
                <a:lnTo>
                  <a:pt x="162" y="1020"/>
                </a:lnTo>
                <a:lnTo>
                  <a:pt x="162" y="1044"/>
                </a:lnTo>
                <a:lnTo>
                  <a:pt x="126" y="987"/>
                </a:lnTo>
                <a:lnTo>
                  <a:pt x="111" y="969"/>
                </a:lnTo>
                <a:lnTo>
                  <a:pt x="81" y="978"/>
                </a:lnTo>
                <a:lnTo>
                  <a:pt x="48" y="999"/>
                </a:lnTo>
                <a:lnTo>
                  <a:pt x="0" y="1188"/>
                </a:lnTo>
                <a:lnTo>
                  <a:pt x="225" y="1437"/>
                </a:lnTo>
                <a:lnTo>
                  <a:pt x="246" y="1458"/>
                </a:lnTo>
                <a:lnTo>
                  <a:pt x="297" y="1449"/>
                </a:lnTo>
                <a:lnTo>
                  <a:pt x="315" y="1404"/>
                </a:lnTo>
                <a:lnTo>
                  <a:pt x="345" y="1311"/>
                </a:lnTo>
                <a:lnTo>
                  <a:pt x="354" y="1254"/>
                </a:lnTo>
                <a:lnTo>
                  <a:pt x="327" y="1224"/>
                </a:lnTo>
                <a:lnTo>
                  <a:pt x="246" y="1125"/>
                </a:lnTo>
                <a:lnTo>
                  <a:pt x="261" y="1104"/>
                </a:lnTo>
                <a:lnTo>
                  <a:pt x="252" y="1065"/>
                </a:lnTo>
                <a:lnTo>
                  <a:pt x="285" y="1059"/>
                </a:lnTo>
                <a:lnTo>
                  <a:pt x="273" y="945"/>
                </a:lnTo>
                <a:lnTo>
                  <a:pt x="288" y="834"/>
                </a:lnTo>
                <a:lnTo>
                  <a:pt x="291" y="1092"/>
                </a:lnTo>
                <a:lnTo>
                  <a:pt x="291" y="1140"/>
                </a:lnTo>
                <a:lnTo>
                  <a:pt x="312" y="1152"/>
                </a:lnTo>
                <a:lnTo>
                  <a:pt x="327" y="1227"/>
                </a:lnTo>
                <a:lnTo>
                  <a:pt x="354" y="1362"/>
                </a:lnTo>
                <a:lnTo>
                  <a:pt x="351" y="1389"/>
                </a:lnTo>
                <a:lnTo>
                  <a:pt x="312" y="1407"/>
                </a:lnTo>
                <a:lnTo>
                  <a:pt x="288" y="1455"/>
                </a:lnTo>
                <a:lnTo>
                  <a:pt x="333" y="1497"/>
                </a:lnTo>
                <a:lnTo>
                  <a:pt x="351" y="1491"/>
                </a:lnTo>
                <a:lnTo>
                  <a:pt x="369" y="1557"/>
                </a:lnTo>
                <a:lnTo>
                  <a:pt x="423" y="1635"/>
                </a:lnTo>
                <a:lnTo>
                  <a:pt x="429" y="1668"/>
                </a:lnTo>
                <a:lnTo>
                  <a:pt x="468" y="1704"/>
                </a:lnTo>
                <a:lnTo>
                  <a:pt x="507" y="1746"/>
                </a:lnTo>
                <a:lnTo>
                  <a:pt x="519" y="1797"/>
                </a:lnTo>
                <a:lnTo>
                  <a:pt x="549" y="1836"/>
                </a:lnTo>
                <a:lnTo>
                  <a:pt x="564" y="1926"/>
                </a:lnTo>
                <a:lnTo>
                  <a:pt x="624" y="1965"/>
                </a:lnTo>
                <a:lnTo>
                  <a:pt x="663" y="1947"/>
                </a:lnTo>
                <a:lnTo>
                  <a:pt x="675" y="1899"/>
                </a:lnTo>
                <a:lnTo>
                  <a:pt x="651" y="1848"/>
                </a:lnTo>
                <a:lnTo>
                  <a:pt x="621" y="1809"/>
                </a:lnTo>
                <a:lnTo>
                  <a:pt x="621" y="1695"/>
                </a:lnTo>
                <a:lnTo>
                  <a:pt x="588" y="1656"/>
                </a:lnTo>
                <a:lnTo>
                  <a:pt x="543" y="1575"/>
                </a:lnTo>
                <a:lnTo>
                  <a:pt x="552" y="1437"/>
                </a:lnTo>
                <a:lnTo>
                  <a:pt x="594" y="1380"/>
                </a:lnTo>
                <a:lnTo>
                  <a:pt x="642" y="1320"/>
                </a:lnTo>
                <a:lnTo>
                  <a:pt x="657" y="1293"/>
                </a:lnTo>
                <a:lnTo>
                  <a:pt x="684" y="1110"/>
                </a:lnTo>
                <a:lnTo>
                  <a:pt x="684" y="990"/>
                </a:lnTo>
                <a:lnTo>
                  <a:pt x="669" y="870"/>
                </a:lnTo>
                <a:lnTo>
                  <a:pt x="684" y="882"/>
                </a:lnTo>
                <a:lnTo>
                  <a:pt x="711" y="951"/>
                </a:lnTo>
                <a:lnTo>
                  <a:pt x="717" y="975"/>
                </a:lnTo>
                <a:lnTo>
                  <a:pt x="714" y="1005"/>
                </a:lnTo>
                <a:lnTo>
                  <a:pt x="753" y="1002"/>
                </a:lnTo>
                <a:lnTo>
                  <a:pt x="768" y="990"/>
                </a:lnTo>
                <a:lnTo>
                  <a:pt x="774" y="1038"/>
                </a:lnTo>
                <a:lnTo>
                  <a:pt x="819" y="1053"/>
                </a:lnTo>
                <a:lnTo>
                  <a:pt x="849" y="1035"/>
                </a:lnTo>
                <a:lnTo>
                  <a:pt x="849" y="981"/>
                </a:lnTo>
                <a:lnTo>
                  <a:pt x="906" y="1137"/>
                </a:lnTo>
                <a:lnTo>
                  <a:pt x="930" y="1233"/>
                </a:lnTo>
                <a:lnTo>
                  <a:pt x="900" y="1254"/>
                </a:lnTo>
                <a:lnTo>
                  <a:pt x="882" y="1254"/>
                </a:lnTo>
                <a:lnTo>
                  <a:pt x="867" y="1284"/>
                </a:lnTo>
                <a:lnTo>
                  <a:pt x="873" y="1308"/>
                </a:lnTo>
                <a:lnTo>
                  <a:pt x="864" y="1407"/>
                </a:lnTo>
                <a:lnTo>
                  <a:pt x="885" y="1476"/>
                </a:lnTo>
                <a:lnTo>
                  <a:pt x="945" y="1515"/>
                </a:lnTo>
                <a:lnTo>
                  <a:pt x="978" y="1500"/>
                </a:lnTo>
                <a:lnTo>
                  <a:pt x="960" y="1428"/>
                </a:lnTo>
                <a:lnTo>
                  <a:pt x="969" y="1386"/>
                </a:lnTo>
                <a:lnTo>
                  <a:pt x="984" y="1446"/>
                </a:lnTo>
                <a:lnTo>
                  <a:pt x="1008" y="1506"/>
                </a:lnTo>
                <a:lnTo>
                  <a:pt x="1023" y="1590"/>
                </a:lnTo>
                <a:lnTo>
                  <a:pt x="1056" y="1635"/>
                </a:lnTo>
                <a:lnTo>
                  <a:pt x="1080" y="1671"/>
                </a:lnTo>
                <a:lnTo>
                  <a:pt x="1125" y="1746"/>
                </a:lnTo>
                <a:lnTo>
                  <a:pt x="1188" y="1788"/>
                </a:lnTo>
                <a:lnTo>
                  <a:pt x="1245" y="1764"/>
                </a:lnTo>
                <a:lnTo>
                  <a:pt x="1218" y="1698"/>
                </a:lnTo>
                <a:lnTo>
                  <a:pt x="1164" y="1632"/>
                </a:lnTo>
                <a:lnTo>
                  <a:pt x="1140" y="1614"/>
                </a:lnTo>
                <a:lnTo>
                  <a:pt x="1173" y="1578"/>
                </a:lnTo>
                <a:lnTo>
                  <a:pt x="1143" y="1524"/>
                </a:lnTo>
                <a:lnTo>
                  <a:pt x="1116" y="1491"/>
                </a:lnTo>
                <a:lnTo>
                  <a:pt x="1119" y="1449"/>
                </a:lnTo>
                <a:lnTo>
                  <a:pt x="1104" y="1353"/>
                </a:lnTo>
                <a:lnTo>
                  <a:pt x="1110" y="1293"/>
                </a:lnTo>
                <a:lnTo>
                  <a:pt x="1116" y="1263"/>
                </a:lnTo>
                <a:lnTo>
                  <a:pt x="1122" y="1245"/>
                </a:lnTo>
                <a:lnTo>
                  <a:pt x="1167" y="1167"/>
                </a:lnTo>
                <a:lnTo>
                  <a:pt x="1188" y="1044"/>
                </a:lnTo>
                <a:lnTo>
                  <a:pt x="1197" y="1020"/>
                </a:lnTo>
                <a:lnTo>
                  <a:pt x="1212" y="1005"/>
                </a:lnTo>
                <a:lnTo>
                  <a:pt x="1191" y="705"/>
                </a:lnTo>
                <a:lnTo>
                  <a:pt x="1185" y="669"/>
                </a:lnTo>
                <a:lnTo>
                  <a:pt x="1221" y="741"/>
                </a:lnTo>
                <a:lnTo>
                  <a:pt x="1272" y="855"/>
                </a:lnTo>
                <a:lnTo>
                  <a:pt x="1290" y="882"/>
                </a:lnTo>
                <a:lnTo>
                  <a:pt x="1278" y="909"/>
                </a:lnTo>
                <a:lnTo>
                  <a:pt x="1293" y="927"/>
                </a:lnTo>
                <a:lnTo>
                  <a:pt x="1323" y="927"/>
                </a:lnTo>
                <a:lnTo>
                  <a:pt x="1341" y="942"/>
                </a:lnTo>
                <a:lnTo>
                  <a:pt x="1359" y="936"/>
                </a:lnTo>
                <a:lnTo>
                  <a:pt x="1368" y="954"/>
                </a:lnTo>
                <a:lnTo>
                  <a:pt x="1311" y="951"/>
                </a:lnTo>
                <a:lnTo>
                  <a:pt x="1293" y="924"/>
                </a:lnTo>
                <a:lnTo>
                  <a:pt x="1287" y="957"/>
                </a:lnTo>
                <a:lnTo>
                  <a:pt x="1233" y="957"/>
                </a:lnTo>
                <a:lnTo>
                  <a:pt x="1221" y="984"/>
                </a:lnTo>
                <a:lnTo>
                  <a:pt x="1281" y="1218"/>
                </a:lnTo>
                <a:lnTo>
                  <a:pt x="1320" y="1227"/>
                </a:lnTo>
                <a:lnTo>
                  <a:pt x="1470" y="1251"/>
                </a:lnTo>
                <a:lnTo>
                  <a:pt x="1521" y="1251"/>
                </a:lnTo>
                <a:lnTo>
                  <a:pt x="1539" y="1218"/>
                </a:lnTo>
                <a:lnTo>
                  <a:pt x="1506" y="1149"/>
                </a:lnTo>
                <a:lnTo>
                  <a:pt x="1470" y="1068"/>
                </a:lnTo>
                <a:lnTo>
                  <a:pt x="1494" y="1059"/>
                </a:lnTo>
                <a:lnTo>
                  <a:pt x="1464" y="972"/>
                </a:lnTo>
                <a:lnTo>
                  <a:pt x="1443" y="948"/>
                </a:lnTo>
                <a:lnTo>
                  <a:pt x="1419" y="957"/>
                </a:lnTo>
                <a:lnTo>
                  <a:pt x="1395" y="942"/>
                </a:lnTo>
                <a:lnTo>
                  <a:pt x="1368" y="930"/>
                </a:lnTo>
                <a:lnTo>
                  <a:pt x="1359" y="912"/>
                </a:lnTo>
                <a:lnTo>
                  <a:pt x="1374" y="897"/>
                </a:lnTo>
                <a:lnTo>
                  <a:pt x="1356" y="864"/>
                </a:lnTo>
                <a:lnTo>
                  <a:pt x="1344" y="846"/>
                </a:lnTo>
                <a:lnTo>
                  <a:pt x="1344" y="786"/>
                </a:lnTo>
                <a:lnTo>
                  <a:pt x="1317" y="726"/>
                </a:lnTo>
                <a:lnTo>
                  <a:pt x="1314" y="699"/>
                </a:lnTo>
                <a:lnTo>
                  <a:pt x="1320" y="657"/>
                </a:lnTo>
                <a:lnTo>
                  <a:pt x="1299" y="636"/>
                </a:lnTo>
                <a:lnTo>
                  <a:pt x="1257" y="435"/>
                </a:lnTo>
                <a:lnTo>
                  <a:pt x="1224" y="303"/>
                </a:lnTo>
                <a:lnTo>
                  <a:pt x="1209" y="279"/>
                </a:lnTo>
                <a:lnTo>
                  <a:pt x="1173" y="270"/>
                </a:lnTo>
                <a:lnTo>
                  <a:pt x="1095" y="252"/>
                </a:lnTo>
                <a:lnTo>
                  <a:pt x="1050" y="246"/>
                </a:lnTo>
                <a:lnTo>
                  <a:pt x="1032" y="225"/>
                </a:lnTo>
                <a:lnTo>
                  <a:pt x="1053" y="210"/>
                </a:lnTo>
                <a:lnTo>
                  <a:pt x="1062" y="162"/>
                </a:lnTo>
                <a:lnTo>
                  <a:pt x="1053" y="144"/>
                </a:lnTo>
                <a:lnTo>
                  <a:pt x="1071" y="63"/>
                </a:lnTo>
                <a:lnTo>
                  <a:pt x="1047" y="30"/>
                </a:lnTo>
                <a:lnTo>
                  <a:pt x="951" y="0"/>
                </a:lnTo>
                <a:lnTo>
                  <a:pt x="882" y="21"/>
                </a:lnTo>
                <a:lnTo>
                  <a:pt x="837" y="81"/>
                </a:lnTo>
                <a:lnTo>
                  <a:pt x="816" y="72"/>
                </a:lnTo>
                <a:lnTo>
                  <a:pt x="831" y="87"/>
                </a:lnTo>
                <a:lnTo>
                  <a:pt x="840" y="120"/>
                </a:lnTo>
                <a:lnTo>
                  <a:pt x="858" y="129"/>
                </a:lnTo>
                <a:lnTo>
                  <a:pt x="861" y="171"/>
                </a:lnTo>
                <a:lnTo>
                  <a:pt x="861" y="216"/>
                </a:lnTo>
                <a:lnTo>
                  <a:pt x="885" y="270"/>
                </a:lnTo>
                <a:lnTo>
                  <a:pt x="879" y="291"/>
                </a:lnTo>
                <a:lnTo>
                  <a:pt x="777" y="351"/>
                </a:lnTo>
                <a:lnTo>
                  <a:pt x="738" y="390"/>
                </a:lnTo>
                <a:lnTo>
                  <a:pt x="723" y="414"/>
                </a:lnTo>
                <a:lnTo>
                  <a:pt x="720" y="456"/>
                </a:lnTo>
                <a:lnTo>
                  <a:pt x="708" y="471"/>
                </a:lnTo>
                <a:lnTo>
                  <a:pt x="690" y="381"/>
                </a:lnTo>
                <a:lnTo>
                  <a:pt x="663" y="312"/>
                </a:lnTo>
                <a:lnTo>
                  <a:pt x="630" y="303"/>
                </a:lnTo>
                <a:lnTo>
                  <a:pt x="609" y="3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133800">
            <a:off x="4124160" y="3865320"/>
            <a:ext cx="3260880" cy="1949400"/>
          </a:xfrm>
          <a:custGeom>
            <a:avLst/>
            <a:gdLst/>
            <a:ahLst/>
            <a:rect l="l" t="t" r="r" b="b"/>
            <a:pathLst>
              <a:path w="1776" h="1050">
                <a:moveTo>
                  <a:pt x="0" y="801"/>
                </a:moveTo>
                <a:lnTo>
                  <a:pt x="309" y="309"/>
                </a:lnTo>
                <a:lnTo>
                  <a:pt x="1188" y="945"/>
                </a:lnTo>
                <a:lnTo>
                  <a:pt x="1644" y="93"/>
                </a:lnTo>
                <a:lnTo>
                  <a:pt x="1566" y="57"/>
                </a:lnTo>
                <a:lnTo>
                  <a:pt x="1716" y="0"/>
                </a:lnTo>
                <a:lnTo>
                  <a:pt x="1776" y="174"/>
                </a:lnTo>
                <a:lnTo>
                  <a:pt x="1707" y="126"/>
                </a:lnTo>
                <a:lnTo>
                  <a:pt x="1200" y="1050"/>
                </a:lnTo>
                <a:lnTo>
                  <a:pt x="315" y="399"/>
                </a:lnTo>
                <a:lnTo>
                  <a:pt x="39" y="846"/>
                </a:lnTo>
                <a:lnTo>
                  <a:pt x="0" y="8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a0b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a0b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9292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a0ba"/>
            </a:gs>
            <a:gs pos="100000">
              <a:srgbClr val="2029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28880" y="1593720"/>
            <a:ext cx="32734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Verdana"/>
              </a:rPr>
              <a:t>PowerTemplate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7896240" y="0"/>
            <a:ext cx="11700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96a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34680" y="558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反白效果商业会议</a:t>
            </a:r>
            <a:r>
              <a:rPr b="1" lang="en-US" sz="4000" spc="-1" strike="noStrike">
                <a:solidFill>
                  <a:srgbClr val="1c1c1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60" y="6029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c1c1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64960" y="2357280"/>
            <a:ext cx="2306880" cy="2681280"/>
          </a:xfrm>
          <a:prstGeom prst="rect">
            <a:avLst/>
          </a:prstGeom>
          <a:noFill/>
          <a:ln w="19080">
            <a:solidFill>
              <a:srgbClr val="a0d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4960" y="2368440"/>
            <a:ext cx="2306880" cy="77796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67040" y="2513160"/>
            <a:ext cx="2604960" cy="2641320"/>
          </a:xfrm>
          <a:prstGeom prst="ellips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2506680"/>
            <a:ext cx="2593440" cy="265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0787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07877"/>
              </a:path>
            </a:pathLst>
          </a:cu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70240" y="325440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3%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81160" y="1474920"/>
            <a:ext cx="242604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1500"/>
              </a:spcBef>
              <a:buClr>
                <a:srgbClr val="a0d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d35d"/>
                </a:solidFill>
                <a:latin typeface="Arial"/>
                <a:ea typeface="宋体"/>
              </a:rPr>
              <a:t>Description of the contents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24520" y="4821120"/>
            <a:ext cx="2805120" cy="5619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24520" y="4230720"/>
            <a:ext cx="2805120" cy="5634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24520" y="3639960"/>
            <a:ext cx="2805120" cy="5637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24520" y="3049560"/>
            <a:ext cx="2805120" cy="5637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24520" y="2459160"/>
            <a:ext cx="2805120" cy="5634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4400" y="538308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16520" y="47800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08600" y="41940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4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10400" y="361008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11840" y="303516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03920" y="242100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,000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67640" y="3983040"/>
            <a:ext cx="233280" cy="139212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454880" y="2641680"/>
            <a:ext cx="233280" cy="273348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55080" y="3049560"/>
            <a:ext cx="233280" cy="2325600"/>
          </a:xfrm>
          <a:prstGeom prst="rect">
            <a:avLst/>
          </a:prstGeom>
          <a:gradFill rotWithShape="0">
            <a:gsLst>
              <a:gs pos="0">
                <a:srgbClr val="a0d35d"/>
              </a:gs>
              <a:gs pos="100000">
                <a:srgbClr val="799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9612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981920" y="53830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48440" y="220356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3160" y="341136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pptcn  is a Design Digital Content &amp; Contents mall developed by Guild Design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2680" y="2517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4960" y="1474920"/>
            <a:ext cx="242568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1500"/>
              </a:spcBef>
              <a:buClr>
                <a:srgbClr val="a0d3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d35d"/>
                </a:solidFill>
                <a:latin typeface="Arial"/>
                <a:ea typeface="宋体"/>
              </a:rPr>
              <a:t>Description of the contents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fc75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84f25"/>
              </a:gs>
              <a:gs pos="50000">
                <a:srgbClr val="dfc75f"/>
              </a:gs>
              <a:gs pos="100000">
                <a:srgbClr val="584f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3d0a3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760" y="296064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07" idx="3"/>
            <a:endCxn id="417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3" name=""/>
          <p:cNvCxnSpPr>
            <a:stCxn id="408" idx="3"/>
            <a:endCxn id="418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4" name=""/>
          <p:cNvCxnSpPr>
            <a:stCxn id="409" idx="3"/>
            <a:endCxn id="419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5" name=""/>
          <p:cNvCxnSpPr>
            <a:stCxn id="411" idx="3"/>
            <a:endCxn id="420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26" name=""/>
          <p:cNvCxnSpPr>
            <a:stCxn id="410" idx="3"/>
            <a:endCxn id="421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8e4b1"/>
              </a:gs>
              <a:gs pos="100000">
                <a:srgbClr val="f0b7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941720" y="1889280"/>
            <a:ext cx="3862440" cy="537840"/>
          </a:xfrm>
          <a:prstGeom prst="roundRect">
            <a:avLst>
              <a:gd name="adj" fmla="val 14583"/>
            </a:avLst>
          </a:prstGeom>
          <a:gradFill rotWithShape="0">
            <a:gsLst>
              <a:gs pos="0">
                <a:srgbClr val="20296a"/>
              </a:gs>
              <a:gs pos="100000">
                <a:srgbClr val="151a45"/>
              </a:gs>
            </a:gsLst>
            <a:lin ang="5400000"/>
          </a:gradFill>
          <a:ln w="19080">
            <a:solidFill>
              <a:srgbClr val="2029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35600" y="2001960"/>
            <a:ext cx="3859200" cy="438120"/>
          </a:xfrm>
          <a:custGeom>
            <a:avLst/>
            <a:gdLst/>
            <a:ahLst/>
            <a:rect l="l" t="t" r="r" b="b"/>
            <a:pathLst>
              <a:path w="1360" h="183">
                <a:moveTo>
                  <a:pt x="3" y="44"/>
                </a:moveTo>
                <a:lnTo>
                  <a:pt x="3" y="143"/>
                </a:lnTo>
                <a:cubicBezTo>
                  <a:pt x="4" y="162"/>
                  <a:pt x="0" y="181"/>
                  <a:pt x="52" y="183"/>
                </a:cubicBezTo>
                <a:lnTo>
                  <a:pt x="1315" y="183"/>
                </a:lnTo>
                <a:cubicBezTo>
                  <a:pt x="1351" y="183"/>
                  <a:pt x="1360" y="168"/>
                  <a:pt x="1360" y="140"/>
                </a:cubicBezTo>
                <a:lnTo>
                  <a:pt x="1360" y="0"/>
                </a:lnTo>
                <a:cubicBezTo>
                  <a:pt x="1281" y="26"/>
                  <a:pt x="1213" y="95"/>
                  <a:pt x="985" y="96"/>
                </a:cubicBezTo>
                <a:cubicBezTo>
                  <a:pt x="802" y="101"/>
                  <a:pt x="481" y="26"/>
                  <a:pt x="316" y="15"/>
                </a:cubicBezTo>
                <a:cubicBezTo>
                  <a:pt x="152" y="6"/>
                  <a:pt x="70" y="40"/>
                  <a:pt x="3" y="44"/>
                </a:cubicBezTo>
                <a:close/>
              </a:path>
            </a:pathLst>
          </a:custGeom>
          <a:gradFill rotWithShape="0">
            <a:gsLst>
              <a:gs pos="0">
                <a:srgbClr val="70759f"/>
              </a:gs>
              <a:gs pos="100000">
                <a:srgbClr val="2029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lumn Char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0920" y="2583000"/>
            <a:ext cx="4127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06560" y="192564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246240" y="1219320"/>
            <a:ext cx="4625640" cy="539424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1945800" y="5234040"/>
            <a:ext cx="495360" cy="361440"/>
            <a:chOff x="1945800" y="5234040"/>
            <a:chExt cx="495360" cy="361440"/>
          </a:xfrm>
        </p:grpSpPr>
        <p:sp>
          <p:nvSpPr>
            <p:cNvPr id="439" name=""/>
            <p:cNvSpPr/>
            <p:nvPr/>
          </p:nvSpPr>
          <p:spPr>
            <a:xfrm flipH="1">
              <a:off x="1945440" y="5307480"/>
              <a:ext cx="249480" cy="2880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036520" y="5234040"/>
              <a:ext cx="66240" cy="75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02840" y="5312880"/>
              <a:ext cx="238320" cy="2764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91760" y="5243400"/>
              <a:ext cx="63000" cy="71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286080" y="5311800"/>
            <a:ext cx="447840" cy="383760"/>
            <a:chOff x="3286080" y="5311800"/>
            <a:chExt cx="447840" cy="383760"/>
          </a:xfrm>
        </p:grpSpPr>
        <p:sp>
          <p:nvSpPr>
            <p:cNvPr id="444" name=""/>
            <p:cNvSpPr/>
            <p:nvPr/>
          </p:nvSpPr>
          <p:spPr>
            <a:xfrm>
              <a:off x="3377520" y="5311800"/>
              <a:ext cx="266760" cy="266040"/>
            </a:xfrm>
            <a:prstGeom prst="roundRect">
              <a:avLst>
                <a:gd name="adj" fmla="val 6250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86080" y="5577840"/>
              <a:ext cx="447840" cy="117720"/>
            </a:xfrm>
            <a:prstGeom prst="roundRect">
              <a:avLst>
                <a:gd name="adj" fmla="val 16667"/>
              </a:avLst>
            </a:prstGeom>
            <a:noFill/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00920" y="5337000"/>
              <a:ext cx="220680" cy="209160"/>
            </a:xfrm>
            <a:prstGeom prst="roundRect">
              <a:avLst>
                <a:gd name="adj" fmla="val 7972"/>
              </a:avLst>
            </a:prstGeom>
            <a:solidFill>
              <a:srgbClr val="ffffff">
                <a:alpha val="40000"/>
              </a:srgbClr>
            </a:solidFill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601440" y="5634360"/>
              <a:ext cx="6732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482280" y="5391360"/>
              <a:ext cx="11196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510720" y="5419800"/>
              <a:ext cx="6876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3529800" y="5508000"/>
              <a:ext cx="48600" cy="0"/>
            </a:xfrm>
            <a:prstGeom prst="line">
              <a:avLst/>
            </a:prstGeom>
            <a:ln w="1584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590920" y="5273640"/>
            <a:ext cx="374400" cy="374760"/>
            <a:chOff x="2590920" y="5273640"/>
            <a:chExt cx="374400" cy="374760"/>
          </a:xfrm>
        </p:grpSpPr>
        <p:sp>
          <p:nvSpPr>
            <p:cNvPr id="452" name=""/>
            <p:cNvSpPr/>
            <p:nvPr/>
          </p:nvSpPr>
          <p:spPr>
            <a:xfrm>
              <a:off x="2590920" y="5273640"/>
              <a:ext cx="374400" cy="3722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1908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9560" y="5273640"/>
              <a:ext cx="0" cy="369720"/>
            </a:xfrm>
            <a:prstGeom prst="line">
              <a:avLst/>
            </a:prstGeom>
            <a:ln w="1908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5458320"/>
              <a:ext cx="374400" cy="0"/>
            </a:xfrm>
            <a:prstGeom prst="line">
              <a:avLst/>
            </a:prstGeom>
            <a:ln w="1908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04760" y="5275800"/>
              <a:ext cx="77760" cy="3672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7680" y="5278680"/>
              <a:ext cx="84240" cy="369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400000">
              <a:off x="2747160" y="5425920"/>
              <a:ext cx="48240" cy="279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6200000">
              <a:off x="2750400" y="5212800"/>
              <a:ext cx="48240" cy="2790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8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01920" y="5292360"/>
            <a:ext cx="365040" cy="282600"/>
            <a:chOff x="1501920" y="5292360"/>
            <a:chExt cx="365040" cy="282600"/>
          </a:xfrm>
        </p:grpSpPr>
        <p:sp>
          <p:nvSpPr>
            <p:cNvPr id="460" name=""/>
            <p:cNvSpPr/>
            <p:nvPr/>
          </p:nvSpPr>
          <p:spPr>
            <a:xfrm flipV="1">
              <a:off x="1775520" y="5292360"/>
              <a:ext cx="0" cy="7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59960" y="5496480"/>
              <a:ext cx="52200" cy="687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06320" y="5432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33040" y="5432760"/>
              <a:ext cx="35280" cy="34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01920" y="5304600"/>
              <a:ext cx="365040" cy="270360"/>
            </a:xfrm>
            <a:prstGeom prst="upArrow">
              <a:avLst>
                <a:gd name="adj1" fmla="val 63676"/>
                <a:gd name="adj2" fmla="val 44657"/>
              </a:avLst>
            </a:prstGeom>
            <a:solidFill>
              <a:srgbClr val="ffffff">
                <a:alpha val="35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7936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0352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5144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9108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939000" y="1765440"/>
            <a:ext cx="465120" cy="465120"/>
          </a:xfrm>
          <a:prstGeom prst="ellipse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62080" y="1846440"/>
            <a:ext cx="7072200" cy="4006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0880" y="3435480"/>
            <a:ext cx="260280" cy="260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88840" y="576432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65480" y="576432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576432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92840" y="5764320"/>
            <a:ext cx="13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75240" y="576432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38560" y="3112920"/>
            <a:ext cx="1628640" cy="2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600" y="27563"/>
                </a:moveTo>
                <a:lnTo>
                  <a:pt x="22611" y="9541"/>
                </a:lnTo>
              </a:path>
              <a:path w="21600" h="21600">
                <a:moveTo>
                  <a:pt x="22611" y="0"/>
                </a:moveTo>
                <a:lnTo>
                  <a:pt x="22611" y="21600"/>
                </a:lnTo>
              </a:path>
            </a:pathLst>
          </a:custGeom>
          <a:solidFill>
            <a:srgbClr val="cc0066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Special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3800" y="1174680"/>
            <a:ext cx="36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宋体"/>
              </a:rPr>
              <a:t>Contents Title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2005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87320" y="1257480"/>
            <a:ext cx="276480" cy="276120"/>
            <a:chOff x="787320" y="1257480"/>
            <a:chExt cx="276480" cy="276120"/>
          </a:xfrm>
        </p:grpSpPr>
        <p:grpSp>
          <p:nvGrpSpPr>
            <p:cNvPr id="480" name=""/>
            <p:cNvGrpSpPr/>
            <p:nvPr/>
          </p:nvGrpSpPr>
          <p:grpSpPr>
            <a:xfrm>
              <a:off x="787320" y="1257480"/>
              <a:ext cx="276480" cy="276120"/>
              <a:chOff x="787320" y="1257480"/>
              <a:chExt cx="276480" cy="276120"/>
            </a:xfrm>
          </p:grpSpPr>
          <p:sp>
            <p:nvSpPr>
              <p:cNvPr id="481" name=""/>
              <p:cNvSpPr/>
              <p:nvPr/>
            </p:nvSpPr>
            <p:spPr>
              <a:xfrm>
                <a:off x="787320" y="1257480"/>
                <a:ext cx="276480" cy="2761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4520" y="1262880"/>
                <a:ext cx="263880" cy="26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5320" y="1273680"/>
                <a:ext cx="241920" cy="2433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12520" y="1279440"/>
                <a:ext cx="227520" cy="228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5760" y="1283040"/>
                <a:ext cx="219960" cy="22140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820080" y="128772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afa"/>
                </a:solidFill>
                <a:latin typeface="Arial"/>
                <a:ea typeface="宋体"/>
              </a:rPr>
              <a:t>Line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346040" y="1987560"/>
            <a:ext cx="2365560" cy="3171960"/>
          </a:xfrm>
          <a:prstGeom prst="rect">
            <a:avLst/>
          </a:prstGeom>
          <a:solidFill>
            <a:srgbClr val="effbf7">
              <a:alpha val="20000"/>
            </a:srgbClr>
          </a:solidFill>
          <a:ln cap="rnd" w="3816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504800" y="1689120"/>
            <a:ext cx="2033640" cy="537840"/>
            <a:chOff x="1504800" y="1689120"/>
            <a:chExt cx="2033640" cy="537840"/>
          </a:xfrm>
        </p:grpSpPr>
        <p:sp>
          <p:nvSpPr>
            <p:cNvPr id="490" name=""/>
            <p:cNvSpPr/>
            <p:nvPr/>
          </p:nvSpPr>
          <p:spPr>
            <a:xfrm>
              <a:off x="1504800" y="1689120"/>
              <a:ext cx="2033640" cy="537840"/>
            </a:xfrm>
            <a:prstGeom prst="roundRect">
              <a:avLst>
                <a:gd name="adj" fmla="val 14583"/>
              </a:avLst>
            </a:prstGeom>
            <a:gradFill rotWithShape="0">
              <a:gsLst>
                <a:gs pos="0">
                  <a:srgbClr val="20a0ba"/>
                </a:gs>
                <a:gs pos="100000">
                  <a:srgbClr val="15697a"/>
                </a:gs>
              </a:gsLst>
              <a:lin ang="5400000"/>
            </a:gradFill>
            <a:ln w="19080">
              <a:solidFill>
                <a:srgbClr val="20a0ba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09120" y="1800720"/>
              <a:ext cx="2021400" cy="410400"/>
            </a:xfrm>
            <a:custGeom>
              <a:avLst/>
              <a:gdLst/>
              <a:ahLst/>
              <a:rect l="l" t="t" r="r" b="b"/>
              <a:pathLst>
                <a:path w="1360" h="183">
                  <a:moveTo>
                    <a:pt x="3" y="44"/>
                  </a:moveTo>
                  <a:lnTo>
                    <a:pt x="3" y="143"/>
                  </a:lnTo>
                  <a:cubicBezTo>
                    <a:pt x="4" y="162"/>
                    <a:pt x="0" y="181"/>
                    <a:pt x="52" y="183"/>
                  </a:cubicBezTo>
                  <a:lnTo>
                    <a:pt x="1315" y="183"/>
                  </a:lnTo>
                  <a:cubicBezTo>
                    <a:pt x="1351" y="183"/>
                    <a:pt x="1360" y="168"/>
                    <a:pt x="1360" y="140"/>
                  </a:cubicBezTo>
                  <a:lnTo>
                    <a:pt x="1360" y="0"/>
                  </a:lnTo>
                  <a:cubicBezTo>
                    <a:pt x="1281" y="26"/>
                    <a:pt x="1213" y="95"/>
                    <a:pt x="985" y="96"/>
                  </a:cubicBezTo>
                  <a:cubicBezTo>
                    <a:pt x="802" y="101"/>
                    <a:pt x="481" y="26"/>
                    <a:pt x="316" y="15"/>
                  </a:cubicBezTo>
                  <a:cubicBezTo>
                    <a:pt x="152" y="6"/>
                    <a:pt x="70" y="40"/>
                    <a:pt x="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70c1d2"/>
                </a:gs>
                <a:gs pos="100000">
                  <a:srgbClr val="20a0ba"/>
                </a:gs>
              </a:gsLst>
              <a:lin ang="5400000"/>
            </a:gradFill>
            <a:ln w="9360">
              <a:solidFill>
                <a:srgbClr val="20a0ba"/>
              </a:solidFill>
              <a:round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 flipH="1" flipV="1">
            <a:off x="3701520" y="5165280"/>
            <a:ext cx="2046600" cy="63036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660480" y="1987560"/>
            <a:ext cx="3058920" cy="920880"/>
          </a:xfrm>
          <a:prstGeom prst="line">
            <a:avLst/>
          </a:prstGeom>
          <a:ln w="936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32360" y="324468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756b2f"/>
              </a:gs>
              <a:gs pos="100000">
                <a:srgbClr val="413b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6625200">
            <a:off x="4671360" y="2788200"/>
            <a:ext cx="2946240" cy="297648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a1d6e1"/>
              </a:gs>
              <a:gs pos="100000">
                <a:srgbClr val="20a0ba"/>
              </a:gs>
            </a:gsLst>
            <a:lin ang="20376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53040" y="4148280"/>
            <a:ext cx="344520" cy="344520"/>
          </a:xfrm>
          <a:prstGeom prst="ellips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6560" y="344952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7%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523400" y="2667240"/>
            <a:ext cx="1950840" cy="2017080"/>
            <a:chOff x="4523400" y="2667240"/>
            <a:chExt cx="1950840" cy="2017080"/>
          </a:xfrm>
        </p:grpSpPr>
        <p:grpSp>
          <p:nvGrpSpPr>
            <p:cNvPr id="500" name=""/>
            <p:cNvGrpSpPr/>
            <p:nvPr/>
          </p:nvGrpSpPr>
          <p:grpSpPr>
            <a:xfrm>
              <a:off x="4523400" y="2725200"/>
              <a:ext cx="1469520" cy="1959120"/>
              <a:chOff x="4523400" y="2725200"/>
              <a:chExt cx="1469520" cy="1959120"/>
            </a:xfrm>
          </p:grpSpPr>
          <p:sp>
            <p:nvSpPr>
              <p:cNvPr id="501" name=""/>
              <p:cNvSpPr/>
              <p:nvPr/>
            </p:nvSpPr>
            <p:spPr>
              <a:xfrm rot="1164600">
                <a:off x="4818960" y="3118680"/>
                <a:ext cx="3776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980000">
                <a:off x="4914000" y="2879280"/>
                <a:ext cx="37764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275800">
                <a:off x="5001120" y="2758680"/>
                <a:ext cx="37764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808000">
                <a:off x="5110920" y="2618640"/>
                <a:ext cx="377640" cy="154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563360" y="2667240"/>
              <a:ext cx="1910880" cy="1510560"/>
              <a:chOff x="4563360" y="2667240"/>
              <a:chExt cx="1910880" cy="1510560"/>
            </a:xfrm>
          </p:grpSpPr>
          <p:sp>
            <p:nvSpPr>
              <p:cNvPr id="506" name=""/>
              <p:cNvSpPr/>
              <p:nvPr/>
            </p:nvSpPr>
            <p:spPr>
              <a:xfrm rot="2517600">
                <a:off x="5032080" y="2701800"/>
                <a:ext cx="379440" cy="1547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3333000">
                <a:off x="5211360" y="2517480"/>
                <a:ext cx="3794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3628800">
                <a:off x="5338440" y="2439720"/>
                <a:ext cx="3794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4161000">
                <a:off x="5493600" y="2352240"/>
                <a:ext cx="379440" cy="154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6459120" y="4030560"/>
            <a:ext cx="939960" cy="695160"/>
            <a:chOff x="6459120" y="4030560"/>
            <a:chExt cx="939960" cy="695160"/>
          </a:xfrm>
        </p:grpSpPr>
        <p:sp>
          <p:nvSpPr>
            <p:cNvPr id="511" name=""/>
            <p:cNvSpPr/>
            <p:nvPr/>
          </p:nvSpPr>
          <p:spPr>
            <a:xfrm flipH="1">
              <a:off x="6458760" y="4172040"/>
              <a:ext cx="473400" cy="55368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631200" y="4030560"/>
              <a:ext cx="126000" cy="14544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46560" y="4182120"/>
              <a:ext cx="452520" cy="5310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15040" y="4048560"/>
              <a:ext cx="119520" cy="13752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06920" y="2386080"/>
            <a:ext cx="765000" cy="946080"/>
            <a:chOff x="5506920" y="2386080"/>
            <a:chExt cx="765000" cy="946080"/>
          </a:xfrm>
        </p:grpSpPr>
        <p:sp>
          <p:nvSpPr>
            <p:cNvPr id="516" name=""/>
            <p:cNvSpPr/>
            <p:nvPr/>
          </p:nvSpPr>
          <p:spPr>
            <a:xfrm>
              <a:off x="5789520" y="2386080"/>
              <a:ext cx="200160" cy="19512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06920" y="2414520"/>
              <a:ext cx="765000" cy="9176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415880" y="2405160"/>
            <a:ext cx="22752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94800" y="1720800"/>
            <a:ext cx="1893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261120" y="480708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3592440" y="4753080"/>
            <a:ext cx="1843200" cy="1096920"/>
            <a:chOff x="3592440" y="4753080"/>
            <a:chExt cx="1843200" cy="1096920"/>
          </a:xfrm>
        </p:grpSpPr>
        <p:sp>
          <p:nvSpPr>
            <p:cNvPr id="522" name=""/>
            <p:cNvSpPr/>
            <p:nvPr/>
          </p:nvSpPr>
          <p:spPr>
            <a:xfrm>
              <a:off x="3592440" y="5585040"/>
              <a:ext cx="1839960" cy="257040"/>
            </a:xfrm>
            <a:prstGeom prst="ellipse">
              <a:avLst/>
            </a:prstGeom>
            <a:gradFill rotWithShape="0">
              <a:gsLst>
                <a:gs pos="0">
                  <a:srgbClr val="20296a"/>
                </a:gs>
                <a:gs pos="50000">
                  <a:srgbClr val="9fa3bf"/>
                </a:gs>
                <a:gs pos="100000">
                  <a:srgbClr val="2029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95680" y="475308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1230"/>
                </a:gs>
                <a:gs pos="50000">
                  <a:srgbClr val="20296a">
                    <a:alpha val="50196"/>
                  </a:srgbClr>
                </a:gs>
                <a:gs pos="100000">
                  <a:srgbClr val="0e12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592440" y="3924360"/>
            <a:ext cx="1843200" cy="1096920"/>
            <a:chOff x="3592440" y="3924360"/>
            <a:chExt cx="1843200" cy="1096920"/>
          </a:xfrm>
        </p:grpSpPr>
        <p:sp>
          <p:nvSpPr>
            <p:cNvPr id="525" name=""/>
            <p:cNvSpPr/>
            <p:nvPr/>
          </p:nvSpPr>
          <p:spPr>
            <a:xfrm>
              <a:off x="3592440" y="4756320"/>
              <a:ext cx="1839960" cy="257040"/>
            </a:xfrm>
            <a:prstGeom prst="ellipse">
              <a:avLst/>
            </a:prstGeom>
            <a:gradFill rotWithShape="0">
              <a:gsLst>
                <a:gs pos="0">
                  <a:srgbClr val="20a0ba"/>
                </a:gs>
                <a:gs pos="50000">
                  <a:srgbClr val="9fd5e0"/>
                </a:gs>
                <a:gs pos="100000">
                  <a:srgbClr val="20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95680" y="392436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4955"/>
                </a:gs>
                <a:gs pos="50000">
                  <a:srgbClr val="20a0ba">
                    <a:alpha val="50196"/>
                  </a:srgbClr>
                </a:gs>
                <a:gs pos="100000">
                  <a:srgbClr val="0e49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592440" y="3092400"/>
            <a:ext cx="1843200" cy="1096920"/>
            <a:chOff x="3592440" y="3092400"/>
            <a:chExt cx="1843200" cy="1096920"/>
          </a:xfrm>
        </p:grpSpPr>
        <p:sp>
          <p:nvSpPr>
            <p:cNvPr id="528" name=""/>
            <p:cNvSpPr/>
            <p:nvPr/>
          </p:nvSpPr>
          <p:spPr>
            <a:xfrm>
              <a:off x="3592440" y="3924360"/>
              <a:ext cx="1839960" cy="257040"/>
            </a:xfrm>
            <a:prstGeom prst="ellipse">
              <a:avLst/>
            </a:prstGeom>
            <a:gradFill rotWithShape="0">
              <a:gsLst>
                <a:gs pos="0">
                  <a:srgbClr val="dfc75f"/>
                </a:gs>
                <a:gs pos="50000">
                  <a:srgbClr val="f0e6ba"/>
                </a:gs>
                <a:gs pos="100000">
                  <a:srgbClr val="dfc7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95680" y="3092400"/>
              <a:ext cx="1839960" cy="10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5b2b"/>
                </a:gs>
                <a:gs pos="50000">
                  <a:srgbClr val="dfc75f">
                    <a:alpha val="50196"/>
                  </a:srgbClr>
                </a:gs>
                <a:gs pos="100000">
                  <a:srgbClr val="665b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21418800">
            <a:off x="2859120" y="2933640"/>
            <a:ext cx="3271680" cy="1208160"/>
          </a:xfrm>
          <a:prstGeom prst="donut">
            <a:avLst>
              <a:gd name="adj" fmla="val 1518"/>
            </a:avLst>
          </a:prstGeom>
          <a:gradFill rotWithShape="0">
            <a:gsLst>
              <a:gs pos="0">
                <a:srgbClr val="d5d5fe"/>
              </a:gs>
              <a:gs pos="50000">
                <a:srgbClr val="9999ff"/>
              </a:gs>
              <a:gs pos="100000">
                <a:srgbClr val="d5d5fe"/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47840" y="2021040"/>
            <a:ext cx="2832120" cy="6937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1440" y="153972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01920" y="205740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2960" y="3228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245280" y="321948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3840" y="3656160"/>
            <a:ext cx="2760480" cy="7459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5520" y="3726000"/>
            <a:ext cx="284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19840" y="3656160"/>
            <a:ext cx="2760480" cy="745920"/>
          </a:xfrm>
          <a:prstGeom prst="roundRect">
            <a:avLst>
              <a:gd name="adj" fmla="val 11505"/>
            </a:avLst>
          </a:prstGeom>
          <a:solidFill>
            <a:srgbClr val="ffffff">
              <a:alpha val="50000"/>
            </a:srgbClr>
          </a:solidFill>
          <a:ln w="64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85000" y="3726000"/>
            <a:ext cx="267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754280" y="4513320"/>
            <a:ext cx="56880" cy="466560"/>
            <a:chOff x="1754280" y="4513320"/>
            <a:chExt cx="56880" cy="466560"/>
          </a:xfrm>
        </p:grpSpPr>
        <p:sp>
          <p:nvSpPr>
            <p:cNvPr id="542" name=""/>
            <p:cNvSpPr/>
            <p:nvPr/>
          </p:nvSpPr>
          <p:spPr>
            <a:xfrm>
              <a:off x="1754280" y="451332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54280" y="464976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54280" y="4786200"/>
              <a:ext cx="5688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4280" y="4923000"/>
              <a:ext cx="56880" cy="56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37440" y="4513320"/>
            <a:ext cx="57240" cy="466560"/>
            <a:chOff x="7237440" y="4513320"/>
            <a:chExt cx="57240" cy="466560"/>
          </a:xfrm>
        </p:grpSpPr>
        <p:sp>
          <p:nvSpPr>
            <p:cNvPr id="547" name=""/>
            <p:cNvSpPr/>
            <p:nvPr/>
          </p:nvSpPr>
          <p:spPr>
            <a:xfrm>
              <a:off x="7237440" y="451332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37440" y="464976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37440" y="4786200"/>
              <a:ext cx="57240" cy="5724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7440" y="4923000"/>
              <a:ext cx="57240" cy="568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00040" y="5035680"/>
            <a:ext cx="25700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c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5035680"/>
            <a:ext cx="257004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c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68480" y="2914560"/>
            <a:ext cx="3272040" cy="1208160"/>
          </a:xfrm>
          <a:prstGeom prst="donut">
            <a:avLst>
              <a:gd name="adj" fmla="val 1518"/>
            </a:avLst>
          </a:prstGeom>
          <a:gradFill rotWithShape="0">
            <a:gsLst>
              <a:gs pos="0">
                <a:srgbClr val="d5d5fe"/>
              </a:gs>
              <a:gs pos="50000">
                <a:srgbClr val="9999ff"/>
              </a:gs>
              <a:gs pos="100000">
                <a:srgbClr val="d5d5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782800" y="3298680"/>
            <a:ext cx="257400" cy="267840"/>
            <a:chOff x="2782800" y="3298680"/>
            <a:chExt cx="257400" cy="26784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2782800" y="3298680"/>
              <a:ext cx="2574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782800" y="3298680"/>
              <a:ext cx="255960" cy="2498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804400" y="3480120"/>
              <a:ext cx="201240" cy="86400"/>
              <a:chOff x="2804400" y="3480120"/>
              <a:chExt cx="201240" cy="8640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2836800" y="3492000"/>
                <a:ext cx="168840" cy="68040"/>
                <a:chOff x="2836800" y="3492000"/>
                <a:chExt cx="168840" cy="6804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4217400">
                  <a:off x="2928600" y="34650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5032800">
                  <a:off x="2909160" y="347076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328600">
                  <a:off x="2898000" y="3471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860800">
                  <a:off x="2883960" y="34722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804400" y="3480120"/>
                <a:ext cx="164520" cy="86400"/>
                <a:chOff x="2804400" y="3480120"/>
                <a:chExt cx="164520" cy="8640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570400">
                  <a:off x="2892600" y="34729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385800">
                  <a:off x="2872800" y="3471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681600">
                  <a:off x="2862000" y="3468240"/>
                  <a:ext cx="29160" cy="12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7213800">
                  <a:off x="2849400" y="346248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"/>
            <p:cNvSpPr/>
            <p:nvPr/>
          </p:nvSpPr>
          <p:spPr>
            <a:xfrm>
              <a:off x="2809080" y="3303720"/>
              <a:ext cx="200880" cy="86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456080" y="2882880"/>
            <a:ext cx="152280" cy="158040"/>
            <a:chOff x="4456080" y="2882880"/>
            <a:chExt cx="152280" cy="158040"/>
          </a:xfrm>
        </p:grpSpPr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4456080" y="2882880"/>
              <a:ext cx="152280" cy="1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56080" y="2882880"/>
              <a:ext cx="151560" cy="14688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4468680" y="2989800"/>
              <a:ext cx="118800" cy="51120"/>
              <a:chOff x="4468680" y="2989800"/>
              <a:chExt cx="118800" cy="51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488120" y="2995920"/>
                <a:ext cx="99360" cy="40320"/>
                <a:chOff x="4488120" y="2995920"/>
                <a:chExt cx="99360" cy="40320"/>
              </a:xfrm>
            </p:grpSpPr>
            <p:sp>
              <p:nvSpPr>
                <p:cNvPr id="574" name=""/>
                <p:cNvSpPr/>
                <p:nvPr/>
              </p:nvSpPr>
              <p:spPr>
                <a:xfrm flipH="1" flipV="1" rot="4217400">
                  <a:off x="4542120" y="29800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 rot="5032800">
                  <a:off x="4530960" y="29836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 rot="5328600">
                  <a:off x="4524480" y="298404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 rot="5860800">
                  <a:off x="4515480" y="298440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468680" y="2989800"/>
                <a:ext cx="97560" cy="51120"/>
                <a:chOff x="4468680" y="2989800"/>
                <a:chExt cx="97560" cy="51120"/>
              </a:xfrm>
            </p:grpSpPr>
            <p:sp>
              <p:nvSpPr>
                <p:cNvPr id="579" name=""/>
                <p:cNvSpPr/>
                <p:nvPr/>
              </p:nvSpPr>
              <p:spPr>
                <a:xfrm flipH="1" flipV="1" rot="5570400">
                  <a:off x="4521240" y="298476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 flipV="1" rot="6385800">
                  <a:off x="4509360" y="298368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flipV="1" rot="6681600">
                  <a:off x="4503240" y="2981520"/>
                  <a:ext cx="1692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 rot="7213800">
                  <a:off x="4495320" y="2978640"/>
                  <a:ext cx="17280" cy="7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3" name=""/>
            <p:cNvSpPr/>
            <p:nvPr/>
          </p:nvSpPr>
          <p:spPr>
            <a:xfrm>
              <a:off x="4471560" y="2885760"/>
              <a:ext cx="118800" cy="50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925960" y="3379680"/>
            <a:ext cx="257400" cy="267840"/>
            <a:chOff x="5925960" y="3379680"/>
            <a:chExt cx="257400" cy="26784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5925960" y="3379680"/>
              <a:ext cx="25740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5925960" y="3379680"/>
              <a:ext cx="255960" cy="2498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5947560" y="3561120"/>
              <a:ext cx="201240" cy="86400"/>
              <a:chOff x="5947560" y="3561120"/>
              <a:chExt cx="201240" cy="86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979960" y="3573000"/>
                <a:ext cx="168840" cy="68040"/>
                <a:chOff x="5979960" y="3573000"/>
                <a:chExt cx="168840" cy="6804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 rot="4217400">
                  <a:off x="6071760" y="35460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flipV="1" rot="5032800">
                  <a:off x="6052320" y="355176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 rot="5328600">
                  <a:off x="6041160" y="3552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5860800">
                  <a:off x="6027120" y="355320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947560" y="3561120"/>
                <a:ext cx="164520" cy="86400"/>
                <a:chOff x="5947560" y="3561120"/>
                <a:chExt cx="164520" cy="86400"/>
              </a:xfrm>
            </p:grpSpPr>
            <p:sp>
              <p:nvSpPr>
                <p:cNvPr id="594" name=""/>
                <p:cNvSpPr/>
                <p:nvPr/>
              </p:nvSpPr>
              <p:spPr>
                <a:xfrm flipH="1" flipV="1" rot="5570400">
                  <a:off x="6035760" y="35539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 flipV="1" rot="6385800">
                  <a:off x="6015960" y="355212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 rot="6681600">
                  <a:off x="6005160" y="3549240"/>
                  <a:ext cx="29160" cy="120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H="1" flipV="1" rot="7213800">
                  <a:off x="5992560" y="3543480"/>
                  <a:ext cx="29160" cy="12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"/>
            <p:cNvSpPr/>
            <p:nvPr/>
          </p:nvSpPr>
          <p:spPr>
            <a:xfrm>
              <a:off x="5952240" y="3384720"/>
              <a:ext cx="200880" cy="867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 flipH="1">
            <a:off x="3645720" y="249696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39880" y="253368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679400" y="3540240"/>
            <a:ext cx="3003840" cy="2771280"/>
            <a:chOff x="1679400" y="3540240"/>
            <a:chExt cx="3003840" cy="2771280"/>
          </a:xfrm>
        </p:grpSpPr>
        <p:grpSp>
          <p:nvGrpSpPr>
            <p:cNvPr id="602" name=""/>
            <p:cNvGrpSpPr/>
            <p:nvPr/>
          </p:nvGrpSpPr>
          <p:grpSpPr>
            <a:xfrm>
              <a:off x="1854000" y="4728960"/>
              <a:ext cx="2706840" cy="1582560"/>
              <a:chOff x="1854000" y="4728960"/>
              <a:chExt cx="2706840" cy="1582560"/>
            </a:xfrm>
          </p:grpSpPr>
          <p:sp>
            <p:nvSpPr>
              <p:cNvPr id="603" name=""/>
              <p:cNvSpPr/>
              <p:nvPr/>
            </p:nvSpPr>
            <p:spPr>
              <a:xfrm>
                <a:off x="1854000" y="52617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05200" y="51807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dfc7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54000" y="472896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796040" y="4342320"/>
              <a:ext cx="2802600" cy="1582560"/>
              <a:chOff x="1796040" y="4342320"/>
              <a:chExt cx="2802600" cy="1582560"/>
            </a:xfrm>
          </p:grpSpPr>
          <p:sp>
            <p:nvSpPr>
              <p:cNvPr id="607" name=""/>
              <p:cNvSpPr/>
              <p:nvPr/>
            </p:nvSpPr>
            <p:spPr>
              <a:xfrm>
                <a:off x="1796040" y="48751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84680" y="4794120"/>
                <a:ext cx="1713960" cy="112572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20a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96040" y="4342320"/>
                <a:ext cx="2802600" cy="130140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737360" y="3942000"/>
              <a:ext cx="2903040" cy="1582560"/>
              <a:chOff x="1737360" y="3942000"/>
              <a:chExt cx="2903040" cy="1582560"/>
            </a:xfrm>
          </p:grpSpPr>
          <p:sp>
            <p:nvSpPr>
              <p:cNvPr id="611" name=""/>
              <p:cNvSpPr/>
              <p:nvPr/>
            </p:nvSpPr>
            <p:spPr>
              <a:xfrm>
                <a:off x="1737360" y="44748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64880" y="439380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0d3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737360" y="394200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679400" y="3540240"/>
              <a:ext cx="3003840" cy="1582560"/>
              <a:chOff x="1679400" y="3540240"/>
              <a:chExt cx="3003840" cy="1582560"/>
            </a:xfrm>
          </p:grpSpPr>
          <p:sp>
            <p:nvSpPr>
              <p:cNvPr id="615" name=""/>
              <p:cNvSpPr/>
              <p:nvPr/>
            </p:nvSpPr>
            <p:spPr>
              <a:xfrm>
                <a:off x="1679400" y="40730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46160" y="399204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202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79400" y="354024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5421240" y="3057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96a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07200" y="3770280"/>
            <a:ext cx="3133440" cy="6256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0d35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98920" y="5097600"/>
            <a:ext cx="3065760" cy="644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c75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98920" y="4471920"/>
            <a:ext cx="3097440" cy="5558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a0ba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21055800">
            <a:off x="1248840" y="374004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20296a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0800" y="58150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89240" y="1574640"/>
            <a:ext cx="2447640" cy="2759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bcb98"/>
              </a:gs>
              <a:gs pos="100000">
                <a:srgbClr val="8080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629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630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637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98640" y="1660680"/>
            <a:ext cx="31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56120" y="318276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c1933f"/>
              </a:gs>
              <a:gs pos="100000">
                <a:srgbClr val="86662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8280" y="30765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5d2b1"/>
              </a:gs>
              <a:gs pos="100000">
                <a:srgbClr val="c1933f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49360" y="3063960"/>
            <a:ext cx="1323720" cy="1320840"/>
            <a:chOff x="549360" y="3063960"/>
            <a:chExt cx="1323720" cy="1320840"/>
          </a:xfrm>
        </p:grpSpPr>
        <p:grpSp>
          <p:nvGrpSpPr>
            <p:cNvPr id="650" name=""/>
            <p:cNvGrpSpPr/>
            <p:nvPr/>
          </p:nvGrpSpPr>
          <p:grpSpPr>
            <a:xfrm>
              <a:off x="549360" y="3063960"/>
              <a:ext cx="1323720" cy="1320840"/>
              <a:chOff x="549360" y="3063960"/>
              <a:chExt cx="1323720" cy="1320840"/>
            </a:xfrm>
          </p:grpSpPr>
          <p:sp>
            <p:nvSpPr>
              <p:cNvPr id="651" name=""/>
              <p:cNvSpPr/>
              <p:nvPr/>
            </p:nvSpPr>
            <p:spPr>
              <a:xfrm>
                <a:off x="549360" y="30639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4280" y="30902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6120" y="31424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1040" y="31694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6160" y="31863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705960" y="32090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58431d"/>
                </a:gs>
                <a:gs pos="100000">
                  <a:srgbClr val="c19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63560" y="3271680"/>
            <a:ext cx="879480" cy="885600"/>
            <a:chOff x="763560" y="3271680"/>
            <a:chExt cx="879480" cy="885600"/>
          </a:xfrm>
        </p:grpSpPr>
        <p:sp>
          <p:nvSpPr>
            <p:cNvPr id="658" name=""/>
            <p:cNvSpPr/>
            <p:nvPr/>
          </p:nvSpPr>
          <p:spPr>
            <a:xfrm>
              <a:off x="763560" y="32716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6360" y="32716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560" y="37083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65400" y="32774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67320" y="32835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5400000">
              <a:off x="1131120" y="36342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16200000">
              <a:off x="1138680" y="31305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693720" y="3527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98640" y="322416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3360" y="32716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56120" y="474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955577"/>
              </a:gs>
              <a:gs pos="100000">
                <a:srgbClr val="673b5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268280" y="464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3bac7"/>
              </a:gs>
              <a:gs pos="100000">
                <a:srgbClr val="955577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49360" y="4627440"/>
            <a:ext cx="1323720" cy="1320840"/>
            <a:chOff x="549360" y="4627440"/>
            <a:chExt cx="1323720" cy="1320840"/>
          </a:xfrm>
        </p:grpSpPr>
        <p:grpSp>
          <p:nvGrpSpPr>
            <p:cNvPr id="671" name=""/>
            <p:cNvGrpSpPr/>
            <p:nvPr/>
          </p:nvGrpSpPr>
          <p:grpSpPr>
            <a:xfrm>
              <a:off x="549360" y="4627440"/>
              <a:ext cx="1323720" cy="1320840"/>
              <a:chOff x="549360" y="4627440"/>
              <a:chExt cx="1323720" cy="1320840"/>
            </a:xfrm>
          </p:grpSpPr>
          <p:sp>
            <p:nvSpPr>
              <p:cNvPr id="672" name=""/>
              <p:cNvSpPr/>
              <p:nvPr/>
            </p:nvSpPr>
            <p:spPr>
              <a:xfrm>
                <a:off x="549360" y="462744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4280" y="465372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6120" y="470592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1040" y="473292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6160" y="474984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705960" y="477252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42736"/>
                </a:gs>
                <a:gs pos="100000">
                  <a:srgbClr val="9555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63560" y="4835520"/>
            <a:ext cx="879480" cy="885600"/>
            <a:chOff x="763560" y="4835520"/>
            <a:chExt cx="879480" cy="885600"/>
          </a:xfrm>
        </p:grpSpPr>
        <p:sp>
          <p:nvSpPr>
            <p:cNvPr id="679" name=""/>
            <p:cNvSpPr/>
            <p:nvPr/>
          </p:nvSpPr>
          <p:spPr>
            <a:xfrm>
              <a:off x="763560" y="483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06360" y="483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3560" y="527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65400" y="484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67320" y="484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1131120" y="519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 rot="16200000">
              <a:off x="1138680" y="469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693720" y="509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83360" y="483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98640" y="4799160"/>
            <a:ext cx="30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406680" y="2550960"/>
            <a:ext cx="2341800" cy="2343240"/>
          </a:xfrm>
          <a:prstGeom prst="donut">
            <a:avLst>
              <a:gd name="adj" fmla="val 28564"/>
            </a:avLst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5400000"/>
          </a:gradFill>
          <a:ln w="2844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9920" y="3722760"/>
            <a:ext cx="2000160" cy="135396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712960" y="3722760"/>
            <a:ext cx="1866960" cy="1342800"/>
          </a:xfrm>
          <a:prstGeom prst="line">
            <a:avLst/>
          </a:prstGeom>
          <a:ln w="9360">
            <a:solidFill>
              <a:srgbClr val="353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579920" y="1854360"/>
            <a:ext cx="0" cy="186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3774000">
            <a:off x="4023720" y="3081240"/>
            <a:ext cx="1609920" cy="106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97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95" name=""/>
          <p:cNvSpPr txBox="1"/>
          <p:nvPr/>
        </p:nvSpPr>
        <p:spPr>
          <a:xfrm rot="17728800">
            <a:off x="3517920" y="2999880"/>
            <a:ext cx="1655640" cy="121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07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96" name=""/>
          <p:cNvSpPr txBox="1"/>
          <p:nvPr/>
        </p:nvSpPr>
        <p:spPr>
          <a:xfrm rot="21471600">
            <a:off x="3938400" y="4003200"/>
            <a:ext cx="1269720" cy="617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091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697" name=""/>
          <p:cNvSpPr/>
          <p:nvPr/>
        </p:nvSpPr>
        <p:spPr>
          <a:xfrm>
            <a:off x="4527720" y="3666960"/>
            <a:ext cx="1015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3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55600" y="5105520"/>
            <a:ext cx="3159360" cy="38232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76480" y="511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64040" y="5105520"/>
            <a:ext cx="3159360" cy="382320"/>
          </a:xfrm>
          <a:prstGeom prst="roundRect">
            <a:avLst>
              <a:gd name="adj" fmla="val 22815"/>
            </a:avLst>
          </a:prstGeom>
          <a:solidFill>
            <a:srgbClr val="20a0b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884920" y="5114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05280" y="1400040"/>
            <a:ext cx="3159000" cy="382680"/>
          </a:xfrm>
          <a:prstGeom prst="roundRect">
            <a:avLst>
              <a:gd name="adj" fmla="val 22815"/>
            </a:avLst>
          </a:prstGeom>
          <a:solidFill>
            <a:srgbClr val="dfc75f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36960" y="1419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89240" y="5551560"/>
            <a:ext cx="27381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68800" y="5553000"/>
            <a:ext cx="29908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32400" y="2158920"/>
            <a:ext cx="777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05480" y="2073240"/>
            <a:ext cx="3066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948280" y="4632480"/>
            <a:ext cx="7776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2000" y="4545000"/>
            <a:ext cx="2966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20920" y="4632480"/>
            <a:ext cx="7776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8080" y="4537080"/>
            <a:ext cx="3012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 rot="21175800">
            <a:off x="631800" y="2959200"/>
            <a:ext cx="1812960" cy="233676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949400" y="246492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716" name="" descr=""/>
            <p:cNvPicPr/>
            <p:nvPr/>
          </p:nvPicPr>
          <p:blipFill>
            <a:blip r:embed="rId1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121212"/>
                </a:gs>
                <a:gs pos="50000">
                  <a:srgbClr val="292929">
                    <a:alpha val="50196"/>
                  </a:srgbClr>
                </a:gs>
                <a:gs pos="100000">
                  <a:srgbClr val="1212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720" name="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725" name="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29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1922040" y="538560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121212"/>
                </a:gs>
                <a:gs pos="50000">
                  <a:srgbClr val="292929">
                    <a:alpha val="50196"/>
                  </a:srgbClr>
                </a:gs>
                <a:gs pos="100000">
                  <a:srgbClr val="1212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735" name="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740" name="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44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3604680" y="42901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5" name="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121212"/>
                </a:gs>
                <a:gs pos="50000">
                  <a:srgbClr val="292929">
                    <a:alpha val="50196"/>
                  </a:srgbClr>
                </a:gs>
                <a:gs pos="100000">
                  <a:srgbClr val="1212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750" name="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755" name="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9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213520" y="32911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"/>
          <p:cNvGrpSpPr/>
          <p:nvPr/>
        </p:nvGrpSpPr>
        <p:grpSpPr>
          <a:xfrm>
            <a:off x="6556320" y="2370960"/>
            <a:ext cx="216000" cy="219600"/>
            <a:chOff x="6556320" y="2370960"/>
            <a:chExt cx="216000" cy="219600"/>
          </a:xfrm>
        </p:grpSpPr>
        <p:pic>
          <p:nvPicPr>
            <p:cNvPr id="761" name="" descr=""/>
            <p:cNvPicPr/>
            <p:nvPr/>
          </p:nvPicPr>
          <p:blipFill>
            <a:blip r:embed="rId7"/>
            <a:stretch/>
          </p:blipFill>
          <p:spPr>
            <a:xfrm>
              <a:off x="6579000" y="23907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6579000" y="23907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6591960" y="2522160"/>
              <a:ext cx="170280" cy="68400"/>
              <a:chOff x="6591960" y="2522160"/>
              <a:chExt cx="170280" cy="68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622200" y="2522160"/>
                <a:ext cx="140040" cy="64080"/>
                <a:chOff x="6622200" y="2522160"/>
                <a:chExt cx="140040" cy="64080"/>
              </a:xfrm>
            </p:grpSpPr>
            <p:sp>
              <p:nvSpPr>
                <p:cNvPr id="765" name=""/>
                <p:cNvSpPr/>
                <p:nvPr/>
              </p:nvSpPr>
              <p:spPr>
                <a:xfrm flipH="1" flipV="1" rot="3964800">
                  <a:off x="6697800" y="25030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 flipV="1" rot="4780200">
                  <a:off x="6682320" y="25095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flipV="1" rot="5076000">
                  <a:off x="6672600" y="25110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 flipV="1" rot="5608200">
                  <a:off x="6661440" y="25120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91960" y="2522880"/>
                <a:ext cx="140760" cy="67680"/>
                <a:chOff x="6591960" y="2522880"/>
                <a:chExt cx="140760" cy="67680"/>
              </a:xfrm>
            </p:grpSpPr>
            <p:sp>
              <p:nvSpPr>
                <p:cNvPr id="770" name=""/>
                <p:cNvSpPr/>
                <p:nvPr/>
              </p:nvSpPr>
              <p:spPr>
                <a:xfrm flipH="1" flipV="1" rot="5317800">
                  <a:off x="6668280" y="25117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 rot="6133800">
                  <a:off x="6651360" y="25120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flipV="1" rot="6429000">
                  <a:off x="6642000" y="2508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 rot="6961200">
                  <a:off x="6630120" y="25056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4" name="" descr="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568560" y="240732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5" name="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20296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24040" y="5022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90840" y="3933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094280" y="2930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9"/>
          <a:stretch/>
        </p:blipFill>
        <p:spPr>
          <a:xfrm>
            <a:off x="6729480" y="122868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028960" y="54784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747960" y="4383000"/>
            <a:ext cx="3094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61120" y="34178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14520" y="4371840"/>
            <a:ext cx="628560" cy="67176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2960" y="4468680"/>
            <a:ext cx="42480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be55d3"/>
              </a:gs>
              <a:gs pos="100000">
                <a:srgbClr val="9f47b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7320" y="451944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7760" y="45720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5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5840" y="469728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4520" y="3782880"/>
            <a:ext cx="628560" cy="67176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2960" y="3879720"/>
            <a:ext cx="4248000" cy="44316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20a0ba"/>
              </a:gs>
              <a:gs pos="100000">
                <a:srgbClr val="1a869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7320" y="393048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7760" y="39830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4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35840" y="413712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4520" y="3198960"/>
            <a:ext cx="628560" cy="67140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2960" y="329580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a0d35d"/>
              </a:gs>
              <a:gs pos="100000">
                <a:srgbClr val="86b14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7320" y="334656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7760" y="33987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3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5840" y="352440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4520" y="2610000"/>
            <a:ext cx="628560" cy="67140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2960" y="270684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dfc75f"/>
              </a:gs>
              <a:gs pos="100000">
                <a:srgbClr val="bba74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7320" y="275760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7760" y="28098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2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5840" y="296388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4520" y="2033640"/>
            <a:ext cx="628560" cy="67140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2960" y="2130480"/>
            <a:ext cx="4248000" cy="44280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20296a"/>
              </a:gs>
              <a:gs pos="100000">
                <a:srgbClr val="1a225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7320" y="2181240"/>
            <a:ext cx="343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afafa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afafa"/>
                </a:solidFill>
                <a:latin typeface="Arial"/>
                <a:ea typeface="宋体"/>
              </a:rPr>
              <a:t>Click to add titl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7760" y="22334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1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5840" y="2387520"/>
            <a:ext cx="1046160" cy="0"/>
          </a:xfrm>
          <a:prstGeom prst="line">
            <a:avLst/>
          </a:prstGeom>
          <a:ln cap="rnd" w="38160">
            <a:solidFill>
              <a:srgbClr val="f8f8f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89920" y="4576680"/>
            <a:ext cx="244440" cy="2602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89920" y="3987720"/>
            <a:ext cx="244440" cy="2602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89920" y="3403440"/>
            <a:ext cx="244440" cy="26064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89920" y="2814480"/>
            <a:ext cx="244440" cy="26064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9920" y="2238480"/>
            <a:ext cx="244440" cy="2602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dfc7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0a0ba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2286-4F69-4179-BAEA-82C089A3A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a0ba"/>
            </a:gs>
            <a:gs pos="100000">
              <a:srgbClr val="2029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7527960" y="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523880" y="1473120"/>
            <a:ext cx="58802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e4955"/>
                    </a:gs>
                    <a:gs pos="100000">
                      <a:srgbClr val="20a0b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e4955"/>
                  </a:gs>
                  <a:gs pos="100000">
                    <a:srgbClr val="20a0b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0360" y="18208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1c1c1c"/>
              </a:buClr>
              <a:buFont typeface="Wingdings" charset="2"/>
              <a:buChar char=""/>
              <a:tabLst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How do I incorporate my logo to a slid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that will apply to all the other slide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-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 the [View] menu, point to [Master], and then click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[Slide Master] or Notes Master.  Change images to the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one you like, the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it will apply to all the other slides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tabLst>
                <a:tab algn="l" pos="0"/>
                <a:tab algn="l" pos="685800"/>
                <a:tab algn="l" pos="4343400"/>
                <a:tab algn="l" pos="86868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3880" y="4707000"/>
            <a:ext cx="7315200" cy="1218960"/>
          </a:xfrm>
          <a:prstGeom prst="rect">
            <a:avLst/>
          </a:prstGeom>
          <a:solidFill>
            <a:srgbClr val="a0d35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6160" y="4881600"/>
            <a:ext cx="5791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Title Master :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www.photosclub.com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Note to customers : This image has been licensed to be used within </a:t>
            </a:r>
            <a:r>
              <a:rPr b="1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PowerPoint template only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宋体"/>
              </a:rPr>
              <a:t>- You may not extract the image for any other use.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Introdu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63720" y="1395360"/>
            <a:ext cx="1365120" cy="1339920"/>
          </a:xfrm>
          <a:prstGeom prst="flowChartConnector">
            <a:avLst/>
          </a:prstGeom>
          <a:gradFill rotWithShape="0">
            <a:gsLst>
              <a:gs pos="0">
                <a:srgbClr val="698b3d"/>
              </a:gs>
              <a:gs pos="100000">
                <a:srgbClr val="a0d35d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3720" y="296244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93833e"/>
              </a:gs>
              <a:gs pos="100000">
                <a:srgbClr val="dfc75f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3720" y="4543560"/>
            <a:ext cx="1365120" cy="1339560"/>
          </a:xfrm>
          <a:prstGeom prst="flowChartConnector">
            <a:avLst/>
          </a:prstGeom>
          <a:gradFill rotWithShape="0">
            <a:gsLst>
              <a:gs pos="0">
                <a:srgbClr val="15697a"/>
              </a:gs>
              <a:gs pos="100000">
                <a:srgbClr val="20a0ba"/>
              </a:gs>
            </a:gsLst>
            <a:lin ang="13500000"/>
          </a:gradFill>
          <a:ln w="88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600200"/>
            <a:ext cx="5867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Mission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2760" y="3138480"/>
            <a:ext cx="574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Vision 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5240" y="4748040"/>
            <a:ext cx="5514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usiness Model 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State the company’s mission statement and describe the company’s vision and business model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31480" y="188424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iss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3920" y="34560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9160" y="493236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Mode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62040" y="1160640"/>
            <a:ext cx="4283280" cy="4555800"/>
          </a:xfrm>
          <a:custGeom>
            <a:avLst/>
            <a:gdLst/>
            <a:ahLst/>
            <a:rect l="l" t="t" r="r" b="b"/>
            <a:pathLst>
              <a:path w="2698" h="2870">
                <a:moveTo>
                  <a:pt x="744" y="1107"/>
                </a:moveTo>
                <a:lnTo>
                  <a:pt x="0" y="2479"/>
                </a:lnTo>
                <a:cubicBezTo>
                  <a:pt x="323" y="2693"/>
                  <a:pt x="608" y="2838"/>
                  <a:pt x="977" y="2854"/>
                </a:cubicBezTo>
                <a:cubicBezTo>
                  <a:pt x="1346" y="2870"/>
                  <a:pt x="1870" y="2745"/>
                  <a:pt x="2200" y="2440"/>
                </a:cubicBezTo>
                <a:cubicBezTo>
                  <a:pt x="2530" y="2135"/>
                  <a:pt x="2634" y="1715"/>
                  <a:pt x="2666" y="1469"/>
                </a:cubicBezTo>
                <a:cubicBezTo>
                  <a:pt x="2698" y="1223"/>
                  <a:pt x="2575" y="827"/>
                  <a:pt x="2466" y="583"/>
                </a:cubicBezTo>
                <a:cubicBezTo>
                  <a:pt x="2357" y="339"/>
                  <a:pt x="2258" y="175"/>
                  <a:pt x="2077" y="0"/>
                </a:cubicBezTo>
                <a:cubicBezTo>
                  <a:pt x="1410" y="553"/>
                  <a:pt x="744" y="1107"/>
                  <a:pt x="744" y="1107"/>
                </a:cubicBezTo>
                <a:close/>
              </a:path>
            </a:pathLst>
          </a:cu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rot="2467200">
            <a:off x="2811600" y="1437840"/>
            <a:ext cx="2833200" cy="518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rot="2428200">
            <a:off x="2874960" y="1931760"/>
            <a:ext cx="1506600" cy="27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52920" y="2020320"/>
            <a:ext cx="2873160" cy="896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5520" y="2923920"/>
            <a:ext cx="3201840" cy="662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8240" y="2925000"/>
            <a:ext cx="2171520" cy="21747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61560" y="2932560"/>
            <a:ext cx="123840" cy="28980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52720" y="2236680"/>
            <a:ext cx="1527120" cy="1208160"/>
            <a:chOff x="2052720" y="2236680"/>
            <a:chExt cx="1527120" cy="1208160"/>
          </a:xfrm>
        </p:grpSpPr>
        <p:sp>
          <p:nvSpPr>
            <p:cNvPr id="168" name=""/>
            <p:cNvSpPr/>
            <p:nvPr/>
          </p:nvSpPr>
          <p:spPr>
            <a:xfrm>
              <a:off x="2055960" y="2236680"/>
              <a:ext cx="1520640" cy="120816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6633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2720" y="2725560"/>
              <a:ext cx="1527120" cy="255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20840" y="161136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481120" y="2801880"/>
            <a:ext cx="641520" cy="10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5221440" y="2944800"/>
            <a:ext cx="961920" cy="1009800"/>
            <a:chOff x="5221440" y="2944800"/>
            <a:chExt cx="961920" cy="100980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313600" y="3735360"/>
              <a:ext cx="79056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221440" y="2944800"/>
              <a:ext cx="96192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221440" y="2944800"/>
              <a:ext cx="955800" cy="9320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99920" y="3622320"/>
              <a:ext cx="752400" cy="321840"/>
              <a:chOff x="5299920" y="3622320"/>
              <a:chExt cx="752400" cy="32184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422320" y="3665880"/>
                <a:ext cx="630000" cy="254520"/>
                <a:chOff x="5422320" y="3665880"/>
                <a:chExt cx="630000" cy="2545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flipV="1" rot="4217400">
                  <a:off x="5766480" y="3566160"/>
                  <a:ext cx="10800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 rot="5032800">
                  <a:off x="5694480" y="358884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 rot="5328600">
                  <a:off x="5650560" y="359208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 rot="5860800">
                  <a:off x="5599440" y="359316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299920" y="3622320"/>
                <a:ext cx="616320" cy="321840"/>
                <a:chOff x="5299920" y="3622320"/>
                <a:chExt cx="616320" cy="3218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flipV="1" rot="5570400">
                  <a:off x="5632920" y="3595320"/>
                  <a:ext cx="10836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6385800">
                  <a:off x="5558400" y="35892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6681600">
                  <a:off x="5516640" y="357552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7213800">
                  <a:off x="5467680" y="3556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5319720" y="2963880"/>
              <a:ext cx="750960" cy="3240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292720" y="32670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0920" y="227808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68600" y="297648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86280" y="3641760"/>
            <a:ext cx="163980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010040"/>
            <a:ext cx="164016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73840" y="177948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5040" y="319104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19880" y="478296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603720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184720" y="1662120"/>
            <a:ext cx="723960" cy="758520"/>
            <a:chOff x="5184720" y="1662120"/>
            <a:chExt cx="723960" cy="75852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5253840" y="2256120"/>
              <a:ext cx="59472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5184720" y="1662120"/>
              <a:ext cx="723960" cy="6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184720" y="1662120"/>
              <a:ext cx="719280" cy="70020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243400" y="2171160"/>
              <a:ext cx="565920" cy="242280"/>
              <a:chOff x="5243400" y="2171160"/>
              <a:chExt cx="565920" cy="242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5335200" y="2203920"/>
                <a:ext cx="474120" cy="191160"/>
                <a:chOff x="5335200" y="2203920"/>
                <a:chExt cx="474120" cy="191160"/>
              </a:xfrm>
            </p:grpSpPr>
            <p:sp>
              <p:nvSpPr>
                <p:cNvPr id="203" name=""/>
                <p:cNvSpPr/>
                <p:nvPr/>
              </p:nvSpPr>
              <p:spPr>
                <a:xfrm flipH="1" flipV="1" rot="4217400">
                  <a:off x="5594040" y="2128680"/>
                  <a:ext cx="81360" cy="3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 rot="5032800">
                  <a:off x="5540760" y="214632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 rot="5328600">
                  <a:off x="5507640" y="21470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 rot="5860800">
                  <a:off x="5469120" y="2148840"/>
                  <a:ext cx="81360" cy="34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43400" y="2171160"/>
                <a:ext cx="464040" cy="242280"/>
                <a:chOff x="5243400" y="2171160"/>
                <a:chExt cx="464040" cy="24228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 rot="5570400">
                  <a:off x="5493960" y="215100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 rot="6385800">
                  <a:off x="5437440" y="21452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 rot="6681600">
                  <a:off x="5406840" y="213516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 rot="7213800">
                  <a:off x="5370480" y="212148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5258520" y="1676160"/>
              <a:ext cx="565200" cy="2433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162400" y="1839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62400" y="4384800"/>
            <a:ext cx="1193400" cy="1253520"/>
            <a:chOff x="4262400" y="4384800"/>
            <a:chExt cx="1193400" cy="1253520"/>
          </a:xfrm>
        </p:grpSpPr>
        <p:pic>
          <p:nvPicPr>
            <p:cNvPr id="215" name="" descr=""/>
            <p:cNvPicPr/>
            <p:nvPr/>
          </p:nvPicPr>
          <p:blipFill>
            <a:blip r:embed="rId7"/>
            <a:stretch/>
          </p:blipFill>
          <p:spPr>
            <a:xfrm>
              <a:off x="4376520" y="5366160"/>
              <a:ext cx="98100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8"/>
            <a:stretch/>
          </p:blipFill>
          <p:spPr>
            <a:xfrm>
              <a:off x="4262400" y="4384800"/>
              <a:ext cx="1193400" cy="11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62400" y="4384800"/>
              <a:ext cx="1185840" cy="115704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359240" y="5225400"/>
              <a:ext cx="934200" cy="398880"/>
              <a:chOff x="4359240" y="5225400"/>
              <a:chExt cx="934200" cy="3988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511160" y="5280840"/>
                <a:ext cx="782280" cy="315000"/>
                <a:chOff x="4511160" y="5280840"/>
                <a:chExt cx="782280" cy="315000"/>
              </a:xfrm>
            </p:grpSpPr>
            <p:sp>
              <p:nvSpPr>
                <p:cNvPr id="220" name=""/>
                <p:cNvSpPr/>
                <p:nvPr/>
              </p:nvSpPr>
              <p:spPr>
                <a:xfrm flipH="1" flipV="1" rot="4217400">
                  <a:off x="4938840" y="515700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flipV="1" rot="5032800">
                  <a:off x="4849920" y="518472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 rot="5328600">
                  <a:off x="4795560" y="518796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 rot="5860800">
                  <a:off x="4731120" y="518976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359240" y="5225400"/>
                <a:ext cx="765360" cy="398880"/>
                <a:chOff x="4359240" y="5225400"/>
                <a:chExt cx="765360" cy="398880"/>
              </a:xfrm>
            </p:grpSpPr>
            <p:sp>
              <p:nvSpPr>
                <p:cNvPr id="225" name=""/>
                <p:cNvSpPr/>
                <p:nvPr/>
              </p:nvSpPr>
              <p:spPr>
                <a:xfrm flipH="1" flipV="1" rot="5570400">
                  <a:off x="4773240" y="519372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 rot="6385800">
                  <a:off x="4678920" y="518436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 rot="6681600">
                  <a:off x="4628520" y="516744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flipV="1" rot="7213800">
                  <a:off x="4568040" y="514368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4384080" y="4408200"/>
              <a:ext cx="931680" cy="402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395960" y="4767120"/>
            <a:ext cx="9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400480" y="5103720"/>
            <a:ext cx="892080" cy="936360"/>
            <a:chOff x="2400480" y="5103720"/>
            <a:chExt cx="892080" cy="936360"/>
          </a:xfrm>
        </p:grpSpPr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2485800" y="5837040"/>
              <a:ext cx="73296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0"/>
            <a:stretch/>
          </p:blipFill>
          <p:spPr>
            <a:xfrm>
              <a:off x="2400480" y="5103720"/>
              <a:ext cx="89208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400480" y="5103720"/>
              <a:ext cx="886320" cy="86436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90196"/>
                  </a:srgbClr>
                </a:gs>
                <a:gs pos="50000">
                  <a:srgbClr val="ccff99">
                    <a:alpha val="55294"/>
                  </a:srgbClr>
                </a:gs>
                <a:gs pos="100000">
                  <a:srgbClr val="cccc0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472840" y="5731920"/>
              <a:ext cx="697320" cy="297720"/>
              <a:chOff x="2472840" y="5731920"/>
              <a:chExt cx="697320" cy="2977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2586240" y="5771880"/>
                <a:ext cx="583920" cy="236160"/>
                <a:chOff x="2586240" y="5771880"/>
                <a:chExt cx="583920" cy="236160"/>
              </a:xfrm>
            </p:grpSpPr>
            <p:sp>
              <p:nvSpPr>
                <p:cNvPr id="237" name=""/>
                <p:cNvSpPr/>
                <p:nvPr/>
              </p:nvSpPr>
              <p:spPr>
                <a:xfrm flipH="1" flipV="1" rot="4217400">
                  <a:off x="2905200" y="567972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5032800">
                  <a:off x="2838600" y="570060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5328600">
                  <a:off x="2798640" y="5703840"/>
                  <a:ext cx="10008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5860800">
                  <a:off x="2750400" y="5704560"/>
                  <a:ext cx="10008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472840" y="5731920"/>
                <a:ext cx="571320" cy="297720"/>
                <a:chOff x="2472840" y="5731920"/>
                <a:chExt cx="571320" cy="29772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 rot="5570400">
                  <a:off x="2781360" y="570780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6385800">
                  <a:off x="2711160" y="570132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6681600">
                  <a:off x="2673720" y="5688360"/>
                  <a:ext cx="10044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7213800">
                  <a:off x="2629080" y="567036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2491560" y="5121360"/>
              <a:ext cx="696240" cy="300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427120" y="5373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218280" y="1515960"/>
            <a:ext cx="1187280" cy="876240"/>
            <a:chOff x="6218280" y="1515960"/>
            <a:chExt cx="1187280" cy="876240"/>
          </a:xfrm>
        </p:grpSpPr>
        <p:sp>
          <p:nvSpPr>
            <p:cNvPr id="250" name=""/>
            <p:cNvSpPr/>
            <p:nvPr/>
          </p:nvSpPr>
          <p:spPr>
            <a:xfrm>
              <a:off x="6218280" y="1515960"/>
              <a:ext cx="1187280" cy="876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a0d35d"/>
                </a:gs>
                <a:gs pos="50000">
                  <a:srgbClr val="4b632b"/>
                </a:gs>
                <a:gs pos="100000">
                  <a:srgbClr val="a0d3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18280" y="1869120"/>
              <a:ext cx="1187280" cy="183600"/>
            </a:xfrm>
            <a:prstGeom prst="ellipse">
              <a:avLst/>
            </a:prstGeom>
            <a:gradFill rotWithShape="0">
              <a:gsLst>
                <a:gs pos="0">
                  <a:srgbClr val="a0d35d"/>
                </a:gs>
                <a:gs pos="100000">
                  <a:srgbClr val="b8dd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426360" y="2054160"/>
            <a:ext cx="7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478560" y="2400480"/>
            <a:ext cx="668520" cy="12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3125400">
            <a:off x="6306480" y="2160000"/>
            <a:ext cx="96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13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718000">
            <a:off x="5594040" y="1707480"/>
            <a:ext cx="98280" cy="157788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7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246480" y="1936800"/>
            <a:ext cx="1815840" cy="1452240"/>
            <a:chOff x="3246480" y="1936800"/>
            <a:chExt cx="1815840" cy="1452240"/>
          </a:xfrm>
        </p:grpSpPr>
        <p:sp>
          <p:nvSpPr>
            <p:cNvPr id="258" name=""/>
            <p:cNvSpPr/>
            <p:nvPr/>
          </p:nvSpPr>
          <p:spPr>
            <a:xfrm>
              <a:off x="3246480" y="1936800"/>
              <a:ext cx="1815840" cy="145224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a0d35d"/>
                </a:gs>
                <a:gs pos="50000">
                  <a:srgbClr val="4b632b"/>
                </a:gs>
                <a:gs pos="100000">
                  <a:srgbClr val="a0d3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6480" y="2522160"/>
              <a:ext cx="1815840" cy="304560"/>
            </a:xfrm>
            <a:prstGeom prst="ellipse">
              <a:avLst/>
            </a:prstGeom>
            <a:gradFill rotWithShape="0">
              <a:gsLst>
                <a:gs pos="0">
                  <a:srgbClr val="a0d35d"/>
                </a:gs>
                <a:gs pos="100000">
                  <a:srgbClr val="b8dd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591000" y="29005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649680" y="3441600"/>
            <a:ext cx="1012680" cy="206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3124800">
            <a:off x="3430800" y="3086640"/>
            <a:ext cx="177840" cy="42840"/>
          </a:xfrm>
          <a:prstGeom prst="ellipse">
            <a:avLst/>
          </a:prstGeom>
          <a:gradFill rotWithShape="0">
            <a:gsLst>
              <a:gs pos="0">
                <a:srgbClr val="151e26"/>
              </a:gs>
              <a:gs pos="50000">
                <a:srgbClr val="6e99c0"/>
              </a:gs>
              <a:gs pos="100000">
                <a:srgbClr val="151e26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3004400">
            <a:off x="2639520" y="2840760"/>
            <a:ext cx="327240" cy="237996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6e8a"/>
              </a:gs>
              <a:gs pos="50000">
                <a:srgbClr val="6e99c0"/>
              </a:gs>
              <a:gs pos="100000">
                <a:srgbClr val="4f6e8a"/>
              </a:gs>
            </a:gsLst>
            <a:lin ang="193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76160" y="3965400"/>
            <a:ext cx="2628720" cy="2092320"/>
            <a:chOff x="776160" y="3965400"/>
            <a:chExt cx="2628720" cy="2092320"/>
          </a:xfrm>
        </p:grpSpPr>
        <p:sp>
          <p:nvSpPr>
            <p:cNvPr id="265" name=""/>
            <p:cNvSpPr/>
            <p:nvPr/>
          </p:nvSpPr>
          <p:spPr>
            <a:xfrm>
              <a:off x="776160" y="3965400"/>
              <a:ext cx="2628720" cy="2092320"/>
            </a:xfrm>
            <a:prstGeom prst="blockArc">
              <a:avLst>
                <a:gd name="adj1" fmla="val 0"/>
                <a:gd name="adj2" fmla="val 10800000"/>
                <a:gd name="adj3" fmla="val 47065"/>
              </a:avLst>
            </a:prstGeom>
            <a:gradFill rotWithShape="0">
              <a:gsLst>
                <a:gs pos="0">
                  <a:srgbClr val="a0d35d"/>
                </a:gs>
                <a:gs pos="50000">
                  <a:srgbClr val="4b632b"/>
                </a:gs>
                <a:gs pos="100000">
                  <a:srgbClr val="a0d3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6160" y="4808520"/>
              <a:ext cx="2628720" cy="438480"/>
            </a:xfrm>
            <a:prstGeom prst="ellipse">
              <a:avLst/>
            </a:prstGeom>
            <a:gradFill rotWithShape="0">
              <a:gsLst>
                <a:gs pos="0">
                  <a:srgbClr val="a0d35d"/>
                </a:gs>
                <a:gs pos="100000">
                  <a:srgbClr val="cbe6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265400" y="536904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374920" y="414036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325520" y="61452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381720" y="2646360"/>
            <a:ext cx="251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83160" y="2743200"/>
            <a:ext cx="0" cy="809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8480" y="2446200"/>
            <a:ext cx="0" cy="90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2430360"/>
            <a:ext cx="2217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a0ba"/>
                </a:solidFill>
                <a:latin typeface="Arial"/>
                <a:ea typeface="宋体"/>
              </a:rPr>
              <a:t>pptcn</a:t>
            </a:r>
            <a:r>
              <a:rPr b="1" lang="en-US" sz="1400" spc="-1" strike="noStrike">
                <a:solidFill>
                  <a:srgbClr val="a0d35d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8520" y="5079960"/>
            <a:ext cx="0" cy="72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24120" y="5043600"/>
            <a:ext cx="3332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a0ba"/>
                </a:solidFill>
                <a:latin typeface="Arial"/>
                <a:ea typeface="宋体"/>
              </a:rPr>
              <a:t>pptcn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429560" y="3489120"/>
            <a:ext cx="1393920" cy="1633680"/>
            <a:chOff x="1429560" y="3489120"/>
            <a:chExt cx="1393920" cy="1633680"/>
          </a:xfrm>
        </p:grpSpPr>
        <p:sp>
          <p:nvSpPr>
            <p:cNvPr id="277" name=""/>
            <p:cNvSpPr/>
            <p:nvPr/>
          </p:nvSpPr>
          <p:spPr>
            <a:xfrm rot="291600">
              <a:off x="2015640" y="3502440"/>
              <a:ext cx="331920" cy="324000"/>
            </a:xfrm>
            <a:prstGeom prst="ellipse">
              <a:avLst/>
            </a:prstGeom>
            <a:solidFill>
              <a:srgbClr val="fee3a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91600">
              <a:off x="1491840" y="3547080"/>
              <a:ext cx="126936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767760" y="1776240"/>
            <a:ext cx="784080" cy="917640"/>
            <a:chOff x="3767760" y="1776240"/>
            <a:chExt cx="784080" cy="917640"/>
          </a:xfrm>
        </p:grpSpPr>
        <p:sp>
          <p:nvSpPr>
            <p:cNvPr id="280" name=""/>
            <p:cNvSpPr/>
            <p:nvPr/>
          </p:nvSpPr>
          <p:spPr>
            <a:xfrm rot="291600">
              <a:off x="4096800" y="1783800"/>
              <a:ext cx="186840" cy="1818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91600">
              <a:off x="3802320" y="18086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996840" y="41544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ebd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618960" y="1482480"/>
            <a:ext cx="412560" cy="476640"/>
            <a:chOff x="6618960" y="1482480"/>
            <a:chExt cx="412560" cy="476640"/>
          </a:xfrm>
        </p:grpSpPr>
        <p:sp>
          <p:nvSpPr>
            <p:cNvPr id="284" name=""/>
            <p:cNvSpPr/>
            <p:nvPr/>
          </p:nvSpPr>
          <p:spPr>
            <a:xfrm rot="363600">
              <a:off x="6796800" y="1488240"/>
              <a:ext cx="96120" cy="93600"/>
            </a:xfrm>
            <a:prstGeom prst="ellipse">
              <a:avLst/>
            </a:prstGeom>
            <a:solidFill>
              <a:srgbClr val="cc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363600">
              <a:off x="6640920" y="1500480"/>
              <a:ext cx="368280" cy="4402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436920" y="2097000"/>
            <a:ext cx="1463400" cy="379080"/>
            <a:chOff x="3436920" y="2097000"/>
            <a:chExt cx="1463400" cy="379080"/>
          </a:xfrm>
        </p:grpSpPr>
        <p:sp>
          <p:nvSpPr>
            <p:cNvPr id="287" name=""/>
            <p:cNvSpPr/>
            <p:nvPr/>
          </p:nvSpPr>
          <p:spPr>
            <a:xfrm flipH="1">
              <a:off x="4350240" y="20970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6920" y="21067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43560" y="1641600"/>
            <a:ext cx="979560" cy="204480"/>
            <a:chOff x="6343560" y="1641600"/>
            <a:chExt cx="979560" cy="204480"/>
          </a:xfrm>
        </p:grpSpPr>
        <p:sp>
          <p:nvSpPr>
            <p:cNvPr id="290" name=""/>
            <p:cNvSpPr/>
            <p:nvPr/>
          </p:nvSpPr>
          <p:spPr>
            <a:xfrm flipH="1">
              <a:off x="6955200" y="164160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43560" y="164664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ebd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69840" y="2289240"/>
            <a:ext cx="1990800" cy="3303360"/>
          </a:xfrm>
          <a:prstGeom prst="bevel">
            <a:avLst>
              <a:gd name="adj" fmla="val 2551"/>
            </a:avLst>
          </a:prstGeom>
          <a:gradFill rotWithShape="0">
            <a:gsLst>
              <a:gs pos="0">
                <a:srgbClr val="20a0ba"/>
              </a:gs>
              <a:gs pos="100000">
                <a:srgbClr val="9cd4df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38320" y="2009880"/>
            <a:ext cx="1636560" cy="506160"/>
          </a:xfrm>
          <a:prstGeom prst="roundRect">
            <a:avLst>
              <a:gd name="adj" fmla="val 3197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2940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91000" y="2289240"/>
            <a:ext cx="1990800" cy="3303360"/>
          </a:xfrm>
          <a:prstGeom prst="bevel">
            <a:avLst>
              <a:gd name="adj" fmla="val 3032"/>
            </a:avLst>
          </a:prstGeom>
          <a:gradFill rotWithShape="0">
            <a:gsLst>
              <a:gs pos="0">
                <a:srgbClr val="dfc75f"/>
              </a:gs>
              <a:gs pos="100000">
                <a:srgbClr val="f0e5b8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57680" y="2009880"/>
            <a:ext cx="1638360" cy="506160"/>
          </a:xfrm>
          <a:prstGeom prst="roundRect">
            <a:avLst>
              <a:gd name="adj" fmla="val 36051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020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1800" y="2289240"/>
            <a:ext cx="1990800" cy="3303360"/>
          </a:xfrm>
          <a:prstGeom prst="bevel">
            <a:avLst>
              <a:gd name="adj" fmla="val 3588"/>
            </a:avLst>
          </a:prstGeom>
          <a:gradFill rotWithShape="0">
            <a:gsLst>
              <a:gs pos="0">
                <a:srgbClr val="a0d35d"/>
              </a:gs>
              <a:gs pos="100000">
                <a:srgbClr val="d4eab7"/>
              </a:gs>
            </a:gsLst>
            <a:lin ang="5400000"/>
          </a:gradFill>
          <a:ln w="0">
            <a:noFill/>
          </a:ln>
          <a:effectLst>
            <a:outerShdw dist="40186" dir="4303641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009880"/>
            <a:ext cx="1636560" cy="506160"/>
          </a:xfrm>
          <a:prstGeom prst="roundRect">
            <a:avLst>
              <a:gd name="adj" fmla="val 36051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8120" y="2087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20600" y="274464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01000" y="4573800"/>
            <a:ext cx="915480" cy="849240"/>
            <a:chOff x="7101000" y="4573800"/>
            <a:chExt cx="915480" cy="849240"/>
          </a:xfrm>
        </p:grpSpPr>
        <p:sp>
          <p:nvSpPr>
            <p:cNvPr id="303" name=""/>
            <p:cNvSpPr/>
            <p:nvPr/>
          </p:nvSpPr>
          <p:spPr>
            <a:xfrm rot="16200000">
              <a:off x="7097400" y="4949280"/>
              <a:ext cx="139320" cy="1321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7458480" y="5101200"/>
              <a:ext cx="197280" cy="1875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7317720" y="4780800"/>
              <a:ext cx="146880" cy="13968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7916040" y="51354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50360" y="5194440"/>
              <a:ext cx="27072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7422840" y="4901760"/>
              <a:ext cx="65160" cy="2199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210080" y="4895640"/>
              <a:ext cx="117000" cy="8640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7223040" y="457632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7600320" y="4704840"/>
              <a:ext cx="117720" cy="11196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459920" y="4784760"/>
              <a:ext cx="168840" cy="363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7269840" y="4668120"/>
              <a:ext cx="94320" cy="1090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7311240" y="532260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400880" y="5275440"/>
              <a:ext cx="87840" cy="874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82760" y="4789800"/>
              <a:ext cx="45360" cy="15984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7684200" y="492048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701480" y="4690440"/>
              <a:ext cx="44280" cy="3636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7753320" y="4610160"/>
              <a:ext cx="102960" cy="97920"/>
            </a:xfrm>
            <a:prstGeom prst="ellipse">
              <a:avLst/>
            </a:prstGeom>
            <a:solidFill>
              <a:srgbClr val="1c1c1c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618000" y="274788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73720" y="306216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5704"/>
                </a:solidFill>
                <a:latin typeface="Arial"/>
                <a:ea typeface="宋体"/>
              </a:rPr>
              <a:t>pptc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065400" y="360360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60880" y="3603600"/>
            <a:ext cx="2174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08520" y="360360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903280" y="3603600"/>
            <a:ext cx="21564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01640" y="1434960"/>
            <a:ext cx="5838840" cy="501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b3553"/>
              </a:gs>
              <a:gs pos="100000">
                <a:srgbClr val="5f73b5"/>
              </a:gs>
            </a:gsLst>
            <a:lin ang="54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3440" y="2873520"/>
            <a:ext cx="7740360" cy="61884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92280" y="2873520"/>
            <a:ext cx="2053440" cy="618480"/>
            <a:chOff x="692280" y="2873520"/>
            <a:chExt cx="2053440" cy="618480"/>
          </a:xfrm>
        </p:grpSpPr>
        <p:sp>
          <p:nvSpPr>
            <p:cNvPr id="330" name=""/>
            <p:cNvSpPr/>
            <p:nvPr/>
          </p:nvSpPr>
          <p:spPr>
            <a:xfrm>
              <a:off x="692280" y="2873520"/>
              <a:ext cx="1915920" cy="618480"/>
            </a:xfrm>
            <a:prstGeom prst="rect">
              <a:avLst/>
            </a:prstGeom>
            <a:solidFill>
              <a:srgbClr val="df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2506320" y="308844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dfc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606760" y="3005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4240" y="2979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7816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dfc75f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5760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07120" y="3040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dfc75f"/>
              </a:gs>
              <a:gs pos="100000">
                <a:srgbClr val="d7d7c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45160" y="300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2892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88920" y="3622680"/>
            <a:ext cx="1114560" cy="1114560"/>
          </a:xfrm>
          <a:prstGeom prst="diamond">
            <a:avLst/>
          </a:prstGeom>
          <a:solidFill>
            <a:srgbClr val="dfc7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70360" y="3622680"/>
            <a:ext cx="111420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60800" y="3622680"/>
            <a:ext cx="111456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04080" y="3622680"/>
            <a:ext cx="1114560" cy="1114560"/>
          </a:xfrm>
          <a:prstGeom prst="diamond">
            <a:avLst/>
          </a:prstGeom>
          <a:solidFill>
            <a:srgbClr val="cbc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9" idx="3"/>
            <a:endCxn id="340" idx="1"/>
          </p:cNvCxnSpPr>
          <p:nvPr/>
        </p:nvCxnSpPr>
        <p:spPr>
          <a:xfrm>
            <a:off x="2103480" y="41796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44" name=""/>
          <p:cNvCxnSpPr>
            <a:stCxn id="340" idx="3"/>
            <a:endCxn id="341" idx="1"/>
          </p:cNvCxnSpPr>
          <p:nvPr/>
        </p:nvCxnSpPr>
        <p:spPr>
          <a:xfrm>
            <a:off x="4084560" y="4179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345" name=""/>
          <p:cNvCxnSpPr>
            <a:stCxn id="341" idx="3"/>
            <a:endCxn id="342" idx="1"/>
          </p:cNvCxnSpPr>
          <p:nvPr/>
        </p:nvCxnSpPr>
        <p:spPr>
          <a:xfrm>
            <a:off x="6075360" y="4179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346" name=""/>
          <p:cNvSpPr/>
          <p:nvPr/>
        </p:nvSpPr>
        <p:spPr>
          <a:xfrm>
            <a:off x="109224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5928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51520" y="3948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21440" y="3948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5120" y="48276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7804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9260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40560" y="48276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17600" y="217980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ptcn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8320" y="42480"/>
            <a:ext cx="83358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3D Pie Cha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33840" y="3198960"/>
            <a:ext cx="3582720" cy="1566720"/>
          </a:xfrm>
          <a:prstGeom prst="rightArrow">
            <a:avLst>
              <a:gd name="adj1" fmla="val 61093"/>
              <a:gd name="adj2" fmla="val 42051"/>
            </a:avLst>
          </a:prstGeom>
          <a:gradFill rotWithShape="0">
            <a:gsLst>
              <a:gs pos="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27200" y="3467160"/>
            <a:ext cx="3648240" cy="1006560"/>
          </a:xfrm>
          <a:prstGeom prst="rightArrow">
            <a:avLst>
              <a:gd name="adj1" fmla="val 53880"/>
              <a:gd name="adj2" fmla="val 43645"/>
            </a:avLst>
          </a:prstGeom>
          <a:solidFill>
            <a:srgbClr val="202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49160" y="4903920"/>
            <a:ext cx="1967040" cy="388800"/>
            <a:chOff x="749160" y="4903920"/>
            <a:chExt cx="1967040" cy="388800"/>
          </a:xfrm>
        </p:grpSpPr>
        <p:grpSp>
          <p:nvGrpSpPr>
            <p:cNvPr id="360" name=""/>
            <p:cNvGrpSpPr/>
            <p:nvPr/>
          </p:nvGrpSpPr>
          <p:grpSpPr>
            <a:xfrm>
              <a:off x="749160" y="4903920"/>
              <a:ext cx="1965600" cy="388800"/>
              <a:chOff x="749160" y="4903920"/>
              <a:chExt cx="1965600" cy="388800"/>
            </a:xfrm>
          </p:grpSpPr>
          <p:sp>
            <p:nvSpPr>
              <p:cNvPr id="361" name=""/>
              <p:cNvSpPr/>
              <p:nvPr/>
            </p:nvSpPr>
            <p:spPr>
              <a:xfrm>
                <a:off x="749880" y="4933440"/>
                <a:ext cx="1964520" cy="359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9160" y="4903920"/>
                <a:ext cx="1965600" cy="359280"/>
              </a:xfrm>
              <a:prstGeom prst="ellipse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b6b6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58520" y="4903920"/>
              <a:ext cx="1957680" cy="351720"/>
            </a:xfrm>
            <a:prstGeom prst="ellipse">
              <a:avLst/>
            </a:prstGeom>
            <a:gradFill rotWithShape="0">
              <a:gsLst>
                <a:gs pos="0">
                  <a:srgbClr val="727272"/>
                </a:gs>
                <a:gs pos="50000">
                  <a:srgbClr val="c0c0c0"/>
                </a:gs>
                <a:gs pos="100000">
                  <a:srgbClr val="7272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479600" y="4792680"/>
            <a:ext cx="476280" cy="309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d0d0d0"/>
              </a:gs>
            </a:gsLst>
            <a:lin ang="5400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4120" y="2990880"/>
            <a:ext cx="2119320" cy="18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5400000"/>
          </a:gra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8400" y="3009960"/>
            <a:ext cx="2035440" cy="1801800"/>
          </a:xfrm>
          <a:prstGeom prst="rect">
            <a:avLst/>
          </a:prstGeom>
          <a:gradFill rotWithShape="0">
            <a:gsLst>
              <a:gs pos="0">
                <a:srgbClr val="64a5bc">
                  <a:alpha val="99215"/>
                </a:srgbClr>
              </a:gs>
              <a:gs pos="100000">
                <a:srgbClr val="3c778c"/>
              </a:gs>
            </a:gsLst>
            <a:lin ang="135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6280" y="3211560"/>
            <a:ext cx="19047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18920" y="2832840"/>
            <a:ext cx="4400640" cy="206208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88200" y="1662120"/>
            <a:ext cx="2054160" cy="574560"/>
          </a:xfrm>
          <a:custGeom>
            <a:avLst/>
            <a:gdLst/>
            <a:ahLst/>
            <a:rect l="l" t="t" r="r" b="b"/>
            <a:pathLst>
              <a:path w="1532" h="347">
                <a:moveTo>
                  <a:pt x="17" y="347"/>
                </a:moveTo>
                <a:cubicBezTo>
                  <a:pt x="17" y="347"/>
                  <a:pt x="0" y="284"/>
                  <a:pt x="25" y="197"/>
                </a:cubicBezTo>
                <a:cubicBezTo>
                  <a:pt x="57" y="143"/>
                  <a:pt x="94" y="50"/>
                  <a:pt x="217" y="25"/>
                </a:cubicBezTo>
                <a:cubicBezTo>
                  <a:pt x="340" y="0"/>
                  <a:pt x="292" y="15"/>
                  <a:pt x="443" y="13"/>
                </a:cubicBezTo>
                <a:cubicBezTo>
                  <a:pt x="594" y="10"/>
                  <a:pt x="985" y="14"/>
                  <a:pt x="1127" y="14"/>
                </a:cubicBezTo>
                <a:cubicBezTo>
                  <a:pt x="1269" y="14"/>
                  <a:pt x="1206" y="2"/>
                  <a:pt x="1292" y="16"/>
                </a:cubicBezTo>
                <a:cubicBezTo>
                  <a:pt x="1380" y="30"/>
                  <a:pt x="1466" y="96"/>
                  <a:pt x="1520" y="216"/>
                </a:cubicBezTo>
                <a:cubicBezTo>
                  <a:pt x="1532" y="300"/>
                  <a:pt x="1527" y="346"/>
                  <a:pt x="1527" y="346"/>
                </a:cubicBezTo>
                <a:lnTo>
                  <a:pt x="17" y="347"/>
                </a:lnTo>
                <a:close/>
              </a:path>
            </a:pathLst>
          </a:custGeom>
          <a:solidFill>
            <a:srgbClr val="20296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68720" y="1793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86400" y="3075120"/>
            <a:ext cx="204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ptcn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398760" y="4159080"/>
            <a:ext cx="1922400" cy="1656000"/>
          </a:xfrm>
          <a:prstGeom prst="downArrowCallout">
            <a:avLst>
              <a:gd name="adj1" fmla="val 14824"/>
              <a:gd name="adj2" fmla="val 15725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ceaef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8760" y="2122560"/>
            <a:ext cx="1922400" cy="1682640"/>
          </a:xfrm>
          <a:prstGeom prst="downArrowCallout">
            <a:avLst>
              <a:gd name="adj1" fmla="val 14589"/>
              <a:gd name="adj2" fmla="val 15476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ceaef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81480" y="2502000"/>
            <a:ext cx="19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98760" y="5075280"/>
            <a:ext cx="194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4:19:34Z</dcterms:created>
  <dc:creator>杨光旭</dc:creator>
  <dc:description/>
  <dc:language>en-US</dc:language>
  <cp:lastModifiedBy>微软用户</cp:lastModifiedBy>
  <dcterms:modified xsi:type="dcterms:W3CDTF">2015-08-09T01:09:1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