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DEF-AE2D-483C-829C-BE7BB479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07A0-BE0A-43AE-8F9E-6235B3B4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ACF1-40E4-45CE-81F3-0CFA33C4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DF57-FCC1-4A4B-9D30-EDB24174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F36-91BC-425F-98F6-2FE8B259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6131-B935-4854-82F0-913B3F3E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D47-7934-442D-8B1E-7FDDC750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2158-C078-4FBD-B082-832B6308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C996-BE83-4D30-BCC3-D65903B1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804E-8310-483E-9CDC-482AB007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1CAE-9931-477B-9771-FD02256A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D43-48A3-425B-A345-2B6B8560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8E0D-19E8-406B-B148-81D5955635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F:\个人简历\1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52680" y="189000"/>
            <a:ext cx="600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公司员工办公彩色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F:\个人简历\1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52680" y="189000"/>
            <a:ext cx="600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公司员工办公彩色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F:\个人简历\1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F:\个人简历\1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84BE-1EF6-4D26-BF78-BC5E24F6CE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F:\个人简历\1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123</cp:lastModifiedBy>
  <dcterms:modified xsi:type="dcterms:W3CDTF">2015-08-09T01:09:05Z</dcterms:modified>
  <cp:revision>5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