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DC9-8A1B-4D21-85AD-15515C82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7DE8-6F01-42B9-9177-7D04B398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E50-C8E5-48E2-9B13-E5304941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0D4-0365-4C79-B21A-7FA1FADD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45F-E2E4-4C42-BBF9-184118F5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254-8B1D-43BC-AEA5-06988829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F47-71A7-4E9E-BC39-E3399E01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7F2-34A6-45EB-B7C8-1776662F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488-AAD8-4FB4-986E-153E96A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D24-B319-499B-8C22-B047FD9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3AB-651A-4A9D-BBB7-81E2F6F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D58-8CD9-4AB8-B640-C3B4A0F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E866-9546-4653-9669-3B9C40EAAD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05E-3B8B-4AF0-AAFB-D766A8FCCE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20920" y="1523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国外毛玻璃风格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景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0120" y="9144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06D-2965-4557-A1CE-1F4AFEE3D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陈莽昆</dc:creator>
  <dc:description/>
  <dc:language>en-US</dc:language>
  <cp:lastModifiedBy>Administrator</cp:lastModifiedBy>
  <dcterms:modified xsi:type="dcterms:W3CDTF">2015-08-10T01:18:46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