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E8F-44D8-46D2-A871-232A7EBE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BD5-3F39-48E0-AD4C-1F9448D1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74B-F47B-4967-899B-F821B30E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AB6-2DFC-401C-B20B-50BFA0B0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3FB-038E-4AB6-A60A-E392696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39E-5548-437B-BEC8-1CDCE169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741-B989-4D86-84E3-E825A1E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A29-5C1B-4E54-AC81-64B89B2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65A-4E3A-427F-A5FC-4FBE337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76C-5A47-43E7-8725-E8C7CE6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ED0-AF4B-48F5-A476-3B71C27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E7F-7F88-4680-862B-CA71A34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C54F-3BCF-4D7E-B1C2-597A1EACA82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梅奥国际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www.mayo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D9C-B83A-404B-8293-55B4B4E509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5720" y="178560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2ed"/>
                </a:solidFill>
                <a:latin typeface="Arial"/>
              </a:rPr>
              <a:t>Power Point </a:t>
            </a:r>
            <a:br>
              <a:rPr sz="43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536560" y="37530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6440" y="476280"/>
            <a:ext cx="72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医药医疗行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14280" y="785880"/>
            <a:ext cx="6715440" cy="5429160"/>
            <a:chOff x="1214280" y="785880"/>
            <a:chExt cx="6715440" cy="5429160"/>
          </a:xfrm>
        </p:grpSpPr>
        <p:sp>
          <p:nvSpPr>
            <p:cNvPr id="47" name=""/>
            <p:cNvSpPr/>
            <p:nvPr/>
          </p:nvSpPr>
          <p:spPr>
            <a:xfrm>
              <a:off x="1214280" y="166932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337d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15160" y="3086280"/>
              <a:ext cx="1903680" cy="3128760"/>
            </a:xfrm>
            <a:custGeom>
              <a:avLst/>
              <a:gdLst>
                <a:gd name="textAreaLeft" fmla="*/ 0 w 1903680"/>
                <a:gd name="textAreaRight" fmla="*/ 1904040 w 1903680"/>
                <a:gd name="textAreaTop" fmla="*/ 0 h 3128760"/>
                <a:gd name="textAreaBottom" fmla="*/ 3129120 h 31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32" y="5030"/>
                  </a:moveTo>
                  <a:arcTo wR="-10330" hR="-10330" stAng="-8762578" swAng="-14612933"/>
                  <a:lnTo>
                    <a:pt x="1409" y="16133"/>
                  </a:lnTo>
                  <a:arcTo wR="10800" hR="10800" stAng="9024489" swAng="14612933"/>
                  <a:lnTo>
                    <a:pt x="21998" y="18341"/>
                  </a:lnTo>
                  <a:lnTo>
                    <a:pt x="17924" y="19136"/>
                  </a:lnTo>
                  <a:lnTo>
                    <a:pt x="17129" y="15062"/>
                  </a:lnTo>
                  <a:close/>
                </a:path>
              </a:pathLst>
            </a:custGeom>
            <a:solidFill>
              <a:srgbClr val="46a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3548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337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5528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1864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4640" y="28756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03680" y="785880"/>
              <a:ext cx="2145960" cy="3526920"/>
            </a:xfrm>
            <a:custGeom>
              <a:avLst/>
              <a:gdLst>
                <a:gd name="textAreaLeft" fmla="*/ 0 w 2145960"/>
                <a:gd name="textAreaRight" fmla="*/ 2145960 w 2145960"/>
                <a:gd name="textAreaTop" fmla="*/ 0 h 3526920"/>
                <a:gd name="textAreaBottom" fmla="*/ 3527280 h 35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6" y="16522"/>
                  </a:moveTo>
                  <a:arcTo wR="-10383" hR="-10383" stAng="8793451" swAng="-7017940"/>
                  <a:lnTo>
                    <a:pt x="1409" y="5467"/>
                  </a:lnTo>
                  <a:arcTo wR="10800" hR="10800" stAng="-9024489" swAng="7017940"/>
                  <a:lnTo>
                    <a:pt x="22065" y="3360"/>
                  </a:lnTo>
                  <a:lnTo>
                    <a:pt x="21241" y="7390"/>
                  </a:lnTo>
                  <a:lnTo>
                    <a:pt x="17211" y="6566"/>
                  </a:lnTo>
                  <a:close/>
                </a:path>
              </a:pathLst>
            </a:custGeom>
            <a:solidFill>
              <a:srgbClr val="bcd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39840" y="17146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59640" y="17470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300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59000" y="23248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420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6400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43000" y="1643040"/>
            <a:ext cx="6095880" cy="3992760"/>
            <a:chOff x="1143000" y="1643040"/>
            <a:chExt cx="6095880" cy="3992760"/>
          </a:xfrm>
        </p:grpSpPr>
        <p:sp>
          <p:nvSpPr>
            <p:cNvPr id="62" name=""/>
            <p:cNvSpPr/>
            <p:nvPr/>
          </p:nvSpPr>
          <p:spPr>
            <a:xfrm>
              <a:off x="1682640" y="1856160"/>
              <a:ext cx="5231880" cy="344376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40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5000" y="1978920"/>
              <a:ext cx="5231880" cy="3443760"/>
            </a:xfrm>
            <a:prstGeom prst="pie">
              <a:avLst/>
            </a:pr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0600" y="4213440"/>
              <a:ext cx="2802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000" y="1856160"/>
              <a:ext cx="5231880" cy="3443760"/>
            </a:xfrm>
            <a:prstGeom prst="pie">
              <a:avLst/>
            </a:pr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73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36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4" y="6770"/>
                  </a:moveTo>
                  <a:arcTo wR="-9702" hR="-9702" stAng="-9327528" swAng="-6873040"/>
                  <a:lnTo>
                    <a:pt x="10798" y="0"/>
                  </a:lnTo>
                  <a:arcTo wR="10800" hR="10800" stAng="-5400569" swAng="6873040"/>
                  <a:lnTo>
                    <a:pt x="23080" y="16407"/>
                  </a:lnTo>
                  <a:lnTo>
                    <a:pt x="18775" y="18013"/>
                  </a:lnTo>
                  <a:lnTo>
                    <a:pt x="17169" y="13708"/>
                  </a:lnTo>
                  <a:close/>
                </a:path>
              </a:pathLst>
            </a:cu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1000" y="176580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702" y="5171"/>
                  </a:moveTo>
                  <a:arcTo wR="-9702" hR="-9702" stAng="-2128031" swAng="-6871468"/>
                  <a:lnTo>
                    <a:pt x="20152" y="16201"/>
                  </a:lnTo>
                  <a:arcTo wR="10800" hR="10800" stAng="1800502" swAng="6871468"/>
                  <a:lnTo>
                    <a:pt x="-195" y="18633"/>
                  </a:lnTo>
                  <a:lnTo>
                    <a:pt x="566" y="14102"/>
                  </a:lnTo>
                  <a:lnTo>
                    <a:pt x="5097" y="14863"/>
                  </a:lnTo>
                  <a:close/>
                </a:path>
              </a:pathLst>
            </a:cu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721" y="20458"/>
                  </a:moveTo>
                  <a:arcTo wR="-9702" hR="-9702" stAng="5073039" swAng="-6873039"/>
                  <a:lnTo>
                    <a:pt x="1447" y="16200"/>
                  </a:lnTo>
                  <a:arcTo wR="10800" hR="10800" stAng="9000000" swAng="6873039"/>
                  <a:lnTo>
                    <a:pt x="9518" y="-2639"/>
                  </a:lnTo>
                  <a:lnTo>
                    <a:pt x="13061" y="287"/>
                  </a:lnTo>
                  <a:lnTo>
                    <a:pt x="10135" y="3830"/>
                  </a:lnTo>
                  <a:close/>
                </a:path>
              </a:pathLst>
            </a:cu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C4B-F591-4D65-8FD2-A9E71E7D18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42760" y="2130120"/>
            <a:ext cx="58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ff2ed"/>
                </a:solidFill>
                <a:latin typeface="Arial"/>
              </a:rPr>
              <a:t>Thank You!</a:t>
            </a:r>
            <a:endParaRPr b="1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22400" y="36432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00Z</dcterms:created>
  <dc:creator>YlmF</dc:creator>
  <dc:description/>
  <dc:language>en-US</dc:language>
  <cp:lastModifiedBy>火韦</cp:lastModifiedBy>
  <dcterms:modified xsi:type="dcterms:W3CDTF">2015-08-09T01:09:28Z</dcterms:modified>
  <cp:revision>12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