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0E5-F623-4977-AFF1-0D8B83C4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F5A-A49A-4986-8DF2-FDAC61A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F2B-0260-4031-BBA2-8AB74EC0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7AD-25E7-44B5-B5C3-6DB1DA22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F898-C79C-4656-BF35-0376151B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C910-32C5-44ED-B4BA-62FD3570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2771-2214-4E84-90F1-E75DBBC9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EA86-C3FD-4877-84BD-A1B545AD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4C74-2DD8-4521-9CE4-D536A68C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E48E-7071-47D9-89D0-C1877727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B47F-7B22-447C-8319-B2CB589C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CCE-21AA-47B6-975B-8FFDD8D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48FE-0DDD-4E23-A52C-6C23F106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BF34-D8F5-4B1F-9AE2-67DACD3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F66D-5B8F-4B11-8DDB-E0FC5CD7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3714-816D-4150-B0E7-EE834859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866F-8A64-4524-B02C-44FCF289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9EF-1BB6-4A53-907E-12A2E853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DC6-8B7E-4D40-A9BD-0DF29889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F29-D0B4-4AEF-9A3C-71FC642B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8F7-121E-451C-83C6-FEE5ED1A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A1A-8F86-4BF5-B6A5-A118056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1D9-6016-4C56-AE90-66C97D22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84F-DD84-4075-A8E4-0B448B50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4262-5F4C-4196-9B66-4FFA3132FFF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E932-7AF1-4A8E-8A16-4512B5A286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28440" y="-17640"/>
            <a:ext cx="9208800" cy="704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242100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99650"/>
                </a:solidFill>
                <a:latin typeface="华康少女文字W5"/>
                <a:ea typeface="华康少女文字W5"/>
              </a:rPr>
              <a:t>工作生活休闲咖啡物语</a:t>
            </a:r>
            <a:r>
              <a:rPr b="1" lang="zh-CN" sz="4000" spc="-1" strike="noStrike">
                <a:solidFill>
                  <a:srgbClr val="d99650"/>
                </a:solidFill>
                <a:latin typeface="华康少女文字W5"/>
                <a:ea typeface="华康少女文字W5"/>
              </a:rPr>
              <a:t>ppt</a:t>
            </a:r>
            <a:r>
              <a:rPr b="1" lang="zh-CN" sz="4000" spc="-1" strike="noStrike">
                <a:solidFill>
                  <a:srgbClr val="d99650"/>
                </a:solidFill>
                <a:latin typeface="华康少女文字W5"/>
                <a:ea typeface="华康少女文字W5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28440" y="-17640"/>
            <a:ext cx="9353520" cy="70488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7000" y="-19080"/>
            <a:ext cx="9353520" cy="7048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60800" y="2203560"/>
            <a:ext cx="474480" cy="360360"/>
          </a:xfrm>
          <a:custGeom>
            <a:avLst/>
            <a:gdLst>
              <a:gd name="textAreaLeft" fmla="*/ 111240 w 474480"/>
              <a:gd name="textAreaRight" fmla="*/ 362880 w 47448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0720" y="278136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2014"/>
                </a:solidFill>
                <a:latin typeface="Arial"/>
                <a:ea typeface="华康海报体W12"/>
              </a:rPr>
              <a:t>完成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60800" y="2924280"/>
            <a:ext cx="474480" cy="360360"/>
          </a:xfrm>
          <a:custGeom>
            <a:avLst/>
            <a:gdLst>
              <a:gd name="textAreaLeft" fmla="*/ 111240 w 474480"/>
              <a:gd name="textAreaRight" fmla="*/ 362880 w 47448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60800" y="3645000"/>
            <a:ext cx="474480" cy="360360"/>
          </a:xfrm>
          <a:custGeom>
            <a:avLst/>
            <a:gdLst>
              <a:gd name="textAreaLeft" fmla="*/ 111240 w 474480"/>
              <a:gd name="textAreaRight" fmla="*/ 362880 w 47448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0720" y="198900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2014"/>
                </a:solidFill>
                <a:latin typeface="Arial"/>
                <a:ea typeface="华康海报体W12"/>
              </a:rPr>
              <a:t>接受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0720" y="35020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2014"/>
                </a:solidFill>
                <a:latin typeface="Arial"/>
                <a:ea typeface="华康海报体W12"/>
              </a:rPr>
              <a:t>享受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8440" y="-17640"/>
            <a:ext cx="9353520" cy="70488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8440" y="196920"/>
            <a:ext cx="9353520" cy="6472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13080" y="1917720"/>
            <a:ext cx="0" cy="2232000"/>
          </a:xfrm>
          <a:prstGeom prst="line">
            <a:avLst/>
          </a:prstGeom>
          <a:ln w="28440">
            <a:solidFill>
              <a:srgbClr val="382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0800" y="2492280"/>
            <a:ext cx="42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92735"/>
                </a:solidFill>
                <a:latin typeface="Arial"/>
                <a:ea typeface="华康海报体W12"/>
              </a:rPr>
              <a:t>享受工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28440" y="-17640"/>
            <a:ext cx="9353520" cy="70488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27000" y="237960"/>
            <a:ext cx="9353520" cy="6863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8560" y="620640"/>
            <a:ext cx="506412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92735"/>
                </a:solidFill>
                <a:latin typeface="华康少女文字W5(P)"/>
                <a:ea typeface="华康海报体W12"/>
              </a:rPr>
              <a:t>朝</a:t>
            </a: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九晚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如果工作只让你感觉辛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那生活将多么痛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和暗恋的同事一个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办公楼下有卖你爱吃的关东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老板请客  省下饭费二十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年终聚会  大家都在关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我偷练的舞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我不曾孤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这些卑微的小幸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是工作给我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额外眷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640-5C6E-4F51-ABD9-2C4F5F0304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28440" y="-17640"/>
            <a:ext cx="9353520" cy="70488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27000" y="193680"/>
            <a:ext cx="9425160" cy="6470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9240" y="1989000"/>
            <a:ext cx="863640" cy="503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ce5c4"/>
                </a:solidFill>
                <a:latin typeface="Segoe Print"/>
              </a:rPr>
              <a:t>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5-08-09T01:10:07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