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926-F9D0-4ACF-8239-D131001F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781-8AB6-48F6-8A60-F95E799C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D9F-1DA5-483F-94DA-7ADFAAE0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30B-1698-42E3-BFFD-ED383872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36F-9593-46F5-8CD0-95A97DDB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DF8-B011-4D61-BADF-03F1F331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209-F0AB-4942-9681-B5A05AAC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68C-1CF0-40D5-8CB2-A644197A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A97-2379-4E8B-9CF0-D79F69B8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9A16-E10A-410B-B60D-31CED07C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69A-1381-41DD-8901-F7E57BD9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F24-5C1B-47D7-9EC7-5B7AEAB5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536C-6DEF-4E87-B279-3B732A4850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86080" y="4338720"/>
            <a:ext cx="48578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护士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357720" y="483876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2720" y="44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护士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021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F29-8B8E-4F27-BC7E-68589B44F5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剪去同侧角的矩形 15"/>
          <p:cNvSpPr/>
          <p:nvPr/>
        </p:nvSpPr>
        <p:spPr>
          <a:xfrm rot="16200000">
            <a:off x="892800" y="2250000"/>
            <a:ext cx="4214880" cy="2428920"/>
          </a:xfrm>
          <a:custGeom>
            <a:avLst/>
            <a:gdLst/>
            <a:ahLst/>
            <a:rect l="l" t="t" r="r" b="b"/>
            <a:pathLst>
              <a:path w="4214812" h="2428875">
                <a:moveTo>
                  <a:pt x="1214438" y="0"/>
                </a:moveTo>
                <a:lnTo>
                  <a:pt x="3000375" y="0"/>
                </a:lnTo>
                <a:lnTo>
                  <a:pt x="4214812" y="1214438"/>
                </a:lnTo>
                <a:lnTo>
                  <a:pt x="4214812" y="2428875"/>
                </a:lnTo>
                <a:lnTo>
                  <a:pt x="4214812" y="2428875"/>
                </a:lnTo>
                <a:lnTo>
                  <a:pt x="0" y="2428875"/>
                </a:lnTo>
                <a:lnTo>
                  <a:pt x="0" y="2428875"/>
                </a:lnTo>
                <a:lnTo>
                  <a:pt x="0" y="1214438"/>
                </a:lnTo>
                <a:lnTo>
                  <a:pt x="1214438" y="0"/>
                </a:lnTo>
                <a:close/>
              </a:path>
            </a:pathLst>
          </a:cu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剪去同侧角的矩形 16"/>
          <p:cNvSpPr/>
          <p:nvPr/>
        </p:nvSpPr>
        <p:spPr>
          <a:xfrm flipH="1" flipV="1" rot="16200000">
            <a:off x="4321080" y="2250000"/>
            <a:ext cx="4214880" cy="2428920"/>
          </a:xfrm>
          <a:custGeom>
            <a:avLst/>
            <a:gdLst/>
            <a:ahLst/>
            <a:rect l="l" t="t" r="r" b="b"/>
            <a:pathLst>
              <a:path w="4214812" h="2428875">
                <a:moveTo>
                  <a:pt x="1214438" y="0"/>
                </a:moveTo>
                <a:lnTo>
                  <a:pt x="3000375" y="0"/>
                </a:lnTo>
                <a:lnTo>
                  <a:pt x="4214812" y="1214438"/>
                </a:lnTo>
                <a:lnTo>
                  <a:pt x="4214812" y="2428875"/>
                </a:lnTo>
                <a:lnTo>
                  <a:pt x="4214812" y="2428875"/>
                </a:lnTo>
                <a:lnTo>
                  <a:pt x="0" y="2428875"/>
                </a:lnTo>
                <a:lnTo>
                  <a:pt x="0" y="2428875"/>
                </a:lnTo>
                <a:lnTo>
                  <a:pt x="0" y="1214438"/>
                </a:lnTo>
                <a:lnTo>
                  <a:pt x="1214438" y="0"/>
                </a:lnTo>
                <a:close/>
              </a:path>
            </a:pathLst>
          </a:cu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右箭头 17"/>
          <p:cNvSpPr/>
          <p:nvPr/>
        </p:nvSpPr>
        <p:spPr>
          <a:xfrm>
            <a:off x="4429080" y="3071880"/>
            <a:ext cx="654120" cy="5713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"/>
          <p:cNvSpPr/>
          <p:nvPr/>
        </p:nvSpPr>
        <p:spPr>
          <a:xfrm>
            <a:off x="5926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24976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泪滴形 9"/>
          <p:cNvSpPr/>
          <p:nvPr/>
        </p:nvSpPr>
        <p:spPr>
          <a:xfrm>
            <a:off x="2500200" y="2685960"/>
            <a:ext cx="53352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0" y="266700"/>
                </a:moveTo>
                <a:cubicBezTo>
                  <a:pt x="0" y="119406"/>
                  <a:pt x="119406" y="0"/>
                  <a:pt x="266700" y="0"/>
                </a:cubicBezTo>
                <a:lnTo>
                  <a:pt x="533400" y="0"/>
                </a:lnTo>
                <a:lnTo>
                  <a:pt x="533400" y="266700"/>
                </a:lnTo>
                <a:cubicBezTo>
                  <a:pt x="533400" y="413994"/>
                  <a:pt x="413994" y="533400"/>
                  <a:pt x="266700" y="533400"/>
                </a:cubicBezTo>
                <a:cubicBezTo>
                  <a:pt x="119406" y="533400"/>
                  <a:pt x="0" y="413994"/>
                  <a:pt x="0" y="266700"/>
                </a:cubicBezTo>
                <a:close/>
              </a:path>
            </a:pathLst>
          </a:cu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泪滴形 10"/>
          <p:cNvSpPr/>
          <p:nvPr/>
        </p:nvSpPr>
        <p:spPr>
          <a:xfrm>
            <a:off x="2500200" y="3505320"/>
            <a:ext cx="533520" cy="53316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0" y="266700"/>
                </a:moveTo>
                <a:cubicBezTo>
                  <a:pt x="0" y="119406"/>
                  <a:pt x="119406" y="0"/>
                  <a:pt x="266700" y="0"/>
                </a:cubicBezTo>
                <a:lnTo>
                  <a:pt x="533400" y="0"/>
                </a:lnTo>
                <a:lnTo>
                  <a:pt x="533400" y="266700"/>
                </a:lnTo>
                <a:cubicBezTo>
                  <a:pt x="533400" y="413994"/>
                  <a:pt x="413994" y="533400"/>
                  <a:pt x="266700" y="533400"/>
                </a:cubicBezTo>
                <a:cubicBezTo>
                  <a:pt x="119406" y="533400"/>
                  <a:pt x="0" y="413994"/>
                  <a:pt x="0" y="266700"/>
                </a:cubicBezTo>
                <a:close/>
              </a:path>
            </a:pathLst>
          </a:cu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泪滴形 11"/>
          <p:cNvSpPr/>
          <p:nvPr/>
        </p:nvSpPr>
        <p:spPr>
          <a:xfrm>
            <a:off x="5396040" y="271944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0" y="266700"/>
                </a:moveTo>
                <a:cubicBezTo>
                  <a:pt x="0" y="119406"/>
                  <a:pt x="119406" y="0"/>
                  <a:pt x="266700" y="0"/>
                </a:cubicBezTo>
                <a:lnTo>
                  <a:pt x="533400" y="0"/>
                </a:lnTo>
                <a:lnTo>
                  <a:pt x="533400" y="266700"/>
                </a:lnTo>
                <a:cubicBezTo>
                  <a:pt x="533400" y="413994"/>
                  <a:pt x="413994" y="533400"/>
                  <a:pt x="266700" y="533400"/>
                </a:cubicBezTo>
                <a:cubicBezTo>
                  <a:pt x="119406" y="533400"/>
                  <a:pt x="0" y="413994"/>
                  <a:pt x="0" y="266700"/>
                </a:cubicBezTo>
                <a:close/>
              </a:path>
            </a:pathLst>
          </a:cu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泪滴形 12"/>
          <p:cNvSpPr/>
          <p:nvPr/>
        </p:nvSpPr>
        <p:spPr>
          <a:xfrm>
            <a:off x="5396040" y="353844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0" y="266700"/>
                </a:moveTo>
                <a:cubicBezTo>
                  <a:pt x="0" y="119406"/>
                  <a:pt x="119406" y="0"/>
                  <a:pt x="266700" y="0"/>
                </a:cubicBezTo>
                <a:lnTo>
                  <a:pt x="533400" y="0"/>
                </a:lnTo>
                <a:lnTo>
                  <a:pt x="533400" y="266700"/>
                </a:lnTo>
                <a:cubicBezTo>
                  <a:pt x="533400" y="413994"/>
                  <a:pt x="413994" y="533400"/>
                  <a:pt x="266700" y="533400"/>
                </a:cubicBezTo>
                <a:cubicBezTo>
                  <a:pt x="119406" y="533400"/>
                  <a:pt x="0" y="413994"/>
                  <a:pt x="0" y="266700"/>
                </a:cubicBezTo>
                <a:close/>
              </a:path>
            </a:pathLst>
          </a:cu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3285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3283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6213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621252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折角形 11"/>
          <p:cNvSpPr/>
          <p:nvPr/>
        </p:nvSpPr>
        <p:spPr>
          <a:xfrm>
            <a:off x="2857680" y="1500120"/>
            <a:ext cx="1963440" cy="1963800"/>
          </a:xfrm>
          <a:prstGeom prst="foldedCorner">
            <a:avLst>
              <a:gd name="adj" fmla="val 33828"/>
            </a:avLst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折角形 12"/>
          <p:cNvSpPr/>
          <p:nvPr/>
        </p:nvSpPr>
        <p:spPr>
          <a:xfrm flipH="1">
            <a:off x="4822200" y="1500120"/>
            <a:ext cx="1963800" cy="1963800"/>
          </a:xfrm>
          <a:prstGeom prst="foldedCorner">
            <a:avLst>
              <a:gd name="adj" fmla="val 33828"/>
            </a:avLst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折角形 13"/>
          <p:cNvSpPr/>
          <p:nvPr/>
        </p:nvSpPr>
        <p:spPr>
          <a:xfrm flipH="1" flipV="1">
            <a:off x="4822200" y="3464640"/>
            <a:ext cx="1963800" cy="1963800"/>
          </a:xfrm>
          <a:prstGeom prst="foldedCorner">
            <a:avLst>
              <a:gd name="adj" fmla="val 33828"/>
            </a:avLst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折角形 14"/>
          <p:cNvSpPr/>
          <p:nvPr/>
        </p:nvSpPr>
        <p:spPr>
          <a:xfrm flipV="1">
            <a:off x="2857680" y="3464640"/>
            <a:ext cx="1963440" cy="1963800"/>
          </a:xfrm>
          <a:prstGeom prst="foldedCorner">
            <a:avLst>
              <a:gd name="adj" fmla="val 33828"/>
            </a:avLst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3283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5497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58550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5"/>
          <p:cNvSpPr/>
          <p:nvPr/>
        </p:nvSpPr>
        <p:spPr>
          <a:xfrm>
            <a:off x="3211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流程图: 离页连接符 10"/>
          <p:cNvSpPr/>
          <p:nvPr/>
        </p:nvSpPr>
        <p:spPr>
          <a:xfrm>
            <a:off x="5429160" y="3214800"/>
            <a:ext cx="1357560" cy="1643040"/>
          </a:xfrm>
          <a:prstGeom prst="flowChartOffpageConnector">
            <a:avLst/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流程图: 离页连接符 12"/>
          <p:cNvSpPr/>
          <p:nvPr/>
        </p:nvSpPr>
        <p:spPr>
          <a:xfrm>
            <a:off x="4000680" y="3214800"/>
            <a:ext cx="1357200" cy="1643040"/>
          </a:xfrm>
          <a:prstGeom prst="flowChartOffpageConnector">
            <a:avLst/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流程图: 离页连接符 13"/>
          <p:cNvSpPr/>
          <p:nvPr/>
        </p:nvSpPr>
        <p:spPr>
          <a:xfrm flipV="1">
            <a:off x="5429160" y="1571760"/>
            <a:ext cx="1357560" cy="1643040"/>
          </a:xfrm>
          <a:prstGeom prst="flowChartOffpageConnector">
            <a:avLst/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流程图: 离页连接符 14"/>
          <p:cNvSpPr/>
          <p:nvPr/>
        </p:nvSpPr>
        <p:spPr>
          <a:xfrm>
            <a:off x="2571840" y="3214800"/>
            <a:ext cx="1357200" cy="1643040"/>
          </a:xfrm>
          <a:prstGeom prst="flowChartOffpageConnector">
            <a:avLst/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流程图: 离页连接符 15"/>
          <p:cNvSpPr/>
          <p:nvPr/>
        </p:nvSpPr>
        <p:spPr>
          <a:xfrm flipV="1">
            <a:off x="4000680" y="1571760"/>
            <a:ext cx="1357200" cy="1643040"/>
          </a:xfrm>
          <a:prstGeom prst="flowChartOffpageConnector">
            <a:avLst/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流程图: 离页连接符 17"/>
          <p:cNvSpPr/>
          <p:nvPr/>
        </p:nvSpPr>
        <p:spPr>
          <a:xfrm flipV="1">
            <a:off x="2571840" y="1571760"/>
            <a:ext cx="1357200" cy="1643040"/>
          </a:xfrm>
          <a:prstGeom prst="flowChartOffpageConnector">
            <a:avLst/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3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4"/>
          <p:cNvSpPr/>
          <p:nvPr/>
        </p:nvSpPr>
        <p:spPr>
          <a:xfrm>
            <a:off x="4212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燕尾形箭头 10"/>
          <p:cNvSpPr/>
          <p:nvPr/>
        </p:nvSpPr>
        <p:spPr>
          <a:xfrm>
            <a:off x="3357720" y="785880"/>
            <a:ext cx="2712960" cy="1342800"/>
          </a:xfrm>
          <a:custGeom>
            <a:avLst/>
            <a:gdLst>
              <a:gd name="textAreaLeft" fmla="*/ 524160 w 2712960"/>
              <a:gd name="textAreaRight" fmla="*/ 2188800 w 2712960"/>
              <a:gd name="textAreaTop" fmla="*/ 534600 h 1342800"/>
              <a:gd name="textAreaBottom" fmla="*/ 808200 h 1342800"/>
            </a:gdLst>
            <a:ahLst/>
            <a:rect l="textAreaLeft" t="textAreaTop" r="textAreaRight" b="textAreaBottom"/>
            <a:pathLst>
              <a:path w="21600" h="21600">
                <a:moveTo>
                  <a:pt x="0" y="8601"/>
                </a:moveTo>
                <a:lnTo>
                  <a:pt x="1094" y="8601"/>
                </a:lnTo>
                <a:lnTo>
                  <a:pt x="1094" y="0"/>
                </a:lnTo>
                <a:lnTo>
                  <a:pt x="21600" y="10800"/>
                </a:lnTo>
                <a:lnTo>
                  <a:pt x="1094" y="21600"/>
                </a:lnTo>
                <a:lnTo>
                  <a:pt x="1094" y="12999"/>
                </a:lnTo>
                <a:lnTo>
                  <a:pt x="0" y="12999"/>
                </a:lnTo>
                <a:lnTo>
                  <a:pt x="4175" y="10800"/>
                </a:lnTo>
                <a:lnTo>
                  <a:pt x="0" y="8601"/>
                </a:lnTo>
                <a:close/>
              </a:path>
            </a:pathLst>
          </a:cu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燕尾形箭头 11"/>
          <p:cNvSpPr/>
          <p:nvPr/>
        </p:nvSpPr>
        <p:spPr>
          <a:xfrm flipH="1">
            <a:off x="3499560" y="1585800"/>
            <a:ext cx="2713320" cy="1343160"/>
          </a:xfrm>
          <a:custGeom>
            <a:avLst/>
            <a:gdLst>
              <a:gd name="textAreaLeft" fmla="*/ 524520 w 2713320"/>
              <a:gd name="textAreaRight" fmla="*/ 2188800 w 2713320"/>
              <a:gd name="textAreaTop" fmla="*/ 534960 h 1343160"/>
              <a:gd name="textAreaBottom" fmla="*/ 80820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8601"/>
                </a:moveTo>
                <a:lnTo>
                  <a:pt x="1094" y="8601"/>
                </a:lnTo>
                <a:lnTo>
                  <a:pt x="1094" y="0"/>
                </a:lnTo>
                <a:lnTo>
                  <a:pt x="21600" y="10800"/>
                </a:lnTo>
                <a:lnTo>
                  <a:pt x="1094" y="21600"/>
                </a:lnTo>
                <a:lnTo>
                  <a:pt x="1094" y="12999"/>
                </a:lnTo>
                <a:lnTo>
                  <a:pt x="0" y="12999"/>
                </a:lnTo>
                <a:lnTo>
                  <a:pt x="4175" y="10800"/>
                </a:lnTo>
                <a:lnTo>
                  <a:pt x="0" y="8601"/>
                </a:lnTo>
                <a:close/>
              </a:path>
            </a:pathLst>
          </a:cu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箭头 12"/>
          <p:cNvSpPr/>
          <p:nvPr/>
        </p:nvSpPr>
        <p:spPr>
          <a:xfrm>
            <a:off x="3357720" y="2371680"/>
            <a:ext cx="2712960" cy="1343160"/>
          </a:xfrm>
          <a:custGeom>
            <a:avLst/>
            <a:gdLst>
              <a:gd name="textAreaLeft" fmla="*/ 524160 w 2712960"/>
              <a:gd name="textAreaRight" fmla="*/ 2188800 w 2712960"/>
              <a:gd name="textAreaTop" fmla="*/ 534960 h 1343160"/>
              <a:gd name="textAreaBottom" fmla="*/ 80820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8601"/>
                </a:moveTo>
                <a:lnTo>
                  <a:pt x="1094" y="8601"/>
                </a:lnTo>
                <a:lnTo>
                  <a:pt x="1094" y="0"/>
                </a:lnTo>
                <a:lnTo>
                  <a:pt x="21600" y="10800"/>
                </a:lnTo>
                <a:lnTo>
                  <a:pt x="1094" y="21600"/>
                </a:lnTo>
                <a:lnTo>
                  <a:pt x="1094" y="12999"/>
                </a:lnTo>
                <a:lnTo>
                  <a:pt x="0" y="12999"/>
                </a:lnTo>
                <a:lnTo>
                  <a:pt x="4175" y="10800"/>
                </a:lnTo>
                <a:lnTo>
                  <a:pt x="0" y="8601"/>
                </a:lnTo>
                <a:close/>
              </a:path>
            </a:pathLst>
          </a:cu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箭头 13"/>
          <p:cNvSpPr/>
          <p:nvPr/>
        </p:nvSpPr>
        <p:spPr>
          <a:xfrm flipH="1">
            <a:off x="3499560" y="3170160"/>
            <a:ext cx="2713320" cy="1344600"/>
          </a:xfrm>
          <a:custGeom>
            <a:avLst/>
            <a:gdLst>
              <a:gd name="textAreaLeft" fmla="*/ 524880 w 2713320"/>
              <a:gd name="textAreaRight" fmla="*/ 2188440 w 2713320"/>
              <a:gd name="textAreaTop" fmla="*/ 535320 h 1344600"/>
              <a:gd name="textAreaBottom" fmla="*/ 80928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8601"/>
                </a:moveTo>
                <a:lnTo>
                  <a:pt x="1069" y="8601"/>
                </a:lnTo>
                <a:lnTo>
                  <a:pt x="1069" y="0"/>
                </a:lnTo>
                <a:lnTo>
                  <a:pt x="21600" y="10800"/>
                </a:lnTo>
                <a:lnTo>
                  <a:pt x="1069" y="21600"/>
                </a:lnTo>
                <a:lnTo>
                  <a:pt x="1069" y="12999"/>
                </a:lnTo>
                <a:lnTo>
                  <a:pt x="0" y="12999"/>
                </a:lnTo>
                <a:lnTo>
                  <a:pt x="4180" y="10800"/>
                </a:lnTo>
                <a:lnTo>
                  <a:pt x="0" y="8601"/>
                </a:lnTo>
                <a:close/>
              </a:path>
            </a:pathLst>
          </a:cu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箭头 14"/>
          <p:cNvSpPr/>
          <p:nvPr/>
        </p:nvSpPr>
        <p:spPr>
          <a:xfrm>
            <a:off x="3357720" y="3929040"/>
            <a:ext cx="2712960" cy="1343160"/>
          </a:xfrm>
          <a:custGeom>
            <a:avLst/>
            <a:gdLst>
              <a:gd name="textAreaLeft" fmla="*/ 524160 w 2712960"/>
              <a:gd name="textAreaRight" fmla="*/ 2188800 w 2712960"/>
              <a:gd name="textAreaTop" fmla="*/ 534960 h 1343160"/>
              <a:gd name="textAreaBottom" fmla="*/ 80820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8601"/>
                </a:moveTo>
                <a:lnTo>
                  <a:pt x="1094" y="8601"/>
                </a:lnTo>
                <a:lnTo>
                  <a:pt x="1094" y="0"/>
                </a:lnTo>
                <a:lnTo>
                  <a:pt x="21600" y="10800"/>
                </a:lnTo>
                <a:lnTo>
                  <a:pt x="1094" y="21600"/>
                </a:lnTo>
                <a:lnTo>
                  <a:pt x="1094" y="12999"/>
                </a:lnTo>
                <a:lnTo>
                  <a:pt x="0" y="12999"/>
                </a:lnTo>
                <a:lnTo>
                  <a:pt x="4175" y="10800"/>
                </a:lnTo>
                <a:lnTo>
                  <a:pt x="0" y="8601"/>
                </a:lnTo>
                <a:close/>
              </a:path>
            </a:pathLst>
          </a:cu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燕尾形箭头 15"/>
          <p:cNvSpPr/>
          <p:nvPr/>
        </p:nvSpPr>
        <p:spPr>
          <a:xfrm flipH="1">
            <a:off x="3499560" y="4729320"/>
            <a:ext cx="2713320" cy="1342800"/>
          </a:xfrm>
          <a:custGeom>
            <a:avLst/>
            <a:gdLst>
              <a:gd name="textAreaLeft" fmla="*/ 524520 w 2713320"/>
              <a:gd name="textAreaRight" fmla="*/ 2188800 w 2713320"/>
              <a:gd name="textAreaTop" fmla="*/ 534600 h 1342800"/>
              <a:gd name="textAreaBottom" fmla="*/ 808200 h 1342800"/>
            </a:gdLst>
            <a:ahLst/>
            <a:rect l="textAreaLeft" t="textAreaTop" r="textAreaRight" b="textAreaBottom"/>
            <a:pathLst>
              <a:path w="21600" h="21600">
                <a:moveTo>
                  <a:pt x="0" y="8601"/>
                </a:moveTo>
                <a:lnTo>
                  <a:pt x="1094" y="8601"/>
                </a:lnTo>
                <a:lnTo>
                  <a:pt x="1094" y="0"/>
                </a:lnTo>
                <a:lnTo>
                  <a:pt x="21600" y="10800"/>
                </a:lnTo>
                <a:lnTo>
                  <a:pt x="1094" y="21600"/>
                </a:lnTo>
                <a:lnTo>
                  <a:pt x="1094" y="12999"/>
                </a:lnTo>
                <a:lnTo>
                  <a:pt x="0" y="12999"/>
                </a:lnTo>
                <a:lnTo>
                  <a:pt x="4175" y="10800"/>
                </a:lnTo>
                <a:lnTo>
                  <a:pt x="0" y="8601"/>
                </a:lnTo>
                <a:close/>
              </a:path>
            </a:pathLst>
          </a:cu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140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635508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63550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2140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64267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214056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4569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449784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24976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乘号 10"/>
          <p:cNvSpPr/>
          <p:nvPr/>
        </p:nvSpPr>
        <p:spPr>
          <a:xfrm>
            <a:off x="3000240" y="1285920"/>
            <a:ext cx="3907080" cy="3906720"/>
          </a:xfrm>
          <a:custGeom>
            <a:avLst/>
            <a:gdLst/>
            <a:ahLst/>
            <a:rect l="l" t="t" r="r" b="b"/>
            <a:pathLst>
              <a:path w="3906838" h="3906838">
                <a:moveTo>
                  <a:pt x="613449" y="1263201"/>
                </a:moveTo>
                <a:lnTo>
                  <a:pt x="1263201" y="613449"/>
                </a:lnTo>
                <a:lnTo>
                  <a:pt x="1953419" y="1303667"/>
                </a:lnTo>
                <a:lnTo>
                  <a:pt x="2643637" y="613449"/>
                </a:lnTo>
                <a:lnTo>
                  <a:pt x="3293389" y="1263201"/>
                </a:lnTo>
                <a:lnTo>
                  <a:pt x="2603171" y="1953419"/>
                </a:lnTo>
                <a:lnTo>
                  <a:pt x="3293389" y="2643637"/>
                </a:lnTo>
                <a:lnTo>
                  <a:pt x="2643637" y="3293389"/>
                </a:lnTo>
                <a:lnTo>
                  <a:pt x="1953419" y="2603171"/>
                </a:lnTo>
                <a:lnTo>
                  <a:pt x="1263201" y="3293389"/>
                </a:lnTo>
                <a:lnTo>
                  <a:pt x="613449" y="2643637"/>
                </a:lnTo>
                <a:lnTo>
                  <a:pt x="1303667" y="1953419"/>
                </a:lnTo>
                <a:lnTo>
                  <a:pt x="613449" y="1263201"/>
                </a:lnTo>
                <a:close/>
              </a:path>
            </a:pathLst>
          </a:custGeom>
          <a:solidFill>
            <a:srgbClr val="aca2d7"/>
          </a:solidFill>
          <a:ln w="25560">
            <a:solidFill>
              <a:srgbClr val="f095b5"/>
            </a:solidFill>
            <a:round/>
          </a:ln>
          <a:effectLst>
            <a:outerShdw dist="5076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流程图: 决策 10"/>
          <p:cNvSpPr/>
          <p:nvPr/>
        </p:nvSpPr>
        <p:spPr>
          <a:xfrm>
            <a:off x="3214800" y="2225520"/>
            <a:ext cx="3485880" cy="2337120"/>
          </a:xfrm>
          <a:prstGeom prst="flowChartDecision">
            <a:avLst/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流程图: 决策 15"/>
          <p:cNvSpPr/>
          <p:nvPr/>
        </p:nvSpPr>
        <p:spPr>
          <a:xfrm>
            <a:off x="2714760" y="1857240"/>
            <a:ext cx="1830240" cy="1225800"/>
          </a:xfrm>
          <a:prstGeom prst="flowChartDecision">
            <a:avLst/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流程图: 决策 16"/>
          <p:cNvSpPr/>
          <p:nvPr/>
        </p:nvSpPr>
        <p:spPr>
          <a:xfrm>
            <a:off x="5384880" y="1868400"/>
            <a:ext cx="1830240" cy="1227240"/>
          </a:xfrm>
          <a:prstGeom prst="flowChartDecision">
            <a:avLst/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流程图: 决策 17"/>
          <p:cNvSpPr/>
          <p:nvPr/>
        </p:nvSpPr>
        <p:spPr>
          <a:xfrm>
            <a:off x="2741760" y="3714840"/>
            <a:ext cx="1830240" cy="1225440"/>
          </a:xfrm>
          <a:prstGeom prst="flowChartDecision">
            <a:avLst/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流程图: 决策 18"/>
          <p:cNvSpPr/>
          <p:nvPr/>
        </p:nvSpPr>
        <p:spPr>
          <a:xfrm>
            <a:off x="5357880" y="3714840"/>
            <a:ext cx="1830240" cy="1225440"/>
          </a:xfrm>
          <a:prstGeom prst="flowChartDecision">
            <a:avLst/>
          </a:pr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44978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60696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6069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4"/>
          <p:cNvSpPr/>
          <p:nvPr/>
        </p:nvSpPr>
        <p:spPr>
          <a:xfrm>
            <a:off x="2926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对角圆角矩形 20"/>
          <p:cNvSpPr/>
          <p:nvPr/>
        </p:nvSpPr>
        <p:spPr>
          <a:xfrm>
            <a:off x="1349280" y="3857760"/>
            <a:ext cx="1865520" cy="1865160"/>
          </a:xfrm>
          <a:custGeom>
            <a:avLst/>
            <a:gdLst/>
            <a:ahLst/>
            <a:rect l="l" t="t" r="r" b="b"/>
            <a:pathLst>
              <a:path w="1865313" h="1865313">
                <a:moveTo>
                  <a:pt x="932657" y="0"/>
                </a:moveTo>
                <a:lnTo>
                  <a:pt x="1865313" y="0"/>
                </a:lnTo>
                <a:lnTo>
                  <a:pt x="1865313" y="0"/>
                </a:lnTo>
                <a:lnTo>
                  <a:pt x="1865313" y="932657"/>
                </a:lnTo>
                <a:cubicBezTo>
                  <a:pt x="1865313" y="1447749"/>
                  <a:pt x="1447748" y="1865314"/>
                  <a:pt x="932656" y="1865314"/>
                </a:cubicBezTo>
                <a:lnTo>
                  <a:pt x="0" y="1865313"/>
                </a:lnTo>
                <a:lnTo>
                  <a:pt x="0" y="1865313"/>
                </a:lnTo>
                <a:lnTo>
                  <a:pt x="0" y="932657"/>
                </a:lnTo>
                <a:cubicBezTo>
                  <a:pt x="0" y="417565"/>
                  <a:pt x="417565" y="0"/>
                  <a:pt x="932657" y="0"/>
                </a:cubicBezTo>
                <a:close/>
              </a:path>
            </a:pathLst>
          </a:cu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对角圆角矩形 21"/>
          <p:cNvSpPr/>
          <p:nvPr/>
        </p:nvSpPr>
        <p:spPr>
          <a:xfrm>
            <a:off x="3214800" y="2616120"/>
            <a:ext cx="1865160" cy="1865520"/>
          </a:xfrm>
          <a:custGeom>
            <a:avLst/>
            <a:gdLst/>
            <a:ahLst/>
            <a:rect l="l" t="t" r="r" b="b"/>
            <a:pathLst>
              <a:path w="1865312" h="1865313">
                <a:moveTo>
                  <a:pt x="932656" y="0"/>
                </a:moveTo>
                <a:lnTo>
                  <a:pt x="1865312" y="0"/>
                </a:lnTo>
                <a:lnTo>
                  <a:pt x="1865312" y="0"/>
                </a:lnTo>
                <a:lnTo>
                  <a:pt x="1865312" y="932657"/>
                </a:lnTo>
                <a:cubicBezTo>
                  <a:pt x="1865312" y="1447749"/>
                  <a:pt x="1447748" y="1865313"/>
                  <a:pt x="932656" y="1865313"/>
                </a:cubicBezTo>
                <a:lnTo>
                  <a:pt x="0" y="1865313"/>
                </a:lnTo>
                <a:lnTo>
                  <a:pt x="0" y="1865313"/>
                </a:lnTo>
                <a:lnTo>
                  <a:pt x="0" y="932656"/>
                </a:lnTo>
                <a:cubicBezTo>
                  <a:pt x="0" y="417564"/>
                  <a:pt x="417564" y="0"/>
                  <a:pt x="932656" y="0"/>
                </a:cubicBezTo>
                <a:close/>
              </a:path>
            </a:pathLst>
          </a:cu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对角圆角矩形 22"/>
          <p:cNvSpPr/>
          <p:nvPr/>
        </p:nvSpPr>
        <p:spPr>
          <a:xfrm>
            <a:off x="5072040" y="1357200"/>
            <a:ext cx="1865160" cy="1865520"/>
          </a:xfrm>
          <a:custGeom>
            <a:avLst/>
            <a:gdLst/>
            <a:ahLst/>
            <a:rect l="l" t="t" r="r" b="b"/>
            <a:pathLst>
              <a:path w="1865312" h="1865312">
                <a:moveTo>
                  <a:pt x="932656" y="0"/>
                </a:moveTo>
                <a:lnTo>
                  <a:pt x="1865312" y="0"/>
                </a:lnTo>
                <a:lnTo>
                  <a:pt x="1865312" y="0"/>
                </a:lnTo>
                <a:lnTo>
                  <a:pt x="1865312" y="932656"/>
                </a:lnTo>
                <a:cubicBezTo>
                  <a:pt x="1865312" y="1447748"/>
                  <a:pt x="1447748" y="1865312"/>
                  <a:pt x="932656" y="1865312"/>
                </a:cubicBezTo>
                <a:lnTo>
                  <a:pt x="0" y="1865312"/>
                </a:lnTo>
                <a:lnTo>
                  <a:pt x="0" y="1865312"/>
                </a:lnTo>
                <a:lnTo>
                  <a:pt x="0" y="932656"/>
                </a:lnTo>
                <a:cubicBezTo>
                  <a:pt x="0" y="417564"/>
                  <a:pt x="417564" y="0"/>
                  <a:pt x="932656" y="0"/>
                </a:cubicBezTo>
                <a:close/>
              </a:path>
            </a:pathLst>
          </a:cu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17118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3"/>
          <p:cNvSpPr/>
          <p:nvPr/>
        </p:nvSpPr>
        <p:spPr>
          <a:xfrm>
            <a:off x="55695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36406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缺角矩形 10"/>
          <p:cNvSpPr/>
          <p:nvPr/>
        </p:nvSpPr>
        <p:spPr>
          <a:xfrm>
            <a:off x="2657520" y="1800360"/>
            <a:ext cx="4130640" cy="3402000"/>
          </a:xfrm>
          <a:custGeom>
            <a:avLst/>
            <a:gdLst>
              <a:gd name="textAreaLeft" fmla="*/ 400680 w 4130640"/>
              <a:gd name="textAreaRight" fmla="*/ 3729960 w 4130640"/>
              <a:gd name="textAreaTop" fmla="*/ 400680 h 3402000"/>
              <a:gd name="textAreaBottom" fmla="*/ 3001320 h 3402000"/>
            </a:gdLst>
            <a:ahLst/>
            <a:rect l="textAreaLeft" t="textAreaTop" r="textAreaRight" b="textAreaBottom"/>
            <a:pathLst>
              <a:path w="2622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626" y="21600"/>
                </a:lnTo>
                <a:arcTo wR="3600" hR="3600" stAng="10800000" swAng="5400000"/>
                <a:lnTo>
                  <a:pt x="26226" y="3600"/>
                </a:lnTo>
                <a:arcTo wR="3600" hR="3600" stAng="5400000" swAng="5400000"/>
                <a:close/>
              </a:path>
            </a:pathLst>
          </a:custGeom>
          <a:solidFill>
            <a:srgbClr val="aca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11"/>
          <p:cNvSpPr/>
          <p:nvPr/>
        </p:nvSpPr>
        <p:spPr>
          <a:xfrm>
            <a:off x="2243160" y="1371600"/>
            <a:ext cx="914400" cy="914400"/>
          </a:xfrm>
          <a:prstGeom prst="ellipse">
            <a:avLst/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12"/>
          <p:cNvSpPr/>
          <p:nvPr/>
        </p:nvSpPr>
        <p:spPr>
          <a:xfrm>
            <a:off x="6300720" y="1386000"/>
            <a:ext cx="914400" cy="914400"/>
          </a:xfrm>
          <a:prstGeom prst="ellipse">
            <a:avLst/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13"/>
          <p:cNvSpPr/>
          <p:nvPr/>
        </p:nvSpPr>
        <p:spPr>
          <a:xfrm>
            <a:off x="2228760" y="4714920"/>
            <a:ext cx="914400" cy="914400"/>
          </a:xfrm>
          <a:prstGeom prst="ellipse">
            <a:avLst/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14"/>
          <p:cNvSpPr/>
          <p:nvPr/>
        </p:nvSpPr>
        <p:spPr>
          <a:xfrm>
            <a:off x="6286680" y="4729320"/>
            <a:ext cx="914400" cy="914400"/>
          </a:xfrm>
          <a:prstGeom prst="ellipse">
            <a:avLst/>
          </a:prstGeom>
          <a:solidFill>
            <a:srgbClr val="f09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2"/>
          <p:cNvSpPr/>
          <p:nvPr/>
        </p:nvSpPr>
        <p:spPr>
          <a:xfrm>
            <a:off x="4497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664092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6783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17118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16405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</cp:lastModifiedBy>
  <dcterms:modified xsi:type="dcterms:W3CDTF">2015-08-09T01:10:19Z</dcterms:modified>
  <cp:revision>2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