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C7E-6B83-4F1D-849F-CD64E7C1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ABC-E0C2-4716-8809-03560AA9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4F6-4E06-4C09-BD6A-F98B3E42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8CAA-190B-4907-8088-00FFC6F2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E552-F203-4433-9750-7154556C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409-0486-43A4-9862-FA207954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157F-17C9-408B-B444-65B98DD8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D8FF-7C74-4CD2-BAAD-58642C74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B80D-BFD5-4162-ACFC-65D569D2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E917-566E-406E-9656-7B2A1547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B60-F928-4615-9466-B2AE08A4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9938-FB34-477A-A9B1-F51895D0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7BEB-E64C-4730-9AD6-4E2A1A5CA9F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E97C-996C-4350-A6F2-A89D2167632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4857840" y="1357200"/>
            <a:ext cx="707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72920" y="11736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鸿运羊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17F-459B-4AD2-B695-E3AA71FADE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4155120" y="1571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336960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258372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2940840" y="4929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2583720" y="1571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1226160" y="3857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3798000" y="4929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-6912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51208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72680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29788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428920" y="3000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3155040" y="1357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222660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486972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-6912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655080" y="1785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01264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01204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336960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342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86904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579816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3583800" y="1571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358380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465516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151200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451260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208368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3369600" y="1571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522684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194076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3440880" y="45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551268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2083680" y="1785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222660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79808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PC</cp:lastModifiedBy>
  <dcterms:modified xsi:type="dcterms:W3CDTF">2015-08-09T01:12:03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