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4D54-3B99-44BA-86E6-84FD6CA04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903A-D67D-4D85-A8B5-5455DDE64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5BED-1917-451E-8B0E-AA4F23A9A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D9DC-3B13-41DE-8FF3-6972DA705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22C2E-322A-479D-B11A-4BA029C8F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29A9F-9A25-44A7-884A-F01FE39D6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A0702-E2D1-4B72-AD51-98AEC209C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89BF6-5A48-455C-B615-0781D0904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33A79-0645-41AB-9348-C3ED5B650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A34F2-A84E-4329-A77D-1B175A023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BD939-1527-401D-9EEB-BEF4C6F3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8F41-288E-4EF4-A7FC-242AAB995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28845-C420-4539-AA38-9A8DF22E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67E7A-FC87-4444-997B-19C900ED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21090-8D58-4049-AC5E-901BBECCF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17F1B-9939-468E-A3AF-740F68B7A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A2D96-A9CD-496F-B08E-5EA426CA4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07DB-4B4D-456A-91F5-AA83818AA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9202-1E88-4DED-B20D-69D126512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91EC-1AF1-42D4-BB2D-5194987A1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963D-BA08-47CE-BEBF-E33ED89A7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8A6B-AB3A-47FA-A507-90789544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E658-4265-455C-AA85-740590F9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B061-9537-4717-9D8F-1D42BD90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DD7E8-1EB0-4814-A11C-D68711B84405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D5778-2566-402E-99D9-06012C8F10B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2005200" y="2060640"/>
            <a:ext cx="23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1f3134"/>
                </a:solidFill>
                <a:latin typeface="Showcard Gothic"/>
              </a:rPr>
              <a:t>Simp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657520" y="2759040"/>
            <a:ext cx="325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1f3134"/>
                </a:solidFill>
                <a:latin typeface="Showcard Gothic"/>
              </a:rPr>
              <a:t> </a:t>
            </a:r>
            <a:r>
              <a:rPr b="0" lang="zh-CN" sz="5400" spc="-1" strike="noStrike">
                <a:solidFill>
                  <a:srgbClr val="1f3134"/>
                </a:solidFill>
                <a:latin typeface="Showcard Gothic"/>
              </a:rPr>
              <a:t>Powerfu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4721400" y="3554280"/>
            <a:ext cx="2352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1f3134"/>
                </a:solidFill>
                <a:latin typeface="Showcard Gothic"/>
              </a:rPr>
              <a:t> </a:t>
            </a:r>
            <a:r>
              <a:rPr b="0" lang="zh-CN" sz="5400" spc="-1" strike="noStrike">
                <a:solidFill>
                  <a:srgbClr val="1f3134"/>
                </a:solidFill>
                <a:latin typeface="Showcard Gothic"/>
              </a:rPr>
              <a:t>&amp; fre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65800" y="260280"/>
            <a:ext cx="539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简约办公绿色清新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1656000" y="3068640"/>
            <a:ext cx="323640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500" spc="-1" strike="noStrike">
                <a:solidFill>
                  <a:srgbClr val="1f3134"/>
                </a:solidFill>
                <a:latin typeface="Segoe Print"/>
              </a:rPr>
              <a:t>Index...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2011320" y="4091040"/>
            <a:ext cx="357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f3134"/>
                </a:solidFill>
                <a:latin typeface="Segoe Print"/>
              </a:rPr>
              <a:t>Part1:  The free working ti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2283480" y="4375080"/>
            <a:ext cx="49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f3134"/>
                </a:solidFill>
                <a:latin typeface="Segoe Print"/>
              </a:rPr>
              <a:t>Part2:  The relaxed working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2547000" y="4664160"/>
            <a:ext cx="50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f3134"/>
                </a:solidFill>
                <a:latin typeface="Segoe Print"/>
              </a:rPr>
              <a:t>Part3:  The pleastant working atmo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4888080" y="404640"/>
            <a:ext cx="223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1f3134"/>
                </a:solidFill>
                <a:latin typeface="Segoe Print"/>
              </a:rPr>
              <a:t>Part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3004560" y="1415880"/>
            <a:ext cx="480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f3134"/>
                </a:solidFill>
                <a:latin typeface="Segoe Print"/>
              </a:rPr>
              <a:t>The relaxed working environment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1074240" y="1149480"/>
            <a:ext cx="1567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f3134"/>
                </a:solidFill>
                <a:latin typeface="Arial"/>
                <a:ea typeface="Adobe 黑体 Std R"/>
              </a:rPr>
              <a:t>轻松的办公环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634320" y="1581120"/>
            <a:ext cx="368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f3134"/>
                </a:solidFill>
                <a:latin typeface="Segoe Print"/>
              </a:rPr>
              <a:t>The relaxed working environ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612720" y="1989000"/>
            <a:ext cx="7920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f3134"/>
                </a:solidFill>
                <a:latin typeface="Arial"/>
                <a:ea typeface="Adobe 黑体 Std R"/>
              </a:rPr>
              <a:t>       </a:t>
            </a:r>
            <a:r>
              <a:rPr b="1" lang="zh-CN" sz="1200" spc="-1" strike="noStrike">
                <a:solidFill>
                  <a:srgbClr val="1f3134"/>
                </a:solidFill>
                <a:latin typeface="Arial"/>
                <a:ea typeface="Adobe 黑体 Std R"/>
              </a:rPr>
              <a:t>办公自动化（</a:t>
            </a:r>
            <a:r>
              <a:rPr b="1" lang="zh-CN" sz="1200" spc="-1" strike="noStrike">
                <a:solidFill>
                  <a:srgbClr val="1f3134"/>
                </a:solidFill>
                <a:latin typeface="Arial"/>
                <a:ea typeface="Adobe 黑体 Std R"/>
              </a:rPr>
              <a:t>Office Automation,</a:t>
            </a:r>
            <a:r>
              <a:rPr b="1" lang="zh-CN" sz="1200" spc="-1" strike="noStrike">
                <a:solidFill>
                  <a:srgbClr val="1f3134"/>
                </a:solidFill>
                <a:latin typeface="Arial"/>
                <a:ea typeface="Adobe 黑体 Std R"/>
              </a:rPr>
              <a:t>简称</a:t>
            </a:r>
            <a:r>
              <a:rPr b="1" lang="zh-CN" sz="1200" spc="-1" strike="noStrike">
                <a:solidFill>
                  <a:srgbClr val="1f3134"/>
                </a:solidFill>
                <a:latin typeface="Arial"/>
                <a:ea typeface="Adobe 黑体 Std R"/>
              </a:rPr>
              <a:t>OA</a:t>
            </a:r>
            <a:r>
              <a:rPr b="1" lang="zh-CN" sz="1200" spc="-1" strike="noStrike">
                <a:solidFill>
                  <a:srgbClr val="1f3134"/>
                </a:solidFill>
                <a:latin typeface="Arial"/>
                <a:ea typeface="Adobe 黑体 Std R"/>
              </a:rPr>
              <a:t>）是将现代化办公和计算机网络功能结合起来的一种新型的办公方式。办公自动化就是用信息技术把办公过程电子化、数字化，就是要创造一个集成的办公环境，使所有的办公人员都在同一个桌面环境下一起工作。    具体来说，主要实现下面四个方面的功能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f3134"/>
                </a:solidFill>
                <a:latin typeface="Arial"/>
                <a:ea typeface="Adobe 黑体 Std R"/>
              </a:rPr>
              <a:t>    </a:t>
            </a:r>
            <a:r>
              <a:rPr b="1" lang="zh-CN" sz="1200" spc="-1" strike="noStrike">
                <a:solidFill>
                  <a:srgbClr val="1f3134"/>
                </a:solidFill>
                <a:latin typeface="Arial"/>
                <a:ea typeface="Adobe 黑体 Std R"/>
              </a:rPr>
              <a:t>（一）建立内部的通信平台。建立组织内部的邮件系统，使组织内部的通信和信息交流快捷通畅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f3134"/>
                </a:solidFill>
                <a:latin typeface="Arial"/>
                <a:ea typeface="Adobe 黑体 Std R"/>
              </a:rPr>
              <a:t>    </a:t>
            </a:r>
            <a:r>
              <a:rPr b="1" lang="zh-CN" sz="1200" spc="-1" strike="noStrike">
                <a:solidFill>
                  <a:srgbClr val="1f3134"/>
                </a:solidFill>
                <a:latin typeface="Arial"/>
                <a:ea typeface="Adobe 黑体 Std R"/>
              </a:rPr>
              <a:t>（二）建立信息发布的平台。在内部建立一个有效的信息发布和交流的场所，例如电子公告、电子论坛、电子刊物，使内部的规章制度、新闻简报、技术交流、公告事项等能够在企业或机关内部员工之间得到广泛的传播，使员工能够了解单位的发展动态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f3134"/>
                </a:solidFill>
                <a:latin typeface="Arial"/>
                <a:ea typeface="Adobe 黑体 Std R"/>
              </a:rPr>
              <a:t>    </a:t>
            </a:r>
            <a:r>
              <a:rPr b="1" lang="zh-CN" sz="1200" spc="-1" strike="noStrike">
                <a:solidFill>
                  <a:srgbClr val="1f3134"/>
                </a:solidFill>
                <a:latin typeface="Arial"/>
                <a:ea typeface="Adobe 黑体 Std R"/>
              </a:rPr>
              <a:t>（三）实现工作流程的自动化。这牵涉到流转过程的实时监控、跟踪，解决多岗位、多部门之间的协同工作问题，实现高效率的协作。各个单位都存在着大量流程化的工作，例如公文的处理、收发文、各种审批、请示、汇报等，都是一些流程化的工作，通过实现工作流程的自动化，就可以规范各项工作，提高单位协同工作的效率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f3134"/>
                </a:solidFill>
                <a:latin typeface="Arial"/>
                <a:ea typeface="Adobe 黑体 Std R"/>
              </a:rPr>
              <a:t>    </a:t>
            </a:r>
            <a:r>
              <a:rPr b="1" lang="zh-CN" sz="1200" spc="-1" strike="noStrike">
                <a:solidFill>
                  <a:srgbClr val="1f3134"/>
                </a:solidFill>
                <a:latin typeface="Arial"/>
                <a:ea typeface="Adobe 黑体 Std R"/>
              </a:rPr>
              <a:t>（四）实现文档管理的自动化。可使各类文档（包括各种文件、知识、信息）能够按权限进行保存、共享和使用，并有一个方便的查找手段。每个单位都会有大量的文档，在手工办公的情况下这些文档都保存在每个人的文件柜里。因此，文档的保存、共享、使用和再利用是十分困难的。另外，在手工办公的情况下文档的检索存在非常大的难度。文档多了，需要什么东西不能及时找到，甚至找不到。办公自动化使各种文档实现电子化，通过电子文件柜的形式实现文档的保管，按权限进行使用和共享。实现办公自动化以后，比如说，某个单位来了一个新员工，只要管理员给他注册一个身份文件，给他一个口令，自己上网就可以看到这个单位积累下来的东西，规章制度、各种技术文件等等，只要身份符合权限可以阅览的范围，他自然而然都能看到，这样就减少了很多培训环节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D196-57DB-48B1-A206-1D45ADE173C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3292200" y="2514600"/>
            <a:ext cx="352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1f3134"/>
                </a:solidFill>
                <a:latin typeface="Showcard Gothic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3269880" y="3214800"/>
            <a:ext cx="1220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1f3134"/>
                </a:solidFill>
                <a:latin typeface="Showcard Gothic"/>
              </a:rPr>
              <a:t>f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3252600" y="3935520"/>
            <a:ext cx="332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1f3134"/>
                </a:solidFill>
                <a:latin typeface="Showcard Gothic"/>
              </a:rPr>
              <a:t> </a:t>
            </a:r>
            <a:r>
              <a:rPr b="0" lang="zh-CN" sz="5400" spc="-1" strike="noStrike">
                <a:solidFill>
                  <a:srgbClr val="1f3134"/>
                </a:solidFill>
                <a:latin typeface="Showcard Gothic"/>
              </a:rPr>
              <a:t>watch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123</cp:lastModifiedBy>
  <dcterms:modified xsi:type="dcterms:W3CDTF">2015-08-09T01:11:16Z</dcterms:modified>
  <cp:revision>3</cp:revision>
  <dc:subject/>
  <dc:title>请在此处填写作品信息（此页非设计页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