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85A-2D8A-4255-8139-12741E59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D4E-3248-4A54-8472-B7CBBA21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94A-8B48-4CE5-ABDA-FE1E55C1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DF5-27F3-4156-90AA-C4C1CECD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9726-A4D9-4B29-A99B-E8D7CF4B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6FB-BFA3-4E70-B98E-D222ADEA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CCF-C46E-4154-9B34-89ED33B1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F719-5664-48EE-B4BC-C171FCF2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76C7-462B-4DC5-80D7-29E66708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7638-60EE-41E4-8043-75728551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4CC1-EDA9-4A3C-8188-BFCDC094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147-1C3C-44FC-910D-B2A544D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97DA-B0FA-4A30-BE40-54DEF191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5AB9-03D7-4C20-8A8F-9B5EB1F3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CAE5-0137-4E75-868F-754F5DEA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EFD2-F9A6-4CA1-88A9-75D0317B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7F59-3045-400D-9BA7-CF8008D1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2C0-9B1E-47A0-A5DB-91CE3B3E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89F-8AF6-4E0C-9FEF-33A3BA08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69C-5941-4B29-8E26-B72AB40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278-174D-4417-8446-63E94BAF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1CA-3227-4DE9-90ED-14E0935C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A25-1674-4AE0-B383-66E4B22A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45C-E4E0-4AB3-AF1E-6F700F8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D764-254B-48B6-9414-74CF43A1FE4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D049-CAEE-4F97-912C-23610AE5DC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 rot="21181200">
            <a:off x="539280" y="2904840"/>
            <a:ext cx="8040960" cy="703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9ba07"/>
                </a:solidFill>
                <a:latin typeface="Arial"/>
                <a:ea typeface="微软雅黑"/>
              </a:rPr>
              <a:t>简约设计绿色办公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 rot="21181200">
            <a:off x="4839840" y="3451320"/>
            <a:ext cx="3981600" cy="932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90fd23"/>
                </a:solidFill>
                <a:latin typeface="Arial"/>
                <a:ea typeface="微软雅黑"/>
              </a:rPr>
              <a:t>WPS201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toshiba\Desktop\封面.png"/>
          <p:cNvPicPr/>
          <p:nvPr/>
        </p:nvPicPr>
        <p:blipFill>
          <a:blip r:embed="rId2"/>
          <a:stretch/>
        </p:blipFill>
        <p:spPr>
          <a:xfrm>
            <a:off x="2771640" y="1008000"/>
            <a:ext cx="2025720" cy="189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27"/>
          <p:cNvGrpSpPr/>
          <p:nvPr/>
        </p:nvGrpSpPr>
        <p:grpSpPr>
          <a:xfrm>
            <a:off x="1908000" y="879480"/>
            <a:ext cx="4945320" cy="884160"/>
            <a:chOff x="1908000" y="879480"/>
            <a:chExt cx="4945320" cy="884160"/>
          </a:xfrm>
        </p:grpSpPr>
        <p:grpSp>
          <p:nvGrpSpPr>
            <p:cNvPr id="87" name="组合 18"/>
            <p:cNvGrpSpPr/>
            <p:nvPr/>
          </p:nvGrpSpPr>
          <p:grpSpPr>
            <a:xfrm>
              <a:off x="1908000" y="879480"/>
              <a:ext cx="4945320" cy="884160"/>
              <a:chOff x="1908000" y="879480"/>
              <a:chExt cx="4945320" cy="884160"/>
            </a:xfrm>
          </p:grpSpPr>
          <p:pic>
            <p:nvPicPr>
              <p:cNvPr id="88" name="Picture 8" descr="C:\Users\toshiba\Desktop\1条.jpg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879480"/>
                <a:ext cx="494532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Box 13"/>
              <p:cNvSpPr/>
              <p:nvPr/>
            </p:nvSpPr>
            <p:spPr>
              <a:xfrm>
                <a:off x="3576600" y="1090440"/>
                <a:ext cx="189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1</a:t>
                </a: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分钟下载</a:t>
                </a:r>
                <a:r>
                  <a:rPr b="1" lang="en-US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&amp;</a:t>
                </a: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安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3"/>
            <p:cNvSpPr/>
            <p:nvPr/>
          </p:nvSpPr>
          <p:spPr>
            <a:xfrm>
              <a:off x="2123640" y="10285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28"/>
          <p:cNvGrpSpPr/>
          <p:nvPr/>
        </p:nvGrpSpPr>
        <p:grpSpPr>
          <a:xfrm>
            <a:off x="1908000" y="2139840"/>
            <a:ext cx="4945320" cy="820800"/>
            <a:chOff x="1908000" y="2139840"/>
            <a:chExt cx="4945320" cy="820800"/>
          </a:xfrm>
        </p:grpSpPr>
        <p:grpSp>
          <p:nvGrpSpPr>
            <p:cNvPr id="92" name="组合 19"/>
            <p:cNvGrpSpPr/>
            <p:nvPr/>
          </p:nvGrpSpPr>
          <p:grpSpPr>
            <a:xfrm>
              <a:off x="1908000" y="2139840"/>
              <a:ext cx="4945320" cy="820800"/>
              <a:chOff x="1908000" y="2139840"/>
              <a:chExt cx="4945320" cy="820800"/>
            </a:xfrm>
          </p:grpSpPr>
          <p:pic>
            <p:nvPicPr>
              <p:cNvPr id="93" name="Picture 9" descr="C:\Users\toshiba\Desktop\2条.jpg"/>
              <p:cNvPicPr/>
              <p:nvPr/>
            </p:nvPicPr>
            <p:blipFill>
              <a:blip r:embed="rId3"/>
              <a:stretch/>
            </p:blipFill>
            <p:spPr>
              <a:xfrm>
                <a:off x="1908000" y="2139840"/>
                <a:ext cx="4945320" cy="82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TextBox 15"/>
              <p:cNvSpPr/>
              <p:nvPr/>
            </p:nvSpPr>
            <p:spPr>
              <a:xfrm>
                <a:off x="3652560" y="23191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全新视觉体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Box 24"/>
            <p:cNvSpPr/>
            <p:nvPr/>
          </p:nvSpPr>
          <p:spPr>
            <a:xfrm>
              <a:off x="2123640" y="225720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29"/>
          <p:cNvGrpSpPr/>
          <p:nvPr/>
        </p:nvGrpSpPr>
        <p:grpSpPr>
          <a:xfrm>
            <a:off x="1908000" y="3336840"/>
            <a:ext cx="4945320" cy="884160"/>
            <a:chOff x="1908000" y="3336840"/>
            <a:chExt cx="4945320" cy="884160"/>
          </a:xfrm>
        </p:grpSpPr>
        <p:grpSp>
          <p:nvGrpSpPr>
            <p:cNvPr id="97" name="组合 20"/>
            <p:cNvGrpSpPr/>
            <p:nvPr/>
          </p:nvGrpSpPr>
          <p:grpSpPr>
            <a:xfrm>
              <a:off x="1908000" y="3336840"/>
              <a:ext cx="4945320" cy="884160"/>
              <a:chOff x="1908000" y="3336840"/>
              <a:chExt cx="4945320" cy="884160"/>
            </a:xfrm>
          </p:grpSpPr>
          <p:pic>
            <p:nvPicPr>
              <p:cNvPr id="98" name="Picture 5" descr="C:\Users\toshiba\Desktop\1条.jpg"/>
              <p:cNvPicPr/>
              <p:nvPr/>
            </p:nvPicPr>
            <p:blipFill>
              <a:blip r:embed="rId4"/>
              <a:stretch/>
            </p:blipFill>
            <p:spPr>
              <a:xfrm>
                <a:off x="1908000" y="3336840"/>
                <a:ext cx="494532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TextBox 16"/>
              <p:cNvSpPr/>
              <p:nvPr/>
            </p:nvSpPr>
            <p:spPr>
              <a:xfrm>
                <a:off x="3839400" y="3573360"/>
                <a:ext cx="182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简单的文档创作功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Box 25"/>
            <p:cNvSpPr/>
            <p:nvPr/>
          </p:nvSpPr>
          <p:spPr>
            <a:xfrm>
              <a:off x="2123640" y="34858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30"/>
          <p:cNvGrpSpPr/>
          <p:nvPr/>
        </p:nvGrpSpPr>
        <p:grpSpPr>
          <a:xfrm>
            <a:off x="1908000" y="4597560"/>
            <a:ext cx="4945320" cy="804600"/>
            <a:chOff x="1908000" y="4597560"/>
            <a:chExt cx="4945320" cy="804600"/>
          </a:xfrm>
        </p:grpSpPr>
        <p:grpSp>
          <p:nvGrpSpPr>
            <p:cNvPr id="102" name="组合 21"/>
            <p:cNvGrpSpPr/>
            <p:nvPr/>
          </p:nvGrpSpPr>
          <p:grpSpPr>
            <a:xfrm>
              <a:off x="1908000" y="4597560"/>
              <a:ext cx="4945320" cy="804600"/>
              <a:chOff x="1908000" y="4597560"/>
              <a:chExt cx="4945320" cy="804600"/>
            </a:xfrm>
          </p:grpSpPr>
          <p:pic>
            <p:nvPicPr>
              <p:cNvPr id="103" name="Picture 9" descr="C:\Users\toshiba\Desktop\2条.jpg"/>
              <p:cNvPicPr/>
              <p:nvPr/>
            </p:nvPicPr>
            <p:blipFill>
              <a:blip r:embed="rId5"/>
              <a:stretch/>
            </p:blipFill>
            <p:spPr>
              <a:xfrm>
                <a:off x="1908000" y="4597560"/>
                <a:ext cx="494532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Box 17"/>
              <p:cNvSpPr/>
              <p:nvPr/>
            </p:nvSpPr>
            <p:spPr>
              <a:xfrm>
                <a:off x="3701160" y="4768920"/>
                <a:ext cx="205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100</a:t>
                </a: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项深度功能改进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26"/>
            <p:cNvSpPr/>
            <p:nvPr/>
          </p:nvSpPr>
          <p:spPr>
            <a:xfrm>
              <a:off x="2123640" y="470844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toshiba\Desktop\过渡页 (2).png"/>
          <p:cNvPicPr/>
          <p:nvPr/>
        </p:nvPicPr>
        <p:blipFill>
          <a:blip r:embed="rId2"/>
          <a:stretch/>
        </p:blipFill>
        <p:spPr>
          <a:xfrm>
            <a:off x="539640" y="1341360"/>
            <a:ext cx="3240360" cy="3052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203640" y="2533680"/>
            <a:ext cx="5689440" cy="8251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ba07"/>
                </a:solidFill>
                <a:latin typeface="Arial"/>
                <a:ea typeface="微软雅黑"/>
              </a:rPr>
              <a:t>1</a:t>
            </a:r>
            <a:r>
              <a:rPr b="1" lang="zh-CN" sz="4800" spc="-1" strike="noStrike">
                <a:solidFill>
                  <a:srgbClr val="f9ba07"/>
                </a:solidFill>
                <a:latin typeface="Arial"/>
                <a:ea typeface="微软雅黑"/>
              </a:rPr>
              <a:t>分钟下载</a:t>
            </a:r>
            <a:r>
              <a:rPr b="1" lang="en-US" sz="4800" spc="-1" strike="noStrike">
                <a:solidFill>
                  <a:srgbClr val="f9ba07"/>
                </a:solidFill>
                <a:latin typeface="Arial"/>
                <a:ea typeface="微软雅黑"/>
              </a:rPr>
              <a:t>&amp;</a:t>
            </a:r>
            <a:r>
              <a:rPr b="1" lang="zh-CN" sz="4800" spc="-1" strike="noStrike">
                <a:solidFill>
                  <a:srgbClr val="f9ba07"/>
                </a:solidFill>
                <a:latin typeface="Arial"/>
                <a:ea typeface="微软雅黑"/>
              </a:rPr>
              <a:t>安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727280" y="2349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1619280" y="191628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4d00"/>
                </a:solidFill>
                <a:latin typeface="微软雅黑"/>
              </a:rPr>
              <a:t>WPS Office 2012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体积超小，几十兆的瘦小身材，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分钟即可完成下载与安装。还深度兼容微软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Office 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各个版本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从微软的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Office 2003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到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2010)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，与微软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Office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实现文件读写双向兼容。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WPS2012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无论是界面风格还是应用习惯都与微软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Office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完全兼容，用户无需学习就可直接上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00000" y="600120"/>
            <a:ext cx="5688000" cy="5814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下载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&amp;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611280" y="2604960"/>
            <a:ext cx="5689440" cy="11912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9ba07"/>
                </a:solidFill>
                <a:latin typeface="Arial"/>
                <a:ea typeface="微软雅黑"/>
              </a:rPr>
              <a:t>Thank You</a:t>
            </a:r>
            <a:r>
              <a:rPr b="1" lang="zh-CN" sz="7200" spc="-1" strike="noStrike">
                <a:solidFill>
                  <a:srgbClr val="f9ba07"/>
                </a:solidFill>
                <a:latin typeface="Arial"/>
                <a:ea typeface="微软雅黑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toshiba\Desktop\结束页 (2).png"/>
          <p:cNvPicPr/>
          <p:nvPr/>
        </p:nvPicPr>
        <p:blipFill>
          <a:blip r:embed="rId2"/>
          <a:stretch/>
        </p:blipFill>
        <p:spPr>
          <a:xfrm>
            <a:off x="6084720" y="1989000"/>
            <a:ext cx="2094120" cy="211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9CD-6F19-457F-AAEA-23139D759D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123</cp:lastModifiedBy>
  <dcterms:modified xsi:type="dcterms:W3CDTF">2015-08-09T01:11:17Z</dcterms:modified>
  <cp:revision>5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