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4000"/>
          </a:bodyPr>
          <a:p>
            <a:pPr marL="178920" indent="-178920">
              <a:spcBef>
                <a:spcPts val="799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57840" indent="-17712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528120" indent="-16848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707040" indent="-17748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903960" indent="-195120">
              <a:spcBef>
                <a:spcPts val="799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903960" indent="-1951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903960" indent="-1951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f4f4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Times New Roman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Times New Roman"/>
                <a:ea typeface="宋体"/>
              </a:rPr>
              <a:t>  Page </a:t>
            </a:r>
            <a:fld id="{C45336D5-09F5-4AD9-88E1-C735ACC834E3}" type="slidenum">
              <a:rPr b="0" lang="de-DE" sz="1200" spc="-1" strike="noStrike">
                <a:solidFill>
                  <a:srgbClr val="4f4f4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2"/>
          <p:cNvSpPr/>
          <p:nvPr/>
        </p:nvSpPr>
        <p:spPr>
          <a:xfrm rot="10800000">
            <a:off x="325080" y="506160"/>
            <a:ext cx="927000" cy="514080"/>
          </a:xfrm>
          <a:prstGeom prst="leftArrow">
            <a:avLst>
              <a:gd name="adj1" fmla="val 51620"/>
              <a:gd name="adj2" fmla="val 51250"/>
            </a:avLst>
          </a:prstGeom>
          <a:gradFill rotWithShape="0">
            <a:gsLst>
              <a:gs pos="0">
                <a:srgbClr val="dcdcdc">
                  <a:alpha val="2352"/>
                </a:srgbClr>
              </a:gs>
              <a:gs pos="100000">
                <a:srgbClr val="b7b7b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4" descr="PP small"/>
          <p:cNvPicPr/>
          <p:nvPr/>
        </p:nvPicPr>
        <p:blipFill>
          <a:blip r:embed="rId3"/>
          <a:srcRect l="0" t="0" r="0" b="34534"/>
          <a:stretch/>
        </p:blipFill>
        <p:spPr>
          <a:xfrm>
            <a:off x="1486080" y="542880"/>
            <a:ext cx="3225600" cy="403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4000"/>
          </a:bodyPr>
          <a:p>
            <a:pPr marL="178920" indent="-178920">
              <a:spcBef>
                <a:spcPts val="799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57840" indent="-17712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528120" indent="-16848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707040" indent="-17748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903960" indent="-195120">
              <a:spcBef>
                <a:spcPts val="799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903960" indent="-1951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903960" indent="-1951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06600" y="2139840"/>
            <a:ext cx="731520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506600" y="3705120"/>
            <a:ext cx="732312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bd1fc"/>
                </a:solidFill>
                <a:latin typeface="Arial"/>
                <a:ea typeface="宋体"/>
              </a:rPr>
              <a:t>Template for Microsoft Power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31920" y="14461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板报会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8920" y="62276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96FF1AAD-092A-45CD-BC44-F0E534F39E8F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37960" y="1327320"/>
            <a:ext cx="39672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dummy text. Please ignore the following content as it is dummy tex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ext here is meaningless as it is used to fill this slide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5840">
              <a:lnSpc>
                <a:spcPct val="100000"/>
              </a:lnSpc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ject 5" descr=""/>
          <p:cNvPicPr/>
          <p:nvPr/>
        </p:nvPicPr>
        <p:blipFill>
          <a:blip r:embed="rId2"/>
          <a:stretch/>
        </p:blipFill>
        <p:spPr>
          <a:xfrm>
            <a:off x="4314960" y="1314360"/>
            <a:ext cx="4276440" cy="380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3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65324094-87DE-4FCD-8898-5135F4FD538D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9600" y="1374840"/>
            <a:ext cx="85248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20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43906F7F-E138-42C6-A5E9-EF41305CE686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8644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7320" y="1374840"/>
            <a:ext cx="418644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3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90E86DFA-B40E-4674-A7F8-21A5489BF3EB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72960" y="1814400"/>
            <a:ext cx="83581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08000" tIns="180000" bIns="180000" anchor="ctr">
            <a:noAutofit/>
          </a:bodyPr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dummy text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44520" y="1432080"/>
            <a:ext cx="8358120" cy="376200"/>
          </a:xfrm>
          <a:prstGeom prst="rect">
            <a:avLst/>
          </a:prstGeom>
          <a:solidFill>
            <a:srgbClr val="4a7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372960" y="3720960"/>
            <a:ext cx="83581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08000" tIns="180000" bIns="180000" anchor="ctr">
            <a:noAutofit/>
          </a:bodyPr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dummy text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344520" y="3338640"/>
            <a:ext cx="8358120" cy="376200"/>
          </a:xfrm>
          <a:prstGeom prst="rect">
            <a:avLst/>
          </a:prstGeom>
          <a:solidFill>
            <a:srgbClr val="4a7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245DF5F0-E6D8-4E9E-A2A4-61D9BA3BB8E2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237960" y="1327320"/>
            <a:ext cx="41706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44"/>
          <p:cNvSpPr/>
          <p:nvPr/>
        </p:nvSpPr>
        <p:spPr>
          <a:xfrm>
            <a:off x="4903920" y="2247840"/>
            <a:ext cx="1039680" cy="1798560"/>
          </a:xfrm>
          <a:prstGeom prst="pie">
            <a:avLst/>
          </a:prstGeom>
          <a:solidFill>
            <a:srgbClr val="f1c8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47"/>
          <p:cNvSpPr/>
          <p:nvPr/>
        </p:nvSpPr>
        <p:spPr>
          <a:xfrm>
            <a:off x="5165640" y="3630600"/>
            <a:ext cx="1557360" cy="1363680"/>
          </a:xfrm>
          <a:prstGeom prst="pie">
            <a:avLst/>
          </a:prstGeom>
          <a:solidFill>
            <a:srgbClr val="4a7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49"/>
          <p:cNvSpPr/>
          <p:nvPr/>
        </p:nvSpPr>
        <p:spPr>
          <a:xfrm>
            <a:off x="5165640" y="1303200"/>
            <a:ext cx="1557360" cy="1360800"/>
          </a:xfrm>
          <a:prstGeom prst="pie">
            <a:avLst/>
          </a:prstGeom>
          <a:solidFill>
            <a:srgbClr val="b54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46"/>
          <p:cNvSpPr/>
          <p:nvPr/>
        </p:nvSpPr>
        <p:spPr>
          <a:xfrm>
            <a:off x="6780240" y="1303200"/>
            <a:ext cx="1558800" cy="1363680"/>
          </a:xfrm>
          <a:prstGeom prst="pie">
            <a:avLst/>
          </a:prstGeom>
          <a:solidFill>
            <a:srgbClr val="6bd1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45"/>
          <p:cNvSpPr/>
          <p:nvPr/>
        </p:nvSpPr>
        <p:spPr>
          <a:xfrm>
            <a:off x="7558200" y="2247840"/>
            <a:ext cx="1039680" cy="1798560"/>
          </a:xfrm>
          <a:prstGeom prst="pie">
            <a:avLst/>
          </a:prstGeom>
          <a:solidFill>
            <a:srgbClr val="62a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48"/>
          <p:cNvSpPr/>
          <p:nvPr/>
        </p:nvSpPr>
        <p:spPr>
          <a:xfrm>
            <a:off x="6780240" y="3630600"/>
            <a:ext cx="1558800" cy="1363680"/>
          </a:xfrm>
          <a:prstGeom prst="pie">
            <a:avLst/>
          </a:prstGeom>
          <a:solidFill>
            <a:srgbClr val="589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4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5"/>
          <p:cNvSpPr/>
          <p:nvPr/>
        </p:nvSpPr>
        <p:spPr>
          <a:xfrm>
            <a:off x="5991120" y="2381400"/>
            <a:ext cx="1533600" cy="1533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6"/>
          <p:cNvSpPr/>
          <p:nvPr/>
        </p:nvSpPr>
        <p:spPr>
          <a:xfrm>
            <a:off x="6042600" y="29415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05775"/>
                </a:solidFill>
                <a:latin typeface="Arial"/>
                <a:ea typeface="宋体"/>
              </a:rPr>
              <a:t>Color p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14ED4551-BAFE-4923-B999-4FC577199B1B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262400" y="1413000"/>
            <a:ext cx="43941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ignore the following content as it is dummy tex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3" descr="Schach"/>
          <p:cNvPicPr/>
          <p:nvPr/>
        </p:nvPicPr>
        <p:blipFill>
          <a:blip r:embed="rId2"/>
          <a:srcRect l="0" t="0" r="26025" b="0"/>
          <a:stretch/>
        </p:blipFill>
        <p:spPr>
          <a:xfrm>
            <a:off x="333360" y="1527120"/>
            <a:ext cx="3794040" cy="342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47A1429C-FEEA-495D-AE5C-297770A32CCA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828880" y="1455840"/>
            <a:ext cx="576900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dummy text. Please ignore the following content as it is dummy tex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2828880" y="3476520"/>
            <a:ext cx="57690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dummy text. Please ignore the following content as it is dummy tex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0" descr="Schach"/>
          <p:cNvPicPr/>
          <p:nvPr/>
        </p:nvPicPr>
        <p:blipFill>
          <a:blip r:embed="rId2"/>
          <a:srcRect l="0" t="0" r="5488" b="0"/>
          <a:stretch/>
        </p:blipFill>
        <p:spPr>
          <a:xfrm>
            <a:off x="343080" y="1482840"/>
            <a:ext cx="2338200" cy="165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Schach"/>
          <p:cNvPicPr/>
          <p:nvPr/>
        </p:nvPicPr>
        <p:blipFill>
          <a:blip r:embed="rId3"/>
          <a:srcRect l="0" t="0" r="5488" b="0"/>
          <a:stretch/>
        </p:blipFill>
        <p:spPr>
          <a:xfrm>
            <a:off x="343080" y="3540240"/>
            <a:ext cx="2338200" cy="1650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00160" y="1063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2afd9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075461E1-5F5C-4F60-BA77-40E1E1C851EA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37960" y="1327320"/>
            <a:ext cx="39672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dummy text. Please ignore the following content as it is dummy tex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ext here is meaningless as it is used to fill this slide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ject 11" descr=""/>
          <p:cNvPicPr/>
          <p:nvPr/>
        </p:nvPicPr>
        <p:blipFill>
          <a:blip r:embed="rId2"/>
          <a:stretch/>
        </p:blipFill>
        <p:spPr>
          <a:xfrm>
            <a:off x="4140360" y="1235160"/>
            <a:ext cx="4749480" cy="40640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2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de-DE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de-DE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de-DE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de-DE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de-DE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de-DE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de-DE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de-DE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de-DE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de-DE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62afd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dc:language>en-US</dc:language>
  <cp:lastModifiedBy>微软用户</cp:lastModifiedBy>
  <cp:lastPrinted>2005-03-15T07:48:11Z</cp:lastPrinted>
  <dcterms:modified xsi:type="dcterms:W3CDTF">2015-08-09T01:11:40Z</dcterms:modified>
  <cp:revision>540</cp:revision>
  <dc:subject/>
  <dc:title>Blue Chalk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PPL_Language">
    <vt:r8>1031</vt:r8>
  </property>
</Properties>
</file>