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AF4-EAAC-40A6-B9A1-96E4055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8D7-EA14-43FF-8436-68AC764C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63C-2A48-4FC4-B94E-67EE8B6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7DD-6F36-4B01-B58D-DF4A6F9D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087-2263-4A92-8AA0-5EAA66D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A99-B462-4C92-90D2-67029A6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348-0900-43BE-82EA-AE2F0AC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2CD-FA9D-45E5-9C2C-D422C35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AB0-C761-4887-B6B5-3206FD9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E46-F055-4CB2-8959-8505007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8FD-E053-4DEC-848B-89E4257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611-4E26-44DF-BD05-630E376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AAC-7C7A-42E8-884E-82A86D6532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572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2" descr="clock"/>
          <p:cNvPicPr/>
          <p:nvPr/>
        </p:nvPicPr>
        <p:blipFill>
          <a:blip r:embed="rId2"/>
          <a:stretch/>
        </p:blipFill>
        <p:spPr>
          <a:xfrm>
            <a:off x="2097000" y="17366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0" descr="tools"/>
          <p:cNvPicPr/>
          <p:nvPr/>
        </p:nvPicPr>
        <p:blipFill>
          <a:blip r:embed="rId3"/>
          <a:stretch/>
        </p:blipFill>
        <p:spPr>
          <a:xfrm>
            <a:off x="768240" y="2567160"/>
            <a:ext cx="822600" cy="16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7" descr="graph"/>
          <p:cNvPicPr/>
          <p:nvPr/>
        </p:nvPicPr>
        <p:blipFill>
          <a:blip r:embed="rId4"/>
          <a:stretch/>
        </p:blipFill>
        <p:spPr>
          <a:xfrm>
            <a:off x="1590840" y="3852720"/>
            <a:ext cx="124452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0" descr="browser"/>
          <p:cNvPicPr/>
          <p:nvPr/>
        </p:nvPicPr>
        <p:blipFill>
          <a:blip r:embed="rId5"/>
          <a:stretch/>
        </p:blipFill>
        <p:spPr>
          <a:xfrm>
            <a:off x="3767040" y="4138560"/>
            <a:ext cx="1322640" cy="264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040" y="40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叶背景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4" descr="a18.jpg"/>
          <p:cNvPicPr/>
          <p:nvPr/>
        </p:nvPicPr>
        <p:blipFill>
          <a:blip r:embed="rId1"/>
          <a:stretch/>
        </p:blipFill>
        <p:spPr>
          <a:xfrm>
            <a:off x="-1785960" y="0"/>
            <a:ext cx="18288000" cy="85726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4"/>
          <p:cNvGrpSpPr/>
          <p:nvPr/>
        </p:nvGrpSpPr>
        <p:grpSpPr>
          <a:xfrm>
            <a:off x="2082960" y="3959280"/>
            <a:ext cx="2202840" cy="1523880"/>
            <a:chOff x="2082960" y="3959280"/>
            <a:chExt cx="2202840" cy="1523880"/>
          </a:xfrm>
        </p:grpSpPr>
        <p:sp>
          <p:nvSpPr>
            <p:cNvPr id="50" name="Line 14"/>
            <p:cNvSpPr/>
            <p:nvPr/>
          </p:nvSpPr>
          <p:spPr>
            <a:xfrm>
              <a:off x="3401640" y="3959280"/>
              <a:ext cx="30780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3554280" y="4089600"/>
              <a:ext cx="37116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3543120" y="4708440"/>
              <a:ext cx="74268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2619000" y="4381560"/>
              <a:ext cx="44892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 rot="270000">
              <a:off x="2341080" y="5044680"/>
              <a:ext cx="96948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2"/>
            <p:cNvSpPr/>
            <p:nvPr/>
          </p:nvSpPr>
          <p:spPr>
            <a:xfrm flipV="1">
              <a:off x="2449440" y="4708440"/>
              <a:ext cx="49644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>
              <a:off x="2830320" y="4498920"/>
              <a:ext cx="36324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4"/>
            <p:cNvSpPr/>
            <p:nvPr/>
          </p:nvSpPr>
          <p:spPr>
            <a:xfrm flipV="1">
              <a:off x="2895480" y="4506480"/>
              <a:ext cx="8092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 flipV="1">
              <a:off x="3190680" y="4557600"/>
              <a:ext cx="5425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39"/>
            <p:cNvSpPr/>
            <p:nvPr/>
          </p:nvSpPr>
          <p:spPr>
            <a:xfrm>
              <a:off x="2082960" y="4734000"/>
              <a:ext cx="74268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2729160" y="3931920"/>
            <a:ext cx="208800" cy="995760"/>
            <a:chOff x="2729160" y="3931920"/>
            <a:chExt cx="208800" cy="995760"/>
          </a:xfrm>
        </p:grpSpPr>
        <p:sp>
          <p:nvSpPr>
            <p:cNvPr id="61" name="Line 4"/>
            <p:cNvSpPr/>
            <p:nvPr/>
          </p:nvSpPr>
          <p:spPr>
            <a:xfrm>
              <a:off x="283392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272916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2711880" y="4446720"/>
            <a:ext cx="448560" cy="914400"/>
            <a:chOff x="2711880" y="4446720"/>
            <a:chExt cx="448560" cy="914400"/>
          </a:xfrm>
        </p:grpSpPr>
        <p:sp>
          <p:nvSpPr>
            <p:cNvPr id="64" name="Line 8"/>
            <p:cNvSpPr/>
            <p:nvPr/>
          </p:nvSpPr>
          <p:spPr>
            <a:xfrm flipH="1">
              <a:off x="271188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93544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8"/>
          <p:cNvGrpSpPr/>
          <p:nvPr/>
        </p:nvGrpSpPr>
        <p:grpSpPr>
          <a:xfrm>
            <a:off x="2830680" y="3537000"/>
            <a:ext cx="685800" cy="882720"/>
            <a:chOff x="2830680" y="3537000"/>
            <a:chExt cx="685800" cy="882720"/>
          </a:xfrm>
        </p:grpSpPr>
        <p:sp>
          <p:nvSpPr>
            <p:cNvPr id="67" name="Line 10"/>
            <p:cNvSpPr/>
            <p:nvPr/>
          </p:nvSpPr>
          <p:spPr>
            <a:xfrm flipV="1">
              <a:off x="283068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320868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12"/>
          <p:cNvSpPr/>
          <p:nvPr/>
        </p:nvSpPr>
        <p:spPr>
          <a:xfrm>
            <a:off x="3143160" y="3978360"/>
            <a:ext cx="541440" cy="26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314316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6"/>
          <p:cNvGrpSpPr/>
          <p:nvPr/>
        </p:nvGrpSpPr>
        <p:grpSpPr>
          <a:xfrm>
            <a:off x="2730960" y="3933360"/>
            <a:ext cx="208800" cy="996480"/>
            <a:chOff x="2730960" y="3933360"/>
            <a:chExt cx="208800" cy="996480"/>
          </a:xfrm>
        </p:grpSpPr>
        <p:sp>
          <p:nvSpPr>
            <p:cNvPr id="72" name="Line 27"/>
            <p:cNvSpPr/>
            <p:nvPr/>
          </p:nvSpPr>
          <p:spPr>
            <a:xfrm>
              <a:off x="283572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>
              <a:off x="273096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5"/>
          <p:cNvGrpSpPr/>
          <p:nvPr/>
        </p:nvGrpSpPr>
        <p:grpSpPr>
          <a:xfrm>
            <a:off x="2708640" y="4448160"/>
            <a:ext cx="448560" cy="914400"/>
            <a:chOff x="2708640" y="4448160"/>
            <a:chExt cx="448560" cy="914400"/>
          </a:xfrm>
        </p:grpSpPr>
        <p:sp>
          <p:nvSpPr>
            <p:cNvPr id="75" name="Line 46"/>
            <p:cNvSpPr/>
            <p:nvPr/>
          </p:nvSpPr>
          <p:spPr>
            <a:xfrm flipH="1">
              <a:off x="2708640" y="490500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932200" y="444816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48"/>
          <p:cNvSpPr/>
          <p:nvPr/>
        </p:nvSpPr>
        <p:spPr>
          <a:xfrm>
            <a:off x="392580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>
            <a:off x="3559320" y="5062680"/>
            <a:ext cx="726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245268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1"/>
          <p:cNvSpPr/>
          <p:nvPr/>
        </p:nvSpPr>
        <p:spPr>
          <a:xfrm>
            <a:off x="208296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5"/>
          <p:cNvSpPr/>
          <p:nvPr/>
        </p:nvSpPr>
        <p:spPr>
          <a:xfrm>
            <a:off x="0" y="7858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走着以为是终点的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880">
                                      <p:cBhvr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880">
                                      <p:cBhvr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880">
                                      <p:cBhvr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880">
                                      <p:cBhvr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14699 L -0.64566 -0.14699 E">
                                      <p:cBhvr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" descr="f7a1de6200ed2a0921abc9a7c88267c5.gif"/>
          <p:cNvPicPr/>
          <p:nvPr/>
        </p:nvPicPr>
        <p:blipFill>
          <a:blip r:embed="rId2"/>
          <a:stretch/>
        </p:blipFill>
        <p:spPr>
          <a:xfrm>
            <a:off x="0" y="2428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84" name="云形 3"/>
          <p:cNvSpPr/>
          <p:nvPr/>
        </p:nvSpPr>
        <p:spPr>
          <a:xfrm>
            <a:off x="2643120" y="3286080"/>
            <a:ext cx="4429080" cy="1214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14800" y="3500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身边的人们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每一个终点里都是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B32-7836-4374-866D-9918D01E6F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2010153163138632.gif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7572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571760" y="357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希望能在终点里停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214280" y="20001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但 我 的 步 伐 终 究 没 有 停 下   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143000" y="4071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  仍  然  迷  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35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350"/>
                            </p:stCondLst>
                            <p:childTnLst>
                              <p:par>
                                <p:cTn id="107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35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950"/>
                            </p:stCondLst>
                            <p:childTnLst>
                              <p:par>
                                <p:cTn id="119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55Z</dcterms:created>
  <dc:creator>pc</dc:creator>
  <dc:description/>
  <dc:language>en-US</dc:language>
  <cp:lastModifiedBy>黄炜炜</cp:lastModifiedBy>
  <dcterms:modified xsi:type="dcterms:W3CDTF">2015-08-09T01:11:24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