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79E-D46C-414B-A020-13F3445C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9A83-92B9-46DF-936E-1FACC5EA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99C-3626-4FC2-8DC0-988269F3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604D-F57B-4269-8FD4-ADEC3C1F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A5A8-C0BB-400C-8630-0C485309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98FF-312D-42D1-B259-E4463094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1C93-5818-48E9-9974-8D46CB9B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451E-97BF-4311-98F8-FD5AE868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0D14-62B5-4514-9AD0-8A2F2802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46EA-1193-4B77-A3D6-0B867535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D21A-39DF-42E8-B5AB-D4762FDF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9E1-248F-4A73-A27A-6498AFC3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DA98-5022-4ACC-ACB1-34264A26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8F98-530B-43A0-BBAC-413445B6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9846-042C-4346-8B65-B7269E5E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68AC-A5F6-4626-967F-426F1620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3EF1-0706-42E1-9B67-529B6119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C31-921B-45B2-8494-499E3E13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65C-A0DD-4034-9DE8-414F4972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F60-74B0-4FE2-BE25-2DF45FCA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9604-9ABC-4CE7-AD11-49F023F1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38B-2424-4E51-A53E-7BD14E67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7C3-B198-4A23-8425-B045B8A6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B72-7EEA-4E5E-A41E-AAEF8C07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130A-89D5-45CB-90AE-EA21E483AEE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C752-A084-4092-A95D-03C99C3F9A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 rot="21232200">
            <a:off x="443880" y="72396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你的工作</a:t>
            </a:r>
            <a:r>
              <a:rPr b="1" lang="en-US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=</a:t>
            </a: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度假</a:t>
            </a:r>
            <a:r>
              <a:rPr b="1" lang="en-US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 </a:t>
            </a: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 rot="21232200">
            <a:off x="443880" y="72396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你的工作</a:t>
            </a:r>
            <a:r>
              <a:rPr b="1" lang="en-US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=</a:t>
            </a: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度假</a:t>
            </a:r>
            <a:r>
              <a:rPr b="1" lang="en-US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 </a:t>
            </a: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 rot="316800">
            <a:off x="440280" y="1379520"/>
            <a:ext cx="8839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华文琥珀"/>
                <a:ea typeface="华文琥珀"/>
              </a:rPr>
              <a:t>做一个快乐的工作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Kozuka Gothic Pr6N EL"/>
                <a:ea typeface="Kozuka Gothic Pr6N E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 rot="21157200">
            <a:off x="3080880" y="3366720"/>
            <a:ext cx="569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华文琥珀"/>
                <a:ea typeface="华文琥珀"/>
              </a:rPr>
              <a:t>做一个工作像度假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4"/>
          <p:cNvSpPr/>
          <p:nvPr/>
        </p:nvSpPr>
        <p:spPr>
          <a:xfrm>
            <a:off x="3456000" y="549360"/>
            <a:ext cx="26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Adobe Gothic Std B"/>
                <a:ea typeface="Adobe Gothic Std B"/>
              </a:rPr>
              <a:t>NO</a:t>
            </a:r>
            <a:r>
              <a:rPr b="0" lang="zh-CN" sz="4000" spc="-1" strike="noStrike">
                <a:solidFill>
                  <a:srgbClr val="404040"/>
                </a:solidFill>
                <a:latin typeface="Kozuka Gothic Pro B"/>
                <a:ea typeface="Kozuka Gothic Pro B"/>
              </a:rPr>
              <a:t>抱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4692600" y="1614600"/>
            <a:ext cx="405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040"/>
                </a:solidFill>
                <a:latin typeface="Kozuka Gothic Pr6N EL"/>
                <a:ea typeface="Kozuka Gothic Pr6N EL"/>
              </a:rPr>
              <a:t>Let’s 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179280" y="42156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方正姚体"/>
                <a:ea typeface="方正姚体"/>
              </a:rPr>
              <a:t>成就感——忘记工作的抱怨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2997000" y="1989000"/>
            <a:ext cx="47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方正姚体"/>
                <a:ea typeface="方正姚体"/>
              </a:rPr>
              <a:t>那种感觉绝对比度假要舒服</a:t>
            </a:r>
            <a:r>
              <a:rPr b="1" lang="en-US" sz="4000" spc="-1" strike="noStrike">
                <a:solidFill>
                  <a:srgbClr val="404040"/>
                </a:solidFill>
                <a:latin typeface="方正姚体"/>
                <a:ea typeface="方正姚体"/>
              </a:rPr>
              <a:t>N</a:t>
            </a:r>
            <a:r>
              <a:rPr b="1" lang="zh-CN" sz="4000" spc="-1" strike="noStrike">
                <a:solidFill>
                  <a:srgbClr val="404040"/>
                </a:solidFill>
                <a:latin typeface="方正姚体"/>
                <a:ea typeface="方正姚体"/>
              </a:rPr>
              <a:t>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54C-3755-48D4-9D94-F5F0CF3D06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3492360" y="6251400"/>
            <a:ext cx="62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be or not to be, to do or </a:t>
            </a: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不想</a:t>
            </a: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do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 rot="915600">
            <a:off x="2017440" y="2336760"/>
            <a:ext cx="566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你的工作像度假吗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微软用户</cp:lastModifiedBy>
  <dcterms:modified xsi:type="dcterms:W3CDTF">2015-08-09T01:09:02Z</dcterms:modified>
  <cp:revision>18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