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12F-45E4-433C-A23B-73461E65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FD4-89E4-420B-A500-B92464BA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0A6-B899-4581-80CF-316B2A1F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59E-576A-4508-A139-CA956B3A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13A-AC7B-4D86-8EC7-6B26B78C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54C-4925-4A9F-ACBD-16C77BFE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669-8006-4709-8213-25D4D092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BB2-5A9B-436B-B191-729C2742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B4E-DD82-4031-B6FA-5C62EB75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048-D65B-43BF-A893-E6D3E821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B93-2D49-4029-B9B0-643E98BF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483-FAEF-4567-9613-B4A5FAC6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D344-14EA-47FB-A0D2-7CC0938CD62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D3DE-255F-4932-B4B8-23584EF60AD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908000" y="16286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年终述职报告汇报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643200" y="25002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工作总结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5"/>
          <p:cNvSpPr/>
          <p:nvPr/>
        </p:nvSpPr>
        <p:spPr>
          <a:xfrm flipV="1">
            <a:off x="3643200" y="2503080"/>
            <a:ext cx="2500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357800" y="2928960"/>
            <a:ext cx="1428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229788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5832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29804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58396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940840" y="1714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265500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2981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358380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122616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9816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44072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08368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15520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86972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94108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36916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208368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458388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5F7-F081-4E67-A5C4-15CBA629C2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44080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265500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583880" y="2214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36968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0:15Z</dcterms:modified>
  <cp:revision>8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