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0DBA-5EE2-4EC7-923B-CBB2C9DDB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39EB-071C-41A4-B62D-C9FF6B17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F8E9-7F8E-483F-90D8-6A7FDBB0F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F696-EE9B-4D30-9AAE-791728285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1F27-8972-4C48-B8C1-A79CAAE7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A494-BCE6-4CE4-96DE-9FE3E5E5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82FD-EEAC-4684-93F9-CD61D31D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97E7-57BD-4DD3-B5CE-6B793552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A222-DBB8-4101-88D0-888663B4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D699-1C21-47C8-8C69-F64A0289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7968-6010-453B-8794-9DA02901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ADF0-69E3-420A-886F-1C4FF0C3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C28B-EFAB-46DA-AF5E-30780F0512B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8D9A-45D1-4AE6-AB4A-BA1CDDBDFF5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soaphoteldonati-090607202852-phpapp01-slide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55600" y="117360"/>
            <a:ext cx="689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欧美风卓别林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587700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soaphoteldonati-090607202852-phpapp01-slide-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soaphoteldonati-090607202852-phpapp01-slide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soaphoteldonati-090607202852-phpapp01-slide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soaphoteldonati-090607202852-phpapp01-slide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soaphoteldonati-090607202852-phpapp01-slide-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soaphoteldonati-090607202852-phpapp01-slide-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soaphoteldonati-090607202852-phpapp01-slide-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0000" y="2781360"/>
            <a:ext cx="528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动态ppt模板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soaphoteldonati-090607202852-phpapp01-slide-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F46E-43F0-47EC-8A37-71F8BFF8D5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1T00:53:00Z</dcterms:created>
  <dc:creator>hp</dc:creator>
  <dc:description/>
  <dc:language>en-US</dc:language>
  <cp:lastModifiedBy>微软用户</cp:lastModifiedBy>
  <dcterms:modified xsi:type="dcterms:W3CDTF">2015-08-10T01:34:28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