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5904-049F-446D-AAB0-1FCBD7F99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EF77-D392-46F2-9238-4212A9C17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4D3B-FC2F-453F-8CF5-73E74FBD7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D9ED-F609-4C05-B269-937756E24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1676-820F-49C7-9FEE-8A0CFFA03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6AD5-B636-4A5E-8126-32E3F43F9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B913-4216-4F8D-9903-A36FF3BE2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9359-5A88-4AC4-8EEA-BB762C05C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9B2D-1792-4215-BD8E-D1743F865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80A2-B7F3-411B-8E6C-DF0F68AEC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516C-1D20-49C4-BB20-6A4EA996A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7140-CE5E-4D72-8E77-648D6EB6C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327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479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76960" y="6356520"/>
            <a:ext cx="327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35211-E8C2-47D6-9603-560F3D1B630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3" descr="1.jpg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533040" y="911160"/>
            <a:ext cx="5395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Calibri"/>
              </a:rPr>
              <a:t>欧美企业公司办公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Calibri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图片 3" descr="2.jpg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3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图片 2" descr="4.jpg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222200" y="154080"/>
            <a:ext cx="4434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3" descr="5.jpg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4960" y="189000"/>
            <a:ext cx="1094292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4360" y="1269720"/>
            <a:ext cx="1190304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9715680" y="333360"/>
            <a:ext cx="185256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E730-5241-45B4-900B-0D39C39A2F0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图片 5" descr="6 副本.jpg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9:31Z</dcterms:created>
  <dc:creator>zuazua W</dc:creator>
  <dc:description/>
  <dc:language>en-US</dc:language>
  <cp:lastModifiedBy>123</cp:lastModifiedBy>
  <dcterms:modified xsi:type="dcterms:W3CDTF">2015-08-09T01:10:30Z</dcterms:modified>
  <cp:revision>3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