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2B5-FC98-43FA-A548-72DD2469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AFA-1594-452F-B7BC-4A0811AC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92C-96F0-4BDD-B021-971D5840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5A1-970B-4FA7-B862-575F5D93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6DC-5405-48B5-85A4-5B036472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086-4833-4309-A5D5-054DD31C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88C-F84F-4AD9-BE31-B440167F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2CE-32C2-4A6E-99FE-86C5013A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A02-9BD0-4C52-938C-A709B626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0E7-69A7-437B-BA0C-F83017D1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514-1E87-44AD-8644-70669381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CCE-B781-4DE4-8F1D-4227F41B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F600-F544-4A9C-BBED-7E52FAD25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1087560" y="-241200"/>
            <a:ext cx="11319120" cy="7350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360" y="1341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欧美艺术设计创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087560" y="-158760"/>
            <a:ext cx="11319120" cy="71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087560" y="-222120"/>
            <a:ext cx="11319120" cy="73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1087560" y="-230040"/>
            <a:ext cx="11319120" cy="732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-1087560" y="-241200"/>
            <a:ext cx="11319120" cy="73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1E2-7356-46C8-9A55-0618B505D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087560" y="-241200"/>
            <a:ext cx="11319120" cy="73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2:32:26Z</dcterms:created>
  <dc:creator>053648</dc:creator>
  <dc:description/>
  <dc:language>en-US</dc:language>
  <cp:lastModifiedBy>微软中国</cp:lastModifiedBy>
  <dcterms:modified xsi:type="dcterms:W3CDTF">2015-08-09T01:10:38Z</dcterms:modified>
  <cp:revision>2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