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E04-1BE4-4C8B-80BD-E23395E8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BE0-302F-44FF-BA29-699139A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C0D-FC85-44C4-AF0C-EB52F148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67B-48C2-4228-BF7E-9C135723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665-E027-4047-98D3-AEB0965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BF6-F1C7-4B45-90CA-A0D48623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CB8-1153-4A73-970E-03476318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DF8-EA22-4056-81B8-EE5D5E77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613-F942-43E6-A58A-4BF6A8A5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C70-4382-40DC-9E7A-DF8D096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39C-FC70-4C3A-84B0-56749460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3B5-7175-4998-88CD-80CC0B0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484-C54C-4C22-9C29-9EC8A802A1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71002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50553.htm" TargetMode="External"/><Relationship Id="rId3" Type="http://schemas.openxmlformats.org/officeDocument/2006/relationships/hyperlink" Target="http://baike.baidu.com/view/1410852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407196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七夕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14800" y="45720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26960" y="11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七夕爱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BBA-FE14-4D3B-90E7-7C9B07BAFC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5" descr="13212066_091307118000_2.jpg"/>
          <p:cNvPicPr/>
          <p:nvPr/>
        </p:nvPicPr>
        <p:blipFill>
          <a:blip r:embed="rId2"/>
          <a:stretch/>
        </p:blipFill>
        <p:spPr>
          <a:xfrm>
            <a:off x="1285920" y="1357200"/>
            <a:ext cx="647388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流程图: 文档 10"/>
          <p:cNvSpPr/>
          <p:nvPr/>
        </p:nvSpPr>
        <p:spPr>
          <a:xfrm>
            <a:off x="928800" y="1785960"/>
            <a:ext cx="7429320" cy="2357280"/>
          </a:xfrm>
          <a:prstGeom prst="flowChartDocument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夕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500120" y="2259000"/>
            <a:ext cx="607212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夕节，又名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乞巧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七巧节或七姐诞，发源于中国，是华人地区以及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汉族文化影响的东亚国家传统节日，农历七月七日夜或七月六日夜妇女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庭院向织女星乞求智巧，故称为“”乞巧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1"/>
          <p:cNvSpPr/>
          <p:nvPr/>
        </p:nvSpPr>
        <p:spPr>
          <a:xfrm>
            <a:off x="928800" y="1857240"/>
            <a:ext cx="428400" cy="21456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2"/>
          <p:cNvSpPr/>
          <p:nvPr/>
        </p:nvSpPr>
        <p:spPr>
          <a:xfrm>
            <a:off x="928800" y="242892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3"/>
          <p:cNvSpPr/>
          <p:nvPr/>
        </p:nvSpPr>
        <p:spPr>
          <a:xfrm>
            <a:off x="928800" y="285768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4"/>
          <p:cNvSpPr/>
          <p:nvPr/>
        </p:nvSpPr>
        <p:spPr>
          <a:xfrm>
            <a:off x="928800" y="335772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928800" y="371484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6"/>
          <p:cNvSpPr/>
          <p:nvPr/>
        </p:nvSpPr>
        <p:spPr>
          <a:xfrm>
            <a:off x="928800" y="4143240"/>
            <a:ext cx="71424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8"/>
          <p:cNvSpPr/>
          <p:nvPr/>
        </p:nvSpPr>
        <p:spPr>
          <a:xfrm>
            <a:off x="928800" y="4572000"/>
            <a:ext cx="71424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857160" y="1828800"/>
            <a:ext cx="735804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七：此日月、日皆为七，故称，也称重七。香日：俗传七夕牛女相会，织女要梳妆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扮、涂脂抹粉，以至满天飘香，故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期：牛郎织女二星所在的方位特别，一年才能一相遇，故称这一日为星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巧夕：因七夕有乞巧的风俗，故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节：七夕节以少女拜仙及乞巧、赛巧等为主要节俗活动，故称女节，亦称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女儿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少女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兰夜：农历七月古称“兰月”，故七夕又称“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兰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儿节：因为乞巧、乞文等俗多由少女、童子为之，故称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针节：因为这天有穿针的习俗，故称。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9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左大括号 19"/>
          <p:cNvSpPr/>
          <p:nvPr/>
        </p:nvSpPr>
        <p:spPr>
          <a:xfrm>
            <a:off x="428760" y="2000160"/>
            <a:ext cx="357120" cy="2786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51480 h 2786040"/>
              <a:gd name="textAreaBottom" fmla="*/ 273456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2"/>
                  <a:pt x="10800" y="1284"/>
                </a:cubicBezTo>
                <a:lnTo>
                  <a:pt x="10800" y="9516"/>
                </a:lnTo>
                <a:cubicBezTo>
                  <a:pt x="10800" y="10158"/>
                  <a:pt x="5400" y="10800"/>
                  <a:pt x="0" y="10800"/>
                </a:cubicBezTo>
                <a:cubicBezTo>
                  <a:pt x="5400" y="10800"/>
                  <a:pt x="10800" y="11442"/>
                  <a:pt x="10800" y="12084"/>
                </a:cubicBezTo>
                <a:lnTo>
                  <a:pt x="10800" y="20316"/>
                </a:lnTo>
                <a:cubicBezTo>
                  <a:pt x="10800" y="209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b54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1643040" y="4143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针乞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1" descr="1281988710_AAmf6t.jpg"/>
          <p:cNvPicPr/>
          <p:nvPr/>
        </p:nvPicPr>
        <p:blipFill>
          <a:blip r:embed="rId2"/>
          <a:stretch/>
        </p:blipFill>
        <p:spPr>
          <a:xfrm>
            <a:off x="1143000" y="2357280"/>
            <a:ext cx="2235240" cy="15130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2" descr="qixiqiqiaotu(2).jpg"/>
          <p:cNvPicPr/>
          <p:nvPr/>
        </p:nvPicPr>
        <p:blipFill>
          <a:blip r:embed="rId3"/>
          <a:stretch/>
        </p:blipFill>
        <p:spPr>
          <a:xfrm>
            <a:off x="3786120" y="2382840"/>
            <a:ext cx="1970280" cy="1474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3"/>
          <p:cNvSpPr/>
          <p:nvPr/>
        </p:nvSpPr>
        <p:spPr>
          <a:xfrm>
            <a:off x="4286160" y="41306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拜织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5" descr="u=3280869929,164404997&amp;fm=15&amp;gp=0.jpg"/>
          <p:cNvPicPr/>
          <p:nvPr/>
        </p:nvPicPr>
        <p:blipFill>
          <a:blip r:embed="rId4"/>
          <a:stretch/>
        </p:blipFill>
        <p:spPr>
          <a:xfrm>
            <a:off x="6221520" y="2428920"/>
            <a:ext cx="1850760" cy="1413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6643800" y="4071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扎巧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歌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71680" y="1785960"/>
            <a:ext cx="6429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手巧，乞貌巧；乞心通，乞颜容；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乞我爹娘千百岁；乞我姊妹千万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皇皇地皇皇，俺请七姐姐下天堂。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不图你的针，不图你的线，光学你的七十二样好手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巧芽芽，生的怪。盆盆生，手中盖；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七月七日摘下来，姐姐妹妹照影来。又像花，又像菜，看谁心灵手儿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1" descr="19300001332062131242905757163_950.jpg"/>
          <p:cNvPicPr/>
          <p:nvPr/>
        </p:nvPicPr>
        <p:blipFill>
          <a:blip r:embed="rId2"/>
          <a:stretch/>
        </p:blipFill>
        <p:spPr>
          <a:xfrm>
            <a:off x="5572080" y="142920"/>
            <a:ext cx="34434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 形 10"/>
          <p:cNvSpPr/>
          <p:nvPr/>
        </p:nvSpPr>
        <p:spPr>
          <a:xfrm rot="18976800">
            <a:off x="3992400" y="92520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 形 11"/>
          <p:cNvSpPr/>
          <p:nvPr/>
        </p:nvSpPr>
        <p:spPr>
          <a:xfrm rot="18976800">
            <a:off x="2711520" y="213984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 形 12"/>
          <p:cNvSpPr/>
          <p:nvPr/>
        </p:nvSpPr>
        <p:spPr>
          <a:xfrm rot="18976800">
            <a:off x="5207040" y="221760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 形 13"/>
          <p:cNvSpPr/>
          <p:nvPr/>
        </p:nvSpPr>
        <p:spPr>
          <a:xfrm rot="18976800">
            <a:off x="3921120" y="342540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640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2999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对角圆角矩形 14"/>
          <p:cNvSpPr/>
          <p:nvPr/>
        </p:nvSpPr>
        <p:spPr>
          <a:xfrm>
            <a:off x="1857240" y="3500280"/>
            <a:ext cx="1865520" cy="1865520"/>
          </a:xfrm>
          <a:custGeom>
            <a:avLst/>
            <a:gdLst/>
            <a:ahLst/>
            <a:rect l="l" t="t" r="r" b="b"/>
            <a:pathLst>
              <a:path w="1865313" h="1865312">
                <a:moveTo>
                  <a:pt x="932656" y="0"/>
                </a:moveTo>
                <a:lnTo>
                  <a:pt x="1865313" y="0"/>
                </a:lnTo>
                <a:lnTo>
                  <a:pt x="1865313" y="0"/>
                </a:lnTo>
                <a:lnTo>
                  <a:pt x="1865313" y="932656"/>
                </a:lnTo>
                <a:cubicBezTo>
                  <a:pt x="1865313" y="1447748"/>
                  <a:pt x="1447749" y="1865312"/>
                  <a:pt x="932657" y="1865312"/>
                </a:cubicBezTo>
                <a:lnTo>
                  <a:pt x="0" y="1865312"/>
                </a:lnTo>
                <a:lnTo>
                  <a:pt x="0" y="1865312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对角圆角矩形 15"/>
          <p:cNvSpPr/>
          <p:nvPr/>
        </p:nvSpPr>
        <p:spPr>
          <a:xfrm>
            <a:off x="3722760" y="2259000"/>
            <a:ext cx="1865160" cy="1865160"/>
          </a:xfrm>
          <a:custGeom>
            <a:avLst/>
            <a:gdLst/>
            <a:ahLst/>
            <a:rect l="l" t="t" r="r" b="b"/>
            <a:pathLst>
              <a:path w="1865312" h="1865312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6"/>
                </a:lnTo>
                <a:cubicBezTo>
                  <a:pt x="1865312" y="1447748"/>
                  <a:pt x="1447748" y="1865312"/>
                  <a:pt x="932656" y="1865312"/>
                </a:cubicBezTo>
                <a:lnTo>
                  <a:pt x="0" y="1865312"/>
                </a:lnTo>
                <a:lnTo>
                  <a:pt x="0" y="1865312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对角圆角矩形 16"/>
          <p:cNvSpPr/>
          <p:nvPr/>
        </p:nvSpPr>
        <p:spPr>
          <a:xfrm>
            <a:off x="5580000" y="1000080"/>
            <a:ext cx="1865520" cy="1865520"/>
          </a:xfrm>
          <a:custGeom>
            <a:avLst/>
            <a:gdLst/>
            <a:ahLst/>
            <a:rect l="l" t="t" r="r" b="b"/>
            <a:pathLst>
              <a:path w="1865312" h="1865313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7"/>
                </a:lnTo>
                <a:cubicBezTo>
                  <a:pt x="1865312" y="1447749"/>
                  <a:pt x="1447748" y="1865313"/>
                  <a:pt x="932656" y="1865313"/>
                </a:cubicBezTo>
                <a:lnTo>
                  <a:pt x="0" y="1865313"/>
                </a:lnTo>
                <a:lnTo>
                  <a:pt x="0" y="1865313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426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069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19"/>
          <p:cNvGrpSpPr/>
          <p:nvPr/>
        </p:nvGrpSpPr>
        <p:grpSpPr>
          <a:xfrm>
            <a:off x="2071800" y="1400040"/>
            <a:ext cx="5567400" cy="3814920"/>
            <a:chOff x="2071800" y="1400040"/>
            <a:chExt cx="5567400" cy="3814920"/>
          </a:xfrm>
        </p:grpSpPr>
        <p:sp>
          <p:nvSpPr>
            <p:cNvPr id="111" name="流程图: 决策 14"/>
            <p:cNvSpPr/>
            <p:nvPr/>
          </p:nvSpPr>
          <p:spPr>
            <a:xfrm>
              <a:off x="2690640" y="1855440"/>
              <a:ext cx="4311720" cy="2892600"/>
            </a:xfrm>
            <a:prstGeom prst="flowChartDecision">
              <a:avLst/>
            </a:prstGeom>
            <a:noFill/>
            <a:ln w="25560">
              <a:solidFill>
                <a:srgbClr val="fb5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流程图: 决策 15"/>
            <p:cNvSpPr/>
            <p:nvPr/>
          </p:nvSpPr>
          <p:spPr>
            <a:xfrm>
              <a:off x="2071800" y="1400040"/>
              <a:ext cx="2263680" cy="15159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流程图: 决策 16"/>
            <p:cNvSpPr/>
            <p:nvPr/>
          </p:nvSpPr>
          <p:spPr>
            <a:xfrm>
              <a:off x="5375520" y="1414080"/>
              <a:ext cx="2263680" cy="15177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流程图: 决策 17"/>
            <p:cNvSpPr/>
            <p:nvPr/>
          </p:nvSpPr>
          <p:spPr>
            <a:xfrm>
              <a:off x="2104920" y="3699000"/>
              <a:ext cx="2263680" cy="15159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流程图: 决策 18"/>
            <p:cNvSpPr/>
            <p:nvPr/>
          </p:nvSpPr>
          <p:spPr>
            <a:xfrm>
              <a:off x="5342040" y="3699000"/>
              <a:ext cx="2263680" cy="15159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784960" y="42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997960" y="42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6071040" y="19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2640600" y="19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4426560" y="31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剪去同侧角的矩形 14"/>
          <p:cNvSpPr/>
          <p:nvPr/>
        </p:nvSpPr>
        <p:spPr>
          <a:xfrm rot="16200000">
            <a:off x="892800" y="2178720"/>
            <a:ext cx="4214880" cy="2428920"/>
          </a:xfrm>
          <a:custGeom>
            <a:avLst/>
            <a:gdLst/>
            <a:ahLst/>
            <a:rect l="l" t="t" r="r" b="b"/>
            <a:pathLst>
              <a:path w="4214813" h="2428875">
                <a:moveTo>
                  <a:pt x="1214438" y="0"/>
                </a:moveTo>
                <a:lnTo>
                  <a:pt x="3000376" y="0"/>
                </a:lnTo>
                <a:lnTo>
                  <a:pt x="4214813" y="1214438"/>
                </a:lnTo>
                <a:lnTo>
                  <a:pt x="4214813" y="2428875"/>
                </a:lnTo>
                <a:lnTo>
                  <a:pt x="4214813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剪去同侧角的矩形 15"/>
          <p:cNvSpPr/>
          <p:nvPr/>
        </p:nvSpPr>
        <p:spPr>
          <a:xfrm flipH="1" flipV="1" rot="16200000">
            <a:off x="4321080" y="2178720"/>
            <a:ext cx="4214880" cy="2428920"/>
          </a:xfrm>
          <a:custGeom>
            <a:avLst/>
            <a:gdLst/>
            <a:ahLst/>
            <a:rect l="l" t="t" r="r" b="b"/>
            <a:pathLst>
              <a:path w="4214813" h="2428875">
                <a:moveTo>
                  <a:pt x="1214438" y="0"/>
                </a:moveTo>
                <a:lnTo>
                  <a:pt x="3000376" y="0"/>
                </a:lnTo>
                <a:lnTo>
                  <a:pt x="4214813" y="1214438"/>
                </a:lnTo>
                <a:lnTo>
                  <a:pt x="4214813" y="2428875"/>
                </a:lnTo>
                <a:lnTo>
                  <a:pt x="4214813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16"/>
          <p:cNvSpPr/>
          <p:nvPr/>
        </p:nvSpPr>
        <p:spPr>
          <a:xfrm>
            <a:off x="4429080" y="3000240"/>
            <a:ext cx="65412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 .</cp:lastModifiedBy>
  <dcterms:modified xsi:type="dcterms:W3CDTF">2015-08-09T01:08:49Z</dcterms:modified>
  <cp:revision>3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