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BB7-6F9F-43DF-8511-51BD0C28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9D1-1778-457E-9AD8-3ED8DCA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B13-CF7C-4832-AD47-49FEAEDC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201-CB85-4FD7-943E-282C8E48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F2E-5136-42BA-B92E-683DAD05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0D5-72CB-40B9-BD67-59C54E94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73C-2EA4-458B-B101-999C5351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4E7-8A4F-44AA-850B-57EC89EA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AA0-9A4F-4EA4-8542-AD0BE00D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9F0-F64F-419F-B1CD-44D8E58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FC6-6EE6-4AF5-B38E-A82633A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DB5-DFC2-4606-84BD-0698CB74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流程图: 文档 7"/>
          <p:cNvSpPr/>
          <p:nvPr/>
        </p:nvSpPr>
        <p:spPr>
          <a:xfrm rot="10800000">
            <a:off x="0" y="6030720"/>
            <a:ext cx="9144000" cy="826920"/>
          </a:xfrm>
          <a:custGeom>
            <a:avLst/>
            <a:gdLst/>
            <a:ahLst/>
            <a:rect l="l" t="t" r="r" b="b"/>
            <a:pathLst>
              <a:path w="21600" h="13328">
                <a:moveTo>
                  <a:pt x="0" y="0"/>
                </a:moveTo>
                <a:lnTo>
                  <a:pt x="21600" y="0"/>
                </a:lnTo>
                <a:lnTo>
                  <a:pt x="21600" y="7365"/>
                </a:lnTo>
                <a:cubicBezTo>
                  <a:pt x="10800" y="7365"/>
                  <a:pt x="10800" y="16147"/>
                  <a:pt x="0" y="12397"/>
                </a:cubicBezTo>
                <a:lnTo>
                  <a:pt x="0" y="0"/>
                </a:lnTo>
                <a:close/>
              </a:path>
            </a:pathLst>
          </a:custGeom>
          <a:solidFill>
            <a:srgbClr val="798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798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任意多边形 9"/>
          <p:cNvSpPr/>
          <p:nvPr/>
        </p:nvSpPr>
        <p:spPr>
          <a:xfrm>
            <a:off x="17640" y="255600"/>
            <a:ext cx="9134280" cy="436680"/>
          </a:xfrm>
          <a:custGeom>
            <a:avLst/>
            <a:gdLst/>
            <a:ahLst/>
            <a:rect l="l" t="t" r="r" b="b"/>
            <a:pathLst>
              <a:path w="9135534" h="436971">
                <a:moveTo>
                  <a:pt x="0" y="246128"/>
                </a:moveTo>
                <a:cubicBezTo>
                  <a:pt x="194028" y="353372"/>
                  <a:pt x="388056" y="460617"/>
                  <a:pt x="694267" y="432395"/>
                </a:cubicBezTo>
                <a:cubicBezTo>
                  <a:pt x="1000478" y="404173"/>
                  <a:pt x="1152878" y="76795"/>
                  <a:pt x="1837267" y="76795"/>
                </a:cubicBezTo>
                <a:cubicBezTo>
                  <a:pt x="2521656" y="76795"/>
                  <a:pt x="4038600" y="440862"/>
                  <a:pt x="4800600" y="432395"/>
                </a:cubicBezTo>
                <a:cubicBezTo>
                  <a:pt x="5562600" y="423928"/>
                  <a:pt x="5923845" y="40106"/>
                  <a:pt x="6409267" y="25995"/>
                </a:cubicBezTo>
                <a:cubicBezTo>
                  <a:pt x="6894689" y="11884"/>
                  <a:pt x="7429501" y="347728"/>
                  <a:pt x="7713134" y="347728"/>
                </a:cubicBezTo>
                <a:cubicBezTo>
                  <a:pt x="7996767" y="347728"/>
                  <a:pt x="8034867" y="31639"/>
                  <a:pt x="8111067" y="25995"/>
                </a:cubicBezTo>
                <a:cubicBezTo>
                  <a:pt x="8187267" y="20351"/>
                  <a:pt x="8102601" y="318095"/>
                  <a:pt x="8170334" y="313862"/>
                </a:cubicBezTo>
                <a:cubicBezTo>
                  <a:pt x="8238067" y="309629"/>
                  <a:pt x="8422923" y="14706"/>
                  <a:pt x="8517467" y="595"/>
                </a:cubicBezTo>
                <a:cubicBezTo>
                  <a:pt x="8612011" y="-13516"/>
                  <a:pt x="8634589" y="227784"/>
                  <a:pt x="8737600" y="229195"/>
                </a:cubicBezTo>
                <a:cubicBezTo>
                  <a:pt x="8840611" y="230606"/>
                  <a:pt x="8988072" y="119834"/>
                  <a:pt x="9135534" y="9062"/>
                </a:cubicBezTo>
              </a:path>
            </a:pathLst>
          </a:custGeom>
          <a:noFill/>
          <a:ln w="12600">
            <a:solidFill>
              <a:srgbClr val="7989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E096-84DC-4F1B-B551-8B15ADB854E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2311920" y="2276640"/>
            <a:ext cx="53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98947"/>
                </a:solidFill>
                <a:latin typeface="幼圆"/>
                <a:ea typeface="幼圆"/>
              </a:rPr>
              <a:t>清新橄榄绿报告</a:t>
            </a:r>
            <a:r>
              <a:rPr b="0" lang="zh-CN" sz="4000" spc="-1" strike="noStrike">
                <a:solidFill>
                  <a:srgbClr val="798947"/>
                </a:solidFill>
                <a:latin typeface="幼圆"/>
                <a:ea typeface="幼圆"/>
              </a:rPr>
              <a:t>PPT</a:t>
            </a:r>
            <a:r>
              <a:rPr b="0" lang="zh-CN" sz="4000" spc="-1" strike="noStrike">
                <a:solidFill>
                  <a:srgbClr val="798947"/>
                </a:solidFill>
                <a:latin typeface="幼圆"/>
                <a:ea typeface="幼圆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241320" y="5102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98947"/>
                </a:solidFill>
                <a:latin typeface="幼圆"/>
                <a:ea typeface="幼圆"/>
              </a:rPr>
              <a:t>单位名称：</a:t>
            </a:r>
            <a:r>
              <a:rPr b="0" lang="en-US" sz="1800" spc="-1" strike="noStrike">
                <a:solidFill>
                  <a:srgbClr val="798947"/>
                </a:solidFill>
                <a:latin typeface="幼圆"/>
                <a:ea typeface="幼圆"/>
              </a:rPr>
              <a:t>PP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001960" y="1204920"/>
            <a:ext cx="4412880" cy="703440"/>
            <a:chOff x="2001960" y="1204920"/>
            <a:chExt cx="4412880" cy="703440"/>
          </a:xfrm>
        </p:grpSpPr>
        <p:sp>
          <p:nvSpPr>
            <p:cNvPr id="49" name="对角圆角矩形 3"/>
            <p:cNvSpPr/>
            <p:nvPr/>
          </p:nvSpPr>
          <p:spPr>
            <a:xfrm>
              <a:off x="2001960" y="148068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4"/>
            <p:cNvSpPr/>
            <p:nvPr/>
          </p:nvSpPr>
          <p:spPr>
            <a:xfrm>
              <a:off x="3064680" y="120492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1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001960" y="2349360"/>
            <a:ext cx="4412880" cy="703440"/>
            <a:chOff x="2001960" y="2349360"/>
            <a:chExt cx="4412880" cy="703440"/>
          </a:xfrm>
        </p:grpSpPr>
        <p:sp>
          <p:nvSpPr>
            <p:cNvPr id="52" name="对角圆角矩形 7"/>
            <p:cNvSpPr/>
            <p:nvPr/>
          </p:nvSpPr>
          <p:spPr>
            <a:xfrm>
              <a:off x="2001960" y="262512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8"/>
            <p:cNvSpPr/>
            <p:nvPr/>
          </p:nvSpPr>
          <p:spPr>
            <a:xfrm>
              <a:off x="3064680" y="234936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2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001960" y="3573360"/>
            <a:ext cx="4412880" cy="703440"/>
            <a:chOff x="2001960" y="3573360"/>
            <a:chExt cx="4412880" cy="703440"/>
          </a:xfrm>
        </p:grpSpPr>
        <p:sp>
          <p:nvSpPr>
            <p:cNvPr id="55" name="对角圆角矩形 10"/>
            <p:cNvSpPr/>
            <p:nvPr/>
          </p:nvSpPr>
          <p:spPr>
            <a:xfrm>
              <a:off x="2001960" y="384912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Box 11"/>
            <p:cNvSpPr/>
            <p:nvPr/>
          </p:nvSpPr>
          <p:spPr>
            <a:xfrm>
              <a:off x="3064680" y="357336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3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001960" y="4797360"/>
            <a:ext cx="4412880" cy="703440"/>
            <a:chOff x="2001960" y="4797360"/>
            <a:chExt cx="4412880" cy="703440"/>
          </a:xfrm>
        </p:grpSpPr>
        <p:sp>
          <p:nvSpPr>
            <p:cNvPr id="58" name="对角圆角矩形 13"/>
            <p:cNvSpPr/>
            <p:nvPr/>
          </p:nvSpPr>
          <p:spPr>
            <a:xfrm>
              <a:off x="2001960" y="507312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4"/>
            <p:cNvSpPr/>
            <p:nvPr/>
          </p:nvSpPr>
          <p:spPr>
            <a:xfrm>
              <a:off x="3064680" y="479736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4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120-A7DB-446F-9B8E-C88BE94F62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426960" y="1560600"/>
            <a:ext cx="5126040" cy="3906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6572160" y="90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8947"/>
                </a:solidFill>
                <a:latin typeface="幼圆"/>
                <a:ea typeface="幼圆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582600" y="1979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582600" y="266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6582600" y="3416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582600" y="4181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8"/>
          <p:cNvSpPr/>
          <p:nvPr/>
        </p:nvSpPr>
        <p:spPr>
          <a:xfrm flipV="1">
            <a:off x="5867280" y="1628280"/>
            <a:ext cx="0" cy="3816360"/>
          </a:xfrm>
          <a:prstGeom prst="line">
            <a:avLst/>
          </a:prstGeom>
          <a:ln w="15840">
            <a:solidFill>
              <a:srgbClr val="7989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20:49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清新 简洁 橄榄绿 报告 公文 PPT模板</cp:keywords>
  <dc:language>en-US</dc:language>
  <cp:lastModifiedBy>微软中国</cp:lastModifiedBy>
  <dcterms:modified xsi:type="dcterms:W3CDTF">2015-08-09T01:10:57Z</dcterms:modified>
  <cp:revision>5</cp:revision>
  <dc:subject>橄榄绿</dc:subject>
  <dc:title>清新简洁橄榄绿报告公文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