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CB92-B4CE-4684-A466-C5E69E8C2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E23-EB29-4A47-9A11-4FEFCDFC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1A4-99A0-496E-9913-42369CF2A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4B9-8F8D-45B4-AE53-83F47E4A5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5CAB-5F7E-4F88-A159-ACD81502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2CAF-5C3D-4811-A9F6-7D88C1E4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4EEE-4C0A-41F4-B6AC-DB43885D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18BE-A26F-405E-9318-B8466C9B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242F-91D3-4F77-9043-09FB4360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08FC-0F7D-49E6-9BF9-F150B5A8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FF1C-4A59-4DEB-A51A-CCCC9425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491F-3F23-4C14-A39B-E79B842EF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09AF6-5008-40DF-9FC9-DE6210AE390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8353-98DB-491F-ADC2-FF84FECC2A9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00320" y="476280"/>
            <a:ext cx="661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沙滩夕阳工作总结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101196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65560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351216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-6912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372672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08376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444096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2512080" y="4143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3071880" y="22860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/>
          <p:cNvSpPr/>
          <p:nvPr/>
        </p:nvSpPr>
        <p:spPr>
          <a:xfrm>
            <a:off x="24408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465516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472680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-6912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571840" y="30718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62269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1548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4655160" y="3786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342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58380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5155200" y="2714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5120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012200" y="1857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D7F0-F0BC-49D0-B326-BC2FC3FB63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-3708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494100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2797920" y="3357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101196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0:48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