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7F56-B817-400A-B7B1-B422D07F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6880" y="205740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66880" y="420696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516B-3D83-4F15-9AC7-DCA09273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6880" y="205740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86080" y="205740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66880" y="420696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86080" y="420696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4BE-60C9-477C-BBEA-1E3D941C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66880" y="205740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57120" y="205740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7000" y="205740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66880" y="420696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57120" y="420696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7000" y="420696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7EA-4DB4-417B-8E2A-6D9ADA03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3547-7BDD-44B5-B480-AC69692A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66880" y="20574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8479-C09B-4FA5-8D58-3E9200E7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66880" y="20574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A754-FC36-4E1D-90E5-16574497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6880" y="205740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86080" y="205740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C721-7837-4ADD-BBB6-C2C24333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A7C9-7297-4CE6-AB10-10B8FB66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714F-C619-44DE-8385-D45D9AF5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66880" y="205740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86080" y="205740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66880" y="420696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0F26-A321-4145-91F8-CD5A2C2C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66880" y="20574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D92-2045-42A1-88B6-24890CFD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6880" y="205740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86080" y="205740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86080" y="420696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3ED0-C462-4BD3-95E2-6C153CAA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6880" y="205740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86080" y="205740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66880" y="420696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7985-C823-4BFA-B5A9-DB9FBED2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880" y="205740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66880" y="420696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7E97-AABD-4837-9D8A-3E354DCC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6880" y="205740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6080" y="205740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66880" y="420696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86080" y="420696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FCFA-EA0A-425E-AB48-68EAACF9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6880" y="205740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57120" y="205740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47000" y="205740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66880" y="420696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57120" y="420696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47000" y="420696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3D69-F36E-4E06-B9A4-D0FE26A2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6880" y="20574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054-D8B4-4F9D-AAE6-4773FD97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66880" y="205740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86080" y="205740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C168-4679-4F3C-A76E-4F8453BB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D96-CFEA-4D85-A59A-2A3CE44C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9C82-D579-43B7-BB58-14C92937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6880" y="205740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86080" y="205740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66880" y="420696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ECF9-B346-4351-8233-91557F4C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6880" y="205740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86080" y="205740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86080" y="420696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89E-EA7B-4D92-B0CD-3B46E63B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6880" y="205740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86080" y="205740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66880" y="420696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BEA-B5DD-4728-A1A0-DE010F57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66880" y="20574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56EA-9153-49DB-8803-D71562EEB1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66880" y="20574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4F81-A4BD-4338-BDC5-D1E64F1C47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Ar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294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d Subtitl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184464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水韵风格汇报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Add Title He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6880" y="20574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dd Text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  <a:ea typeface="宋体"/>
              </a:rPr>
              <a:t>Print P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66880" y="20574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d Text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1319-0883-4431-AD2F-8CFB2E7969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animfactory_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Z:\newtek\_backgrounds_1.02\Ryan\041-060\Liquid_art\liquid_art_qx.jpg"/>
          <p:cNvPicPr/>
          <p:nvPr/>
        </p:nvPicPr>
        <p:blipFill>
          <a:blip r:embed="rId4"/>
          <a:stretch/>
        </p:blipFill>
        <p:spPr>
          <a:xfrm>
            <a:off x="2895480" y="144792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Z:\newtek\_backgrounds_1.02\Ryan\041-060\Liquid_art\liquid_art_sld.jpg"/>
          <p:cNvPicPr/>
          <p:nvPr/>
        </p:nvPicPr>
        <p:blipFill>
          <a:blip r:embed="rId5"/>
          <a:stretch/>
        </p:blipFill>
        <p:spPr>
          <a:xfrm>
            <a:off x="5562720" y="137160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Z:\newtek\_backgrounds_1.02\Ryan\041-060\Liquid_art\liquid_art_prt.jpg"/>
          <p:cNvPicPr/>
          <p:nvPr/>
        </p:nvPicPr>
        <p:blipFill>
          <a:blip r:embed="rId6"/>
          <a:stretch/>
        </p:blipFill>
        <p:spPr>
          <a:xfrm>
            <a:off x="2819520" y="35053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Z:\newtek\_backgrounds_1.02\Ryan\041-060\Liquid_art\liquid_art_trs.jpg"/>
          <p:cNvPicPr/>
          <p:nvPr/>
        </p:nvPicPr>
        <p:blipFill>
          <a:blip r:embed="rId7"/>
          <a:stretch/>
        </p:blipFill>
        <p:spPr>
          <a:xfrm>
            <a:off x="5486400" y="350532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01" name="矩形 8"/>
          <p:cNvSpPr/>
          <p:nvPr/>
        </p:nvSpPr>
        <p:spPr>
          <a:xfrm>
            <a:off x="6858000" y="6027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u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4:18:58Z</dcterms:created>
  <dc:creator>eclipse</dc:creator>
  <dc:description/>
  <dc:language>en-US</dc:language>
  <cp:lastModifiedBy>toshiba</cp:lastModifiedBy>
  <dcterms:modified xsi:type="dcterms:W3CDTF">2015-08-09T01:10:46Z</dcterms:modified>
  <cp:revision>5</cp:revision>
  <dc:subject/>
  <dc:title>Liquid A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