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B6B-D000-45B1-9F86-B23387CC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BBD-3A3D-42E2-BFF0-432F75D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4FB-31CC-4555-A462-2508BAFE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EE0-0BE3-4A99-B77C-0D7C5E2D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19A-2C84-402E-84AA-D0BDDABB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4F4-DDDF-479E-8934-AA0958CC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CEA-4F1F-49B2-97F7-7D471CD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0C6-1544-4906-89DB-DE1A45D3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083-2573-4B7E-A6B1-5874C8E7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280-1402-4C6A-A925-C5310FA9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4B5-D14A-467A-A2F8-9A3ABD0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EF0-2A11-40AF-8A16-F464ABD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DD0-94B1-40EF-A9F1-086FE38646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3857760"/>
            <a:ext cx="48574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五四青年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43578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28600" y="1890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四青年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BB7-688C-4CBF-A3B5-7BC6C27B67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线形标注 1 12"/>
          <p:cNvSpPr/>
          <p:nvPr/>
        </p:nvSpPr>
        <p:spPr>
          <a:xfrm>
            <a:off x="1857240" y="1785960"/>
            <a:ext cx="2571840" cy="128592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38333"/>
            </a:avLst>
          </a:prstGeom>
          <a:solidFill>
            <a:srgbClr val="013e97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线形标注 1 13"/>
          <p:cNvSpPr/>
          <p:nvPr/>
        </p:nvSpPr>
        <p:spPr>
          <a:xfrm flipV="1">
            <a:off x="1857240" y="3357000"/>
            <a:ext cx="2571840" cy="128556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38333"/>
            </a:avLst>
          </a:prstGeom>
          <a:solidFill>
            <a:srgbClr val="013e97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流程图: 过程 14"/>
          <p:cNvSpPr/>
          <p:nvPr/>
        </p:nvSpPr>
        <p:spPr>
          <a:xfrm>
            <a:off x="4572000" y="1785960"/>
            <a:ext cx="3929040" cy="2857320"/>
          </a:xfrm>
          <a:prstGeom prst="flowChartProcess">
            <a:avLst/>
          </a:pr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2711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2711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前凸弯带形 10"/>
          <p:cNvSpPr/>
          <p:nvPr/>
        </p:nvSpPr>
        <p:spPr>
          <a:xfrm>
            <a:off x="4021200" y="2637000"/>
            <a:ext cx="1714320" cy="857160"/>
          </a:xfrm>
          <a:custGeom>
            <a:avLst/>
            <a:gdLst>
              <a:gd name="textAreaLeft" fmla="*/ 428400 w 1714320"/>
              <a:gd name="textAreaRight" fmla="*/ 1285920 w 1714320"/>
              <a:gd name="textAreaTop" fmla="*/ 214200 h 857160"/>
              <a:gd name="textAreaBottom" fmla="*/ 831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前凸弯带形 11"/>
          <p:cNvSpPr/>
          <p:nvPr/>
        </p:nvSpPr>
        <p:spPr>
          <a:xfrm rot="1279800">
            <a:off x="1760040" y="2276280"/>
            <a:ext cx="1714680" cy="857160"/>
          </a:xfrm>
          <a:custGeom>
            <a:avLst/>
            <a:gdLst>
              <a:gd name="textAreaLeft" fmla="*/ 428760 w 1714680"/>
              <a:gd name="textAreaRight" fmla="*/ 1286280 w 1714680"/>
              <a:gd name="textAreaTop" fmla="*/ 214200 h 857160"/>
              <a:gd name="textAreaBottom" fmla="*/ 831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前凸弯带形 12"/>
          <p:cNvSpPr/>
          <p:nvPr/>
        </p:nvSpPr>
        <p:spPr>
          <a:xfrm flipH="1" rot="20320200">
            <a:off x="6189480" y="2211120"/>
            <a:ext cx="1714320" cy="857160"/>
          </a:xfrm>
          <a:custGeom>
            <a:avLst/>
            <a:gdLst>
              <a:gd name="textAreaLeft" fmla="*/ 428400 w 1714320"/>
              <a:gd name="textAreaRight" fmla="*/ 1285920 w 1714320"/>
              <a:gd name="textAreaTop" fmla="*/ 214200 h 857160"/>
              <a:gd name="textAreaBottom" fmla="*/ 831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42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 rot="1327200">
            <a:off x="179424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 rot="20518200">
            <a:off x="6932520" y="301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左右箭头标注 13"/>
          <p:cNvSpPr/>
          <p:nvPr/>
        </p:nvSpPr>
        <p:spPr>
          <a:xfrm>
            <a:off x="2417760" y="2214720"/>
            <a:ext cx="4297320" cy="2035080"/>
          </a:xfrm>
          <a:custGeom>
            <a:avLst/>
            <a:gdLst>
              <a:gd name="textAreaLeft" fmla="*/ 1114560 w 4297320"/>
              <a:gd name="textAreaRight" fmla="*/ 3182760 w 429732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9043" y="8100"/>
                </a:lnTo>
                <a:lnTo>
                  <a:pt x="19043" y="5400"/>
                </a:lnTo>
                <a:lnTo>
                  <a:pt x="21600" y="10800"/>
                </a:lnTo>
                <a:lnTo>
                  <a:pt x="19043" y="16200"/>
                </a:lnTo>
                <a:lnTo>
                  <a:pt x="19043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2557" y="13500"/>
                </a:lnTo>
                <a:lnTo>
                  <a:pt x="2557" y="16200"/>
                </a:lnTo>
                <a:lnTo>
                  <a:pt x="0" y="10800"/>
                </a:lnTo>
                <a:lnTo>
                  <a:pt x="2557" y="5400"/>
                </a:lnTo>
                <a:lnTo>
                  <a:pt x="2557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14200" y="2606760"/>
            <a:ext cx="2143080" cy="1214280"/>
          </a:xfrm>
          <a:prstGeom prst="roundRect">
            <a:avLst>
              <a:gd name="adj" fmla="val 16667"/>
            </a:avLst>
          </a:pr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6"/>
          <p:cNvSpPr/>
          <p:nvPr/>
        </p:nvSpPr>
        <p:spPr>
          <a:xfrm>
            <a:off x="6786720" y="2678040"/>
            <a:ext cx="2143080" cy="1214640"/>
          </a:xfrm>
          <a:prstGeom prst="roundRect">
            <a:avLst>
              <a:gd name="adj" fmla="val 16667"/>
            </a:avLst>
          </a:pr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7283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783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斜纹 10"/>
          <p:cNvSpPr/>
          <p:nvPr/>
        </p:nvSpPr>
        <p:spPr>
          <a:xfrm flipH="1" flipV="1">
            <a:off x="3571920" y="164304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斜纹 11"/>
          <p:cNvSpPr/>
          <p:nvPr/>
        </p:nvSpPr>
        <p:spPr>
          <a:xfrm flipV="1">
            <a:off x="4962600" y="164304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斜纹 12"/>
          <p:cNvSpPr/>
          <p:nvPr/>
        </p:nvSpPr>
        <p:spPr>
          <a:xfrm>
            <a:off x="4962600" y="303840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斜纹 13"/>
          <p:cNvSpPr/>
          <p:nvPr/>
        </p:nvSpPr>
        <p:spPr>
          <a:xfrm flipH="1">
            <a:off x="3571920" y="3038400"/>
            <a:ext cx="1324080" cy="1324080"/>
          </a:xfrm>
          <a:custGeom>
            <a:avLst/>
            <a:gdLst/>
            <a:ahLst/>
            <a:rect l="l" t="t" r="r" b="b"/>
            <a:pathLst>
              <a:path w="1323975" h="1323975">
                <a:moveTo>
                  <a:pt x="0" y="661988"/>
                </a:moveTo>
                <a:lnTo>
                  <a:pt x="661988" y="0"/>
                </a:lnTo>
                <a:lnTo>
                  <a:pt x="1323975" y="0"/>
                </a:lnTo>
                <a:lnTo>
                  <a:pt x="0" y="1323975"/>
                </a:lnTo>
                <a:lnTo>
                  <a:pt x="0" y="661988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3069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783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283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左弧形箭头 13"/>
          <p:cNvSpPr/>
          <p:nvPr/>
        </p:nvSpPr>
        <p:spPr>
          <a:xfrm>
            <a:off x="1928880" y="2428920"/>
            <a:ext cx="2643120" cy="1500120"/>
          </a:xfrm>
          <a:custGeom>
            <a:avLst/>
            <a:gdLst>
              <a:gd name="textAreaLeft" fmla="*/ 353880 w 2643120"/>
              <a:gd name="textAreaRight" fmla="*/ 2289240 w 2643120"/>
              <a:gd name="textAreaTop" fmla="*/ 234360 h 1500120"/>
              <a:gd name="textAreaBottom" fmla="*/ 107820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921500"/>
                <a:lnTo>
                  <a:pt x="18535" y="21532"/>
                </a:lnTo>
                <a:lnTo>
                  <a:pt x="21600" y="16200"/>
                </a:lnTo>
                <a:lnTo>
                  <a:pt x="18535" y="10732"/>
                </a:lnTo>
                <a:lnTo>
                  <a:pt x="18535" y="13432"/>
                </a:lnTo>
                <a:arcTo wR="21600" hR="6750" stAng="6878500" swAng="345551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左弧形箭头 14"/>
          <p:cNvSpPr/>
          <p:nvPr/>
        </p:nvSpPr>
        <p:spPr>
          <a:xfrm flipH="1">
            <a:off x="4572000" y="2428920"/>
            <a:ext cx="2643120" cy="1500120"/>
          </a:xfrm>
          <a:custGeom>
            <a:avLst/>
            <a:gdLst>
              <a:gd name="textAreaLeft" fmla="*/ 353880 w 2643120"/>
              <a:gd name="textAreaRight" fmla="*/ 2289240 w 2643120"/>
              <a:gd name="textAreaTop" fmla="*/ 234360 h 1500120"/>
              <a:gd name="textAreaBottom" fmla="*/ 107820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921500"/>
                <a:lnTo>
                  <a:pt x="18535" y="21532"/>
                </a:lnTo>
                <a:lnTo>
                  <a:pt x="21600" y="16200"/>
                </a:lnTo>
                <a:lnTo>
                  <a:pt x="18535" y="10732"/>
                </a:lnTo>
                <a:lnTo>
                  <a:pt x="18535" y="13432"/>
                </a:lnTo>
                <a:arcTo wR="21600" hR="6750" stAng="6878500" swAng="345551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35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丁字箭头 10"/>
          <p:cNvSpPr/>
          <p:nvPr/>
        </p:nvSpPr>
        <p:spPr>
          <a:xfrm>
            <a:off x="3106800" y="1312920"/>
            <a:ext cx="3537000" cy="2473200"/>
          </a:xfrm>
          <a:custGeom>
            <a:avLst/>
            <a:gdLst/>
            <a:ahLst/>
            <a:rect l="l" t="t" r="r" b="b"/>
            <a:pathLst>
              <a:path w="3536950" h="2473325">
                <a:moveTo>
                  <a:pt x="0" y="1854994"/>
                </a:moveTo>
                <a:lnTo>
                  <a:pt x="618331" y="1236663"/>
                </a:lnTo>
                <a:lnTo>
                  <a:pt x="618331" y="1545828"/>
                </a:lnTo>
                <a:lnTo>
                  <a:pt x="1459309" y="1545828"/>
                </a:lnTo>
                <a:lnTo>
                  <a:pt x="1459309" y="618331"/>
                </a:lnTo>
                <a:lnTo>
                  <a:pt x="1150144" y="618331"/>
                </a:lnTo>
                <a:lnTo>
                  <a:pt x="1768475" y="0"/>
                </a:lnTo>
                <a:lnTo>
                  <a:pt x="2386806" y="618331"/>
                </a:lnTo>
                <a:lnTo>
                  <a:pt x="2077641" y="618331"/>
                </a:lnTo>
                <a:lnTo>
                  <a:pt x="2077641" y="1545828"/>
                </a:lnTo>
                <a:lnTo>
                  <a:pt x="2918619" y="1545828"/>
                </a:lnTo>
                <a:lnTo>
                  <a:pt x="2918619" y="1236663"/>
                </a:lnTo>
                <a:lnTo>
                  <a:pt x="3536950" y="1854994"/>
                </a:lnTo>
                <a:lnTo>
                  <a:pt x="2918619" y="2473325"/>
                </a:lnTo>
                <a:lnTo>
                  <a:pt x="2918619" y="2164159"/>
                </a:lnTo>
                <a:lnTo>
                  <a:pt x="618331" y="2164159"/>
                </a:lnTo>
                <a:lnTo>
                  <a:pt x="618331" y="2473325"/>
                </a:lnTo>
                <a:lnTo>
                  <a:pt x="0" y="1854994"/>
                </a:lnTo>
                <a:close/>
              </a:path>
            </a:pathLst>
          </a:custGeom>
          <a:solidFill>
            <a:srgbClr val="013e97"/>
          </a:solidFill>
          <a:ln w="25560">
            <a:solidFill>
              <a:srgbClr val="d9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丁字箭头 11"/>
          <p:cNvSpPr/>
          <p:nvPr/>
        </p:nvSpPr>
        <p:spPr>
          <a:xfrm flipV="1">
            <a:off x="3106800" y="2526120"/>
            <a:ext cx="3537000" cy="2473560"/>
          </a:xfrm>
          <a:custGeom>
            <a:avLst/>
            <a:gdLst/>
            <a:ahLst/>
            <a:rect l="l" t="t" r="r" b="b"/>
            <a:pathLst>
              <a:path w="3536950" h="2473325">
                <a:moveTo>
                  <a:pt x="0" y="1854994"/>
                </a:moveTo>
                <a:lnTo>
                  <a:pt x="618331" y="1236663"/>
                </a:lnTo>
                <a:lnTo>
                  <a:pt x="618331" y="1545828"/>
                </a:lnTo>
                <a:lnTo>
                  <a:pt x="1459309" y="1545828"/>
                </a:lnTo>
                <a:lnTo>
                  <a:pt x="1459309" y="618331"/>
                </a:lnTo>
                <a:lnTo>
                  <a:pt x="1150144" y="618331"/>
                </a:lnTo>
                <a:lnTo>
                  <a:pt x="1768475" y="0"/>
                </a:lnTo>
                <a:lnTo>
                  <a:pt x="2386806" y="618331"/>
                </a:lnTo>
                <a:lnTo>
                  <a:pt x="2077641" y="618331"/>
                </a:lnTo>
                <a:lnTo>
                  <a:pt x="2077641" y="1545828"/>
                </a:lnTo>
                <a:lnTo>
                  <a:pt x="2918619" y="1545828"/>
                </a:lnTo>
                <a:lnTo>
                  <a:pt x="2918619" y="1236663"/>
                </a:lnTo>
                <a:lnTo>
                  <a:pt x="3536950" y="1854994"/>
                </a:lnTo>
                <a:lnTo>
                  <a:pt x="2918619" y="2473325"/>
                </a:lnTo>
                <a:lnTo>
                  <a:pt x="2918619" y="2164159"/>
                </a:lnTo>
                <a:lnTo>
                  <a:pt x="618331" y="2164159"/>
                </a:lnTo>
                <a:lnTo>
                  <a:pt x="618331" y="2473325"/>
                </a:lnTo>
                <a:lnTo>
                  <a:pt x="0" y="1854994"/>
                </a:lnTo>
                <a:close/>
              </a:path>
            </a:pathLst>
          </a:custGeom>
          <a:solidFill>
            <a:srgbClr val="013e97"/>
          </a:solidFill>
          <a:ln w="25560">
            <a:solidFill>
              <a:srgbClr val="d9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1783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6998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43549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4426560" y="857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上弧形箭头 10"/>
          <p:cNvSpPr/>
          <p:nvPr/>
        </p:nvSpPr>
        <p:spPr>
          <a:xfrm>
            <a:off x="4071960" y="1500120"/>
            <a:ext cx="1143000" cy="642960"/>
          </a:xfrm>
          <a:custGeom>
            <a:avLst/>
            <a:gdLst>
              <a:gd name="textAreaLeft" fmla="*/ 226440 w 1143000"/>
              <a:gd name="textAreaRight" fmla="*/ 840240 w 114300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62" hR="21600" stAng="10800000" swAng="5400000"/>
                <a:lnTo>
                  <a:pt x="11599" y="0"/>
                </a:lnTo>
                <a:arcTo wR="8562" hR="21600" stAng="-5400000" swAng="3125615"/>
                <a:lnTo>
                  <a:pt x="21219" y="15230"/>
                </a:lnTo>
                <a:lnTo>
                  <a:pt x="18642" y="21600"/>
                </a:lnTo>
                <a:lnTo>
                  <a:pt x="15302" y="15230"/>
                </a:lnTo>
                <a:lnTo>
                  <a:pt x="16742" y="15230"/>
                </a:lnTo>
                <a:arcTo wR="8562" hR="21600" stAng="-2274385" swAng="-2880461"/>
                <a:lnTo>
                  <a:pt x="10080" y="342"/>
                </a:lnTo>
                <a:arcTo wR="8562" hR="21600" stAng="-5645154" swAng="-5154846"/>
                <a:close/>
              </a:path>
              <a:path fill="darkenLess" w="21600" h="21600">
                <a:moveTo>
                  <a:pt x="0" y="21600"/>
                </a:moveTo>
                <a:arcTo wR="8562" hR="21600" stAng="10800000" swAng="5400000"/>
                <a:lnTo>
                  <a:pt x="8562" y="0"/>
                </a:lnTo>
                <a:arcTo wR="8562" hR="21600" stAng="-5400000" swAng="245154"/>
                <a:lnTo>
                  <a:pt x="10080" y="342"/>
                </a:lnTo>
                <a:arcTo wR="8562" hR="21600" stAng="-5645154" swAng="-5154846"/>
                <a:close/>
              </a:path>
            </a:pathLst>
          </a:custGeom>
          <a:solidFill>
            <a:srgbClr val="d90b18"/>
          </a:solidFill>
          <a:ln w="25560">
            <a:solidFill>
              <a:srgbClr val="013e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饼形 11"/>
          <p:cNvSpPr/>
          <p:nvPr/>
        </p:nvSpPr>
        <p:spPr>
          <a:xfrm>
            <a:off x="1600200" y="2000160"/>
            <a:ext cx="2857680" cy="2859120"/>
          </a:xfrm>
          <a:custGeom>
            <a:avLst/>
            <a:gdLst/>
            <a:ahLst/>
            <a:rect l="l" t="t" r="r" b="b"/>
            <a:pathLst>
              <a:path w="2857500" h="2859088">
                <a:moveTo>
                  <a:pt x="2857500" y="1429544"/>
                </a:moveTo>
                <a:cubicBezTo>
                  <a:pt x="2857500" y="2219059"/>
                  <a:pt x="2217827" y="2859088"/>
                  <a:pt x="1428750" y="2859088"/>
                </a:cubicBezTo>
                <a:cubicBezTo>
                  <a:pt x="639673" y="2859088"/>
                  <a:pt x="0" y="2219059"/>
                  <a:pt x="0" y="1429544"/>
                </a:cubicBezTo>
                <a:cubicBezTo>
                  <a:pt x="0" y="640029"/>
                  <a:pt x="639673" y="0"/>
                  <a:pt x="1428750" y="0"/>
                </a:cubicBezTo>
                <a:lnTo>
                  <a:pt x="1428750" y="1429544"/>
                </a:lnTo>
                <a:lnTo>
                  <a:pt x="2857500" y="1429544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弦形 12"/>
          <p:cNvSpPr/>
          <p:nvPr/>
        </p:nvSpPr>
        <p:spPr>
          <a:xfrm>
            <a:off x="5457960" y="207180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292687" y="2292687"/>
                </a:moveTo>
                <a:cubicBezTo>
                  <a:pt x="1862865" y="2722509"/>
                  <a:pt x="1197935" y="2810049"/>
                  <a:pt x="671512" y="2506119"/>
                </a:cubicBezTo>
                <a:cubicBezTo>
                  <a:pt x="145089" y="2202189"/>
                  <a:pt x="-111564" y="1582573"/>
                  <a:pt x="45762" y="995425"/>
                </a:cubicBezTo>
                <a:cubicBezTo>
                  <a:pt x="203088" y="408277"/>
                  <a:pt x="735164" y="0"/>
                  <a:pt x="1343025" y="0"/>
                </a:cubicBezTo>
                <a:lnTo>
                  <a:pt x="2292687" y="2292687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5997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2640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剪去对角的矩形 10"/>
          <p:cNvSpPr/>
          <p:nvPr/>
        </p:nvSpPr>
        <p:spPr>
          <a:xfrm>
            <a:off x="5072040" y="321480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剪去对角的矩形 11"/>
          <p:cNvSpPr/>
          <p:nvPr/>
        </p:nvSpPr>
        <p:spPr>
          <a:xfrm flipH="1">
            <a:off x="2571840" y="321480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剪去对角的矩形 12"/>
          <p:cNvSpPr/>
          <p:nvPr/>
        </p:nvSpPr>
        <p:spPr>
          <a:xfrm flipH="1" flipV="1">
            <a:off x="2571840" y="121356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剪去对角的矩形 13"/>
          <p:cNvSpPr/>
          <p:nvPr/>
        </p:nvSpPr>
        <p:spPr>
          <a:xfrm flipV="1">
            <a:off x="5059440" y="1213200"/>
            <a:ext cx="2441520" cy="1933560"/>
          </a:xfrm>
          <a:custGeom>
            <a:avLst/>
            <a:gdLst/>
            <a:ahLst/>
            <a:rect l="l" t="t" r="r" b="b"/>
            <a:pathLst>
              <a:path w="2441575" h="1933575">
                <a:moveTo>
                  <a:pt x="0" y="0"/>
                </a:moveTo>
                <a:lnTo>
                  <a:pt x="2119306" y="0"/>
                </a:lnTo>
                <a:lnTo>
                  <a:pt x="2441575" y="322269"/>
                </a:lnTo>
                <a:lnTo>
                  <a:pt x="2441575" y="1933575"/>
                </a:lnTo>
                <a:lnTo>
                  <a:pt x="2441575" y="1933575"/>
                </a:lnTo>
                <a:lnTo>
                  <a:pt x="322269" y="1933575"/>
                </a:lnTo>
                <a:lnTo>
                  <a:pt x="0" y="1611306"/>
                </a:lnTo>
                <a:lnTo>
                  <a:pt x="0" y="0"/>
                </a:ln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497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783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783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新月形 18"/>
          <p:cNvSpPr/>
          <p:nvPr/>
        </p:nvSpPr>
        <p:spPr>
          <a:xfrm>
            <a:off x="3286080" y="2357280"/>
            <a:ext cx="1785960" cy="3571920"/>
          </a:xfrm>
          <a:custGeom>
            <a:avLst/>
            <a:gdLst>
              <a:gd name="textAreaLeft" fmla="*/ 606960 w 1785960"/>
              <a:gd name="textAreaRight" fmla="*/ 1216080 w 1785960"/>
              <a:gd name="textAreaTop" fmla="*/ 444240 h 3571920"/>
              <a:gd name="textAreaBottom" fmla="*/ 312768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55" y="2639"/>
                  <a:pt x="14709" y="5080"/>
                  <a:pt x="14709" y="10800"/>
                </a:cubicBezTo>
                <a:cubicBezTo>
                  <a:pt x="14709" y="16520"/>
                  <a:pt x="18155" y="189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新月形 19"/>
          <p:cNvSpPr/>
          <p:nvPr/>
        </p:nvSpPr>
        <p:spPr>
          <a:xfrm flipH="1">
            <a:off x="4642560" y="714240"/>
            <a:ext cx="1785960" cy="3571920"/>
          </a:xfrm>
          <a:custGeom>
            <a:avLst/>
            <a:gdLst>
              <a:gd name="textAreaLeft" fmla="*/ 606600 w 1785960"/>
              <a:gd name="textAreaRight" fmla="*/ 1215720 w 1785960"/>
              <a:gd name="textAreaTop" fmla="*/ 444240 h 3571920"/>
              <a:gd name="textAreaBottom" fmla="*/ 312768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55" y="2639"/>
                  <a:pt x="14709" y="5080"/>
                  <a:pt x="14709" y="10800"/>
                </a:cubicBezTo>
                <a:cubicBezTo>
                  <a:pt x="14709" y="16520"/>
                  <a:pt x="18155" y="189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90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426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5426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8-09T01:09:01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