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037-E0DB-4087-802B-2117E6C4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C0E-FC1E-4E5A-AED8-0CE4446B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28D-5164-47D3-98A3-52A5CE21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8AD-CCB4-4551-AC6E-15B7DD2D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CE0-A01D-42E9-B0FA-CD73B272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0EE-BBB2-4562-AD9E-D6034EA5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B48-7CFE-4B38-9262-2B451AF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AC8-D949-4ABA-9BE5-51A4095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A08-FE8F-4FE0-9D4D-640DBBA7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303-FAF6-43AA-941B-4FB8A1EA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D6E-F8E5-4CDE-9A98-17DD3BB7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848-FEC9-4DEB-9676-1388B827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3C51-FBD1-4B81-8AAB-1BB2F4E95D0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F8C3-5F1F-4EB8-A33D-7D3C13FA2C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76500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樱桃插画年度工作总结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AA5-BD31-49DF-9518-5290D9D26D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35838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19407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7172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3696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394092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22978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8692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77120" y="6429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2266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15496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79808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465516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479808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5496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15504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32979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86920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583880" y="1500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36916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01196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01264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9410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36960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444096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1548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65492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29804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179784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9410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/>
          <p:cNvSpPr/>
          <p:nvPr/>
        </p:nvSpPr>
        <p:spPr>
          <a:xfrm>
            <a:off x="3369600" y="4929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565560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1154880" y="3286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58364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50126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4408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0:29Z</dcterms:modified>
  <cp:revision>1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