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3A9-D673-4416-A260-5D39F15A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039-8E07-47CB-B303-E4DE2CEA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492-C1EA-4541-81E5-AB890D3D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420-84F0-4869-9D46-1CABA854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3F2-95E4-49DF-BB9A-74873BD4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868-6AE2-4D7E-B3C4-E9652B19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340-FE4D-449A-B304-E52EFBC9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87C-5260-4FF0-B3AF-49A05FEA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AB7-8FC2-45B3-8A8D-81407DC1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738-8454-446C-9A33-0966BCB6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E57-F78D-44DE-B8AA-F6CFE07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131-F29C-451E-8621-80F94C31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6BD6-6451-4A16-BC88-5BCAF388F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1268280"/>
            <a:ext cx="1482840" cy="15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5640" y="476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政府工作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067280" y="549360"/>
            <a:ext cx="942840" cy="100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981000"/>
            <a:ext cx="356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981000"/>
            <a:ext cx="36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08000" y="335772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2009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年工作回顾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67280" y="549360"/>
            <a:ext cx="942840" cy="100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981000"/>
            <a:ext cx="356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981000"/>
            <a:ext cx="36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11280" y="1844640"/>
            <a:ext cx="42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2009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年工作回顾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492280"/>
            <a:ext cx="6985080" cy="4365720"/>
          </a:xfrm>
          <a:prstGeom prst="roundRect">
            <a:avLst>
              <a:gd name="adj" fmla="val 5782"/>
            </a:avLst>
          </a:prstGeom>
          <a:gradFill rotWithShape="0">
            <a:gsLst>
              <a:gs pos="0">
                <a:srgbClr val="80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573360"/>
            <a:ext cx="655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旧区改造取得重大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旧小区综合整治成效显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物业管理得到加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360" y="2852640"/>
            <a:ext cx="633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全力实施旧区改造和旧小区综合整治，群众居住条件得到切实改善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6F4-5E3F-4BDC-BCF2-8077E59B89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67280" y="549360"/>
            <a:ext cx="942840" cy="100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981000"/>
            <a:ext cx="356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981000"/>
            <a:ext cx="36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19280" y="3284640"/>
            <a:ext cx="590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2010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年主要工作安排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6:34:03Z</dcterms:created>
  <dc:creator>yanwei</dc:creator>
  <dc:description/>
  <dc:language>en-US</dc:language>
  <cp:lastModifiedBy>keke</cp:lastModifiedBy>
  <dcterms:modified xsi:type="dcterms:W3CDTF">2015-08-09T01:10:20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