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0264-9AEE-41B3-867B-32E912F0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7044-852A-4C18-B1A7-ACA999AE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1257-ACDA-46F5-88B9-46CBA4B9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1763-584B-4F8D-A149-E3FB212F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9A47-7418-46FB-BAA9-26774D48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073A-AD49-4712-8208-E4A67312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6D4E-7FBB-420C-93FB-482FE867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F0EF-8CB9-4CD2-9FAB-3358F802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514D-465F-4D34-887B-A12CB80A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979E-949D-4FF4-953D-3DE4AB51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8AE4-BC64-4DBA-AAB3-D44ED9AC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142E-3C87-41A9-AE23-6FB0FC84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A613-35EF-48D4-9FDA-6D2F8791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296F-6990-4EE9-A11C-89CFC3F3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3E52-6B37-4620-AC89-198D978F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9E9C-40BD-4E72-A648-1295AF60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83AC-A46D-48F0-82A0-CBD6A8E7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8932-2830-42AB-BA4E-953FB1FA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0C4C-F33E-4681-9563-0054FA40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C159-A190-48BA-8F33-583484E7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A953-5757-4EED-A134-DF0B0069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84DE-7B13-4E56-B7BF-B565882D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7FCE-D2B3-4A0E-9F1C-87CDA653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9D9-D233-4657-977B-EC5BDB9A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EA51-DAE5-4A2A-81DE-48A82E54E293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AE4C-B921-4183-A221-D0CFC3B37536}" type="slidenum">
              <a:rPr b="0" lang="en-US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  <a:ea typeface="宋体"/>
              </a:rPr>
              <a:t>THANKSGIVING FALL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90560" y="91440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宋体"/>
              </a:rPr>
              <a:t>YOUR SUBTITLE GOES HE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472120" y="1557360"/>
            <a:ext cx="45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橘黄背景感恩节幻灯片在线下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5639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宋体"/>
              </a:rPr>
              <a:t>YOUR TITLE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2205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4343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BFB6-05F8-4842-A3C8-4E79C8034990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52280" y="944640"/>
            <a:ext cx="2438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double click them and size it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animfactory_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>
            <a:off x="2438280" y="22860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6"/>
          <p:cNvSpPr/>
          <p:nvPr/>
        </p:nvSpPr>
        <p:spPr>
          <a:xfrm>
            <a:off x="228600" y="2209680"/>
            <a:ext cx="24382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Most of these .gifs, .jpgs, and .png images can be scaled up to fit your nee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7"/>
          <p:cNvSpPr/>
          <p:nvPr/>
        </p:nvSpPr>
        <p:spPr>
          <a:xfrm>
            <a:off x="2667600" y="6397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8"/>
          <p:cNvSpPr/>
          <p:nvPr/>
        </p:nvSpPr>
        <p:spPr>
          <a:xfrm>
            <a:off x="4269240" y="6397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9"/>
          <p:cNvSpPr/>
          <p:nvPr/>
        </p:nvSpPr>
        <p:spPr>
          <a:xfrm>
            <a:off x="5868000" y="639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0"/>
          <p:cNvSpPr/>
          <p:nvPr/>
        </p:nvSpPr>
        <p:spPr>
          <a:xfrm>
            <a:off x="7198200" y="6397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13" descr="thanksgiving_fall_qx"/>
          <p:cNvPicPr/>
          <p:nvPr/>
        </p:nvPicPr>
        <p:blipFill>
          <a:blip r:embed="rId4"/>
          <a:stretch/>
        </p:blipFill>
        <p:spPr>
          <a:xfrm>
            <a:off x="2494080" y="914400"/>
            <a:ext cx="154440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5" name="Picture 214" descr="thanksgiving_fall_sld"/>
          <p:cNvPicPr/>
          <p:nvPr/>
        </p:nvPicPr>
        <p:blipFill>
          <a:blip r:embed="rId5"/>
          <a:stretch/>
        </p:blipFill>
        <p:spPr>
          <a:xfrm>
            <a:off x="41148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6" name="Picture 215" descr="thanksgiving_fall_prt"/>
          <p:cNvPicPr/>
          <p:nvPr/>
        </p:nvPicPr>
        <p:blipFill>
          <a:blip r:embed="rId6"/>
          <a:stretch/>
        </p:blipFill>
        <p:spPr>
          <a:xfrm>
            <a:off x="57150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7" name="Picture 216" descr="thanksgiving_fall_trs"/>
          <p:cNvPicPr/>
          <p:nvPr/>
        </p:nvPicPr>
        <p:blipFill>
          <a:blip r:embed="rId7"/>
          <a:stretch/>
        </p:blipFill>
        <p:spPr>
          <a:xfrm>
            <a:off x="73152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06:44:39Z</dcterms:created>
  <dc:creator>微软中国</dc:creator>
  <dc:description/>
  <dc:language>en-US</dc:language>
  <cp:lastModifiedBy>User</cp:lastModifiedBy>
  <dcterms:modified xsi:type="dcterms:W3CDTF">2015-08-09T01:10:30Z</dcterms:modified>
  <cp:revision>4</cp:revision>
  <dc:subject/>
  <dc:title>THANKSGIVING FAL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