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2009348"/>
        <c:axId val="92185051"/>
      </c:barChart>
      <c:catAx>
        <c:axId val="520093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2185051"/>
        <c:crosses val="autoZero"/>
        <c:auto val="1"/>
        <c:lblAlgn val="ctr"/>
        <c:lblOffset val="100"/>
        <c:noMultiLvlLbl val="0"/>
      </c:catAx>
      <c:valAx>
        <c:axId val="92185051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200934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14858192"/>
        <c:axId val="61963158"/>
      </c:barChart>
      <c:catAx>
        <c:axId val="148581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1963158"/>
        <c:crosses val="autoZero"/>
        <c:auto val="1"/>
        <c:lblAlgn val="ctr"/>
        <c:lblOffset val="100"/>
        <c:noMultiLvlLbl val="0"/>
      </c:catAx>
      <c:valAx>
        <c:axId val="6196315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4858192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7914713"/>
        <c:axId val="5568891"/>
      </c:lineChart>
      <c:catAx>
        <c:axId val="979147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568891"/>
        <c:crosses val="autoZero"/>
        <c:auto val="1"/>
        <c:lblAlgn val="ctr"/>
        <c:lblOffset val="100"/>
        <c:noMultiLvlLbl val="0"/>
      </c:catAx>
      <c:valAx>
        <c:axId val="5568891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791471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2781002"/>
        <c:axId val="64637239"/>
      </c:barChart>
      <c:catAx>
        <c:axId val="327810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4637239"/>
        <c:crosses val="autoZero"/>
        <c:auto val="1"/>
        <c:lblAlgn val="ctr"/>
        <c:lblOffset val="100"/>
        <c:noMultiLvlLbl val="0"/>
      </c:catAx>
      <c:valAx>
        <c:axId val="6463723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2781002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5C01BE-59F7-48F2-B4E3-0809B23E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8035383D-A2E2-4C94-A07F-D896CE2EFDA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702-ECF6-44FE-8196-B00B4CE4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6B5-7799-47D5-9306-7A88021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3EA-FDE8-4C88-A1F6-B83215F5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E95-436E-4C67-9ABD-9A2E880D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3EF-4619-4E3E-AFEC-1E67B0D5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E2FB-4808-42AF-A76F-9E49A13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0466-9095-451C-BE19-FD934E9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BAB-3608-4B07-A301-47506C3F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43A3-7FBA-40C7-BED1-F96D8B6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3FB-D48D-414D-A4DF-1D468B3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A51-7238-4DEB-9B73-977B573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626-A0EE-4C3E-89E8-627F834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1C5-ECBB-4D9A-AFEC-671E905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1383-1758-4E01-A19F-8D149266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4FE-75ED-4370-AC84-7B5EC9D4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378A-0010-4D25-A915-60D023D7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0E31-EB37-474C-A13E-C25E21AA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36A3-0627-4967-9DD8-F231FDC1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945D-470D-4542-A420-C62F868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08C0-062B-4D1C-93D7-E1681152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1E80-753E-400E-BFCB-22E3E05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3AAC-91DF-4D60-B27C-4490B1E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B79-6247-4EFC-AA0B-F4F0247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3451-B3DA-4CFE-99A0-330E46D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A1B8-F79E-4CC1-9EE5-C27A656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5D32-52B8-4B8F-9F90-AD311C8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2AD8-37F8-43E8-B8EE-0CA19C3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3249-6677-405A-8778-6FEB6D6F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B2A0-3CD4-437C-AFC8-20293EA4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5896-779B-4C36-97B5-C3A139C0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1BCB-913F-45DB-A9DF-CB80B85E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2833-1A58-464C-8D2C-09007C9B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E583-15FA-489B-B6BB-A094FFC5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8CB-8D39-47E0-9714-3CE4D8FE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F3B5-C62B-48F5-AEED-9DBDFB1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F283-01EF-4F88-B964-CF15D13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5516-9A74-4145-A7A0-AC437E9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DCDD-8091-46A2-8CCE-C739FCD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756E-A397-41CE-993C-3E5BB39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5D45-F127-4857-B6A4-2AEE309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CB04-E68D-45AE-9617-2561A36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2293-A0D9-42D2-BE35-6A9C6B8E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6F02-AEFE-45B4-A984-835318CF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761F-F88A-4DA2-8995-D695124F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56C-59BB-47DA-BEDB-6970F5B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DA04-1820-464A-B836-2125E785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EAC2E-E841-4918-A10D-1E8477C2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12A7-3602-46AB-9114-0BD88BB4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2850-17C9-416D-9F71-56648ECE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DD18A-CAF3-46B4-B5DA-B59731BD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5380C-DB35-48B1-8EE1-66762213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BA12-9B78-4E87-B8B3-7A20248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0F68-ECA1-43DB-BEAD-B6D8BC0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0A45-0245-4408-8C24-9BC3C21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B3B0-4BD6-4536-9CBD-E83EE8C1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AF8-91A7-4F23-8DB2-FBF29E2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7A45-7A84-403E-976A-05F3C541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9DEA-AFCC-426A-9277-9C3196E2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9601-D67A-4DAD-ABD8-0AEB5196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4C95-26B9-4848-B37E-8075882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75EF-BCAB-4F23-AC93-40BA6A4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4538-BF1E-4BAD-8235-C8561BDE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A236-D8E4-4939-8831-8671D4D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CD95-C20A-4FB8-B2AE-FA481239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6D02-1F00-4BC5-9C14-E9E409E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4E5D-097E-424C-99A4-375E691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C5D-773F-4EA2-B94F-6E7A674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4B12-0BC5-4610-8BDC-0E30A11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51D5-6330-4F45-89B8-EE2F5471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C02E-813F-4B32-AFD1-AD494700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E91B8-8125-4B51-AF3C-7413139F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99E8-5357-4B25-9F2C-2C6F2ED8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43EF-8FAF-4615-9AD5-D58FC0C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1FF4-99DB-4E42-9E79-A0C1D35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CE463-D5FE-4CA9-83AA-7A1FCDE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4191-D884-42EE-9B00-9502E82F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8EB0-D206-4C48-BA0F-5B80892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25E-F885-4D9E-8EE4-7789907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1ED4-50CD-4B31-8305-53F989D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9FBD-0B33-42FB-AAB1-9DA696D6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FB6BA-82ED-4483-8045-ABFF363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A9D5-B99A-4A2B-8DA3-FEBDCCB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9C2C-DA49-407B-AE65-02CD0CA7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A600-5740-4998-8E10-EBB406CB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EA1C-E102-4D18-977E-7905F24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0BA4-34C1-4F1F-8EB0-A720670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8D99-48EF-4F87-A3B1-CB7808B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E7AF-AAB5-44C5-9A65-E4EB83F2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E22-461D-4539-BE27-846C8BC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197C4-2D99-461A-B22A-D50CD732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5CD43-D2DA-4C58-9A08-53C170C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D33D-6196-4F80-9B70-E45987A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B24A-9CEB-472D-BEBB-5F76BBD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2E592-F510-48F9-ADEF-098B38C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F9B2-0D44-4980-86BC-8565B070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C200-A355-4E7B-B05D-A549B96A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18)\bg\bg14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12976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F1F0973-6ACF-4A6D-9ABD-C047435E077D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C9544C-28A3-4EE7-BAD2-502F7F8D192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8)\bg\bg14-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8401938-566C-476A-A8A1-9529DE10F0E9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9892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971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793BD1-8582-4D47-9B4C-703F0DCC78D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AC1F666-4F83-4B74-A556-80641D7FB0D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D7767EC-5188-4434-BCC6-5901EFA6BDA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FEE303-EA83-40CD-92E9-4C9974511F3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8)\bg\bg14-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18)\bg\bg14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138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0808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A76A969-64C8-48F1-B530-3C1523DF8B27}" type="slidenum"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212976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抽象放射线简洁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完整版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92176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4151138-CEE8-4B2D-B540-F6CAB4570E2B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6EABAB-2FC7-4964-B0E4-28CAAC698ED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10480" y="59893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56D-C3EE-4821-9F44-27DF969333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AFF1CA-15D0-4598-B18F-5D1165C126F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2138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9304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028B-844B-48DF-9E76-42D083AE86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D846318A-0058-48A2-9422-9954E1C797D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 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13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 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  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zhongguofeng/ 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</a:t>
            </a:r>
            <a:r>
              <a:rPr b="1" lang="en-US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mianfei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ye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tong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atong/   </a:t>
            </a:r>
            <a:r>
              <a:rPr b="1" lang="zh-CN" sz="98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undong/</a:t>
            </a: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4387411-1336-4FAA-92D8-322072603AD7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1A8224-6E4F-4418-B522-5DCD1632A38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ff6600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c000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9892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971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605520" y="6118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6EE0-783F-4E5A-B03B-80256B42D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A609EEB-4446-49AE-8985-7B1D4F397A8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957D-4377-47F5-A586-40F0ED51AC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C3DE4273-EDCF-40B1-857C-B3DE21BF95E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019753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486A-78D1-4207-97B9-6E700636BE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25998663-7935-4D4D-AA43-EF5998C4927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94942619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903C-5B4E-4635-8690-8FFAF9E8FB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EE0CD06-47AF-4C98-9B8D-56D57E0FC63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9226-8C4F-400B-B4D7-10144290D4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D02A0765-6FBC-426B-842C-8C768107AE5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F4E2-97BA-4EB2-B141-998FA442EE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ABF9D145-667F-4639-A9EA-EAD3777A75B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232A-145D-495B-AB1E-599FB4B687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D593F40-1EA9-4894-B032-6AC2AC2CA3D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8">
  <a:themeElements>
    <a:clrScheme name="www.slideto.Me orange L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ff6600"/>
      </a:accent1>
      <a:accent2>
        <a:srgbClr val="ff9900"/>
      </a:accent2>
      <a:accent3>
        <a:srgbClr val="742600"/>
      </a:accent3>
      <a:accent4>
        <a:srgbClr val="dc5e01"/>
      </a:accent4>
      <a:accent5>
        <a:srgbClr val="c00000"/>
      </a:accent5>
      <a:accent6>
        <a:srgbClr val="ff00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8</Template>
  <TotalTime>196</TotalTime>
  <Application>LibreOffice/7.4.7.2$Linux_X86_64 LibreOffice_project/40$Build-2</Application>
  <AppVersion>15.0000</AppVersion>
  <Words>1004</Words>
  <Paragraphs>2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49:52Z</dcterms:created>
  <dc:creator>lenovo</dc:creator>
  <dc:description>我爱PPT中文网</dc:description>
  <cp:keywords>XS-普屏 4：3 SC-淡橙色 BG-浅色 DH-静态 XJ-二级</cp:keywords>
  <dc:language>en-US</dc:language>
  <cp:lastModifiedBy>yu wang</cp:lastModifiedBy>
  <dcterms:modified xsi:type="dcterms:W3CDTF">2015-08-08T10:07:05Z</dcterms:modified>
  <cp:revision>4</cp:revision>
  <dc:subject>TP-通用纹理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