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944-1785-414A-BD76-779FF2E8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3B7-74CD-44AA-B1CE-CDD92378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0E894-6C9F-4332-824C-EA12EC8B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B71B6-963E-49D8-982C-928BE117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AB408-E865-4B62-9AAC-330F217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F8A07-D317-4317-8366-08ACB691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99C57-49C1-40A8-8969-C0163C73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CA37F-A178-49F3-8B03-7745A03D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DF228-4122-4AD2-B653-A79D45B9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67D29-A7F4-4B7F-8653-7C7CD301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F9E04-7F32-4329-8317-6B0EBC71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62AC6-9402-4A12-9354-ED29D5D9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2F3-D759-46A7-B2BA-EFE2E810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3B69E-1D63-4C19-9016-35A191D2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D9383-E123-4A3A-BC64-986EE642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127F9-2BE2-4C35-B5B2-250DB384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825B4-1610-40A9-AC6E-28E80C31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B4EF3-552F-43E3-A505-FA64C6EC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88E02-84CA-4D47-A612-7CFEE3F6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946FB-86B4-491C-8E04-257F9E44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6A369-72DC-40FD-BCD3-36412CFE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4A8E3-DC32-487C-907D-02E18941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EA6D3-1DC7-44B4-9400-AE1EFF49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0BC-AAC1-49F3-A2F5-2FB4D6EB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B821E-93C2-4587-AB19-C2B00FF2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68384-6A3D-4A3A-8586-354C1C01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C93C0-6926-4E86-85B7-F62DD3DE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91C2D-2F8D-405D-95AE-B7C04613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704CD-9878-4D58-9B9D-D66B837D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3C5BB-B49A-4B13-AF68-24C98910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F9D60-0CE5-49AC-AB0A-38D6EFDF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CCE1B-DC85-42BA-914F-9E317F22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5D690-A35D-4076-8BE8-7A9A725F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C79F6-CE25-4C35-843A-6D547BC2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69D0-42A0-43D0-A88D-49A6F641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E217C-82AD-4350-942C-8A05EA3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F9F8F-5182-4B44-B69B-88339212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7C9EE-86FD-494A-8FDD-3BB23BBD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FA299-A7BB-4757-B01E-A8B137A8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CBF4E-A20F-4FE2-AE55-D4C4C7FD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EA96F-4A17-4FCC-9B54-7BA151B7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21A14-70B9-4B63-9836-29B80612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1EF0A-C2D1-40B8-A58A-E91616D7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41F7E-C166-4AE7-BDF4-CCDE21E9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0795B-99B1-4F15-A4EE-0499ED8D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F628-8660-45F3-BA1F-9B0FD901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D0BA6-D15E-4CE4-A7D6-02E24E68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5B821-E3E3-46CB-8BD8-5444D2B2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092B2-98B4-4870-A916-56425800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A4492-EE90-4F30-9B83-F1EE267D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0265B-50CD-441F-AEED-056FA39A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BB010-0602-4F00-8B4D-15EF00A1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C86BE-F3A5-4934-A522-C6C46D0F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3D78D-5266-4984-B168-30AE1439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41CFB-7521-4900-ABE1-E98C7E3F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2C5E9-A00D-4281-ADBC-9C04C2E0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36DE-73B6-4891-9ED9-C2D39FB0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06D49-91F1-457A-8DE5-DD963AE7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A2B02-3BAD-4525-9CDF-8B85D034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41C23-7EF5-4634-8E5F-57157654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CC614-47E4-417F-8BF9-CE8ADB2C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B4D74-A1D5-4B13-8834-84B98823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D30DF-21F5-4BFB-A088-0E016CE5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0EE56-A442-4978-8478-9F2A97C8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F14B-3271-4C6E-83DC-0EC58EBC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BB46-543F-447F-B3BF-1080859C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6432-B2A6-4C3E-91DE-2FB7D4E6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CFF1-90AA-49A0-B198-D4912B90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37B-26E9-4162-852B-B0BE0BF4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09C2-5B13-4C92-AADD-CA7C621D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9FF8-7074-443A-A2E0-14C2CFD9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6006-60FA-442E-84FD-DD3E11B5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88A2-4C8E-4DA5-8298-73AF40D1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21EF-7F0D-4142-8A4D-A5F97E84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385E-008B-491D-A71A-C4ED2C22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9B9C-1F1D-4F11-A747-70BA328B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8699-1315-49A5-B53F-F77B0ECE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BB162-62B6-490B-86DA-4DA5D816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FE3F-9057-4354-8814-25B971D4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3E2-4740-4D5E-AD87-F84585FE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AB93-2B8D-4ED0-B78D-172699A8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D955-5E51-47D3-8F25-92D13DF8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0F3E6-AF6B-4C45-A006-D7FDC72F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0918-FC2B-4F7B-8AE2-D1959E19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144FB-FE2E-4BF5-BA0B-542E2B42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118C-92D4-466D-BAB8-F32A5FAB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2EE9-D267-47BC-B305-3C9CC1D9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F720-00F0-491D-ABEA-4BAF5631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4FA8-847F-4EC9-8B01-C54D3A50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3256F-E45C-4D08-847F-8862EA7C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C33-5780-48EA-BA22-7853C569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BDE5F-7F92-4792-8865-90D5DF53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BE46-4256-482D-B3A9-51F0B919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607CF-DD03-4F7C-AB9F-6B9EE920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7ADE-5176-4079-8FCF-584DD7F0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0977A-CB5D-41EE-A0C0-9B36B259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7DAA-0D8B-453B-96E1-934AA911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84202-56DB-4411-A297-AB5129F7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35FE-7F3C-4211-A693-CD85D89D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0BDD1-BF0B-42E4-A004-B9160F1A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4B26D-A7C9-46AC-8F96-484248D4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75C-6E7F-47A5-9778-157F1335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49CD5-115F-4721-91C0-DE1FA3F1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7C55E-EAB5-432A-B458-BC00C3AB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E9DE6-A81E-4E0A-B093-B06442A2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96452-5468-4CD4-943A-4C8DE23F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CA02E-E727-45D0-8ABE-21B643A7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E7D2B-AB02-4584-91A1-8AF5783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9DE14-C36E-418B-877B-B259CA9F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A0583-AB5C-4080-84A1-85A91F8E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03D1E-5821-4203-B23B-A3F85953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733B2-CBF5-4096-BEC1-AAF22CBD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AF0-2CDD-4AF1-BF09-D39D58F1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1B4E4-653F-4AF2-AC2C-A8790FD3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3B6D6-7AF5-468F-A284-E699A920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7F006-DB27-47E8-A142-58B938E1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FFA95-AB97-47AC-B191-476D5521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E0E0C-D0A0-42D6-801A-D3E58F44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06513-1C52-45A6-B3AA-58CFD8C1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CFB11-C6E8-4487-9C5A-C170F7CD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A778D-8D2F-45D0-BF75-9956E413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4AD55-6DAC-4450-B1A2-A1714716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5AA28-BDCA-4964-9BF6-1F15EBB5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A3E-EEEB-434E-8CB8-B1959EAF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AA1BA-EDF3-4E84-86EF-4BB0C96B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D0178-E1A5-4824-9E13-ABDEC780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49795-5618-4D9B-AC14-6E3B43C9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6C839-492A-4A83-A82E-AE9D78D2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7D15A-D457-4610-A7F7-A3C2EE2A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6DDF2-0359-42E3-955A-239A9A91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00B83-DC97-4E47-9462-77E122D1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18078-FAA7-4E0E-BB4B-9CB8A1D3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CAA14-62DE-4AA2-AC57-FA34A9D0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74012-55CA-4C7E-A0A5-F4FD48E9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5BA-4537-4E50-A1C9-4B5538CE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C9EE3-53E0-485A-8A59-3CBF15EB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E0505-7838-4457-8267-C3170FA5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0095B-6B88-4ACD-91FE-73EFABFB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35B8F-7BA1-4E2D-80B2-BC398B9A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D7576-D3C1-4D03-BCD9-9FD89458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2F1AD-667F-4BBA-AB31-B5FA9C1E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B4D0B-0646-4207-8697-90692B0A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1641D-4D55-4ED8-80C6-45E18DD3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36838-5AFE-407B-94E7-67D407C1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39482-8D84-48BA-ABCA-0C30BEE5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51D-512B-4B28-8A38-AE5D1D7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9A133-BB9E-4F6C-BCE4-D86CAC5C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22C28-8F5F-4353-9466-9F89EC20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A558B-F781-4FF3-A70E-05F8CEA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5E5FE-AC89-4434-A67F-5F8323EC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CB9D9-B27F-4811-A3A8-2DB0051A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795FA-FA53-409C-857F-9A7C9326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21102-294F-467F-93EA-38F941E2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58787-7119-4250-BF45-AA5C05C4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8EEEE-E3A4-40BB-85B0-C444CD3A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81C2E-12CF-40AE-9337-2508A335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49E6-9956-47B0-8878-3EFBC2122DB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5872-3ECD-43D8-9913-738870F439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13C5-3EE2-49E1-AADE-D26677AED68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3398-C8DE-4285-BA2E-CB5EFDA10D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9925-8D03-4BAC-9784-00ABE051060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9E92-0245-4D33-B42A-1AEFD89650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8D2C-7AC4-4E45-84CA-0866473518C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7588-EEEB-4E7F-B38F-46F798B8AC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9F69-997C-4CA3-A62A-A83D976C7D4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42E8-007D-4B56-935C-4B3AAC5CE3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A10E-5208-494A-B252-F68A97FCC94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9691-62A7-407F-A4FB-FD4F57F237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080B-6834-4713-8DA5-13C3CEAD61C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BA82-AB20-4A85-A881-0A2AE3D26C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9A5F-30ED-4DA8-881A-E54FE4C01EF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7831-87AA-4A8F-A032-8F1E97C2B3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83CE-3E48-45FD-8516-C3C8D898676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563E-88F7-432B-A6A0-2427CC846B5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F161-4A89-44EB-9E6A-34FADA8B1E7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B84C-CC4F-428E-B377-AE21471F77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2E3F-5C1C-4875-A4AB-4788B4425BD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A378-1E8C-4A24-BFDE-B6E3F57762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3C95-CC3E-4937-9E5F-72698BE5A7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2203-0BFC-4C61-858F-0E7635746F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4EBE-0B95-426A-A301-36EF9DC6CFB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61F7-7341-4E2F-8E74-467B4C8D0E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534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41" name="标题 1"/>
          <p:cNvSpPr/>
          <p:nvPr/>
        </p:nvSpPr>
        <p:spPr>
          <a:xfrm>
            <a:off x="2921040" y="1562040"/>
            <a:ext cx="450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标题 1"/>
          <p:cNvSpPr/>
          <p:nvPr/>
        </p:nvSpPr>
        <p:spPr>
          <a:xfrm>
            <a:off x="2824200" y="2125800"/>
            <a:ext cx="6427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大气简洁商务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12"/>
          <p:cNvSpPr/>
          <p:nvPr/>
        </p:nvSpPr>
        <p:spPr>
          <a:xfrm>
            <a:off x="239760" y="538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49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5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56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4"/>
          <p:cNvSpPr/>
          <p:nvPr/>
        </p:nvSpPr>
        <p:spPr>
          <a:xfrm>
            <a:off x="8054640" y="809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564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566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567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TextBox 25"/>
              <p:cNvSpPr/>
              <p:nvPr/>
            </p:nvSpPr>
            <p:spPr>
              <a:xfrm rot="19641000">
                <a:off x="1866240" y="1772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571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574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Box 32"/>
              <p:cNvSpPr/>
              <p:nvPr/>
            </p:nvSpPr>
            <p:spPr>
              <a:xfrm rot="19641000">
                <a:off x="1866240" y="268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7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578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580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581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585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587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588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TextBox 46"/>
              <p:cNvSpPr/>
              <p:nvPr/>
            </p:nvSpPr>
            <p:spPr>
              <a:xfrm rot="19641000">
                <a:off x="1865880" y="4508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TextBox 49"/>
          <p:cNvSpPr/>
          <p:nvPr/>
        </p:nvSpPr>
        <p:spPr>
          <a:xfrm>
            <a:off x="3844440" y="1766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0"/>
          <p:cNvSpPr/>
          <p:nvPr/>
        </p:nvSpPr>
        <p:spPr>
          <a:xfrm>
            <a:off x="3844440" y="2681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51"/>
          <p:cNvSpPr/>
          <p:nvPr/>
        </p:nvSpPr>
        <p:spPr>
          <a:xfrm>
            <a:off x="3844440" y="359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52"/>
          <p:cNvSpPr/>
          <p:nvPr/>
        </p:nvSpPr>
        <p:spPr>
          <a:xfrm>
            <a:off x="38444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96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0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17"/>
          <p:cNvGrpSpPr/>
          <p:nvPr/>
        </p:nvGrpSpPr>
        <p:grpSpPr>
          <a:xfrm>
            <a:off x="193680" y="1557360"/>
            <a:ext cx="2747880" cy="3355920"/>
            <a:chOff x="193680" y="1557360"/>
            <a:chExt cx="2747880" cy="3355920"/>
          </a:xfrm>
        </p:grpSpPr>
        <p:sp>
          <p:nvSpPr>
            <p:cNvPr id="611" name="圆角矩形 53"/>
            <p:cNvSpPr/>
            <p:nvPr/>
          </p:nvSpPr>
          <p:spPr>
            <a:xfrm>
              <a:off x="193680" y="1557360"/>
              <a:ext cx="2747880" cy="3355920"/>
            </a:xfrm>
            <a:custGeom>
              <a:avLst/>
              <a:gdLst>
                <a:gd name="textAreaLeft" fmla="*/ 47520 w 2747880"/>
                <a:gd name="textAreaRight" fmla="*/ 2700360 w 2747880"/>
                <a:gd name="textAreaTop" fmla="*/ 47520 h 3355920"/>
                <a:gd name="textAreaBottom" fmla="*/ 3308400 h 3355920"/>
              </a:gdLst>
              <a:ahLst/>
              <a:rect l="textAreaLeft" t="textAreaTop" r="textAreaRight" b="textAreaBottom"/>
              <a:pathLst>
                <a:path w="21600" h="26379">
                  <a:moveTo>
                    <a:pt x="1278" y="0"/>
                  </a:moveTo>
                  <a:arcTo wR="1278" hR="1278" stAng="16200000" swAng="-5400000"/>
                  <a:lnTo>
                    <a:pt x="0" y="25101"/>
                  </a:lnTo>
                  <a:arcTo wR="1278" hR="1278" stAng="10800000" swAng="-5400000"/>
                  <a:lnTo>
                    <a:pt x="20322" y="26379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1"/>
          <p:cNvGrpSpPr/>
          <p:nvPr/>
        </p:nvGrpSpPr>
        <p:grpSpPr>
          <a:xfrm>
            <a:off x="3133800" y="1557360"/>
            <a:ext cx="2747880" cy="3355920"/>
            <a:chOff x="3133800" y="1557360"/>
            <a:chExt cx="2747880" cy="3355920"/>
          </a:xfrm>
        </p:grpSpPr>
        <p:sp>
          <p:nvSpPr>
            <p:cNvPr id="613" name="圆角矩形 65"/>
            <p:cNvSpPr/>
            <p:nvPr/>
          </p:nvSpPr>
          <p:spPr>
            <a:xfrm>
              <a:off x="3133800" y="1557360"/>
              <a:ext cx="2747880" cy="3355920"/>
            </a:xfrm>
            <a:custGeom>
              <a:avLst/>
              <a:gdLst>
                <a:gd name="textAreaLeft" fmla="*/ 47520 w 2747880"/>
                <a:gd name="textAreaRight" fmla="*/ 2700360 w 2747880"/>
                <a:gd name="textAreaTop" fmla="*/ 47520 h 3355920"/>
                <a:gd name="textAreaBottom" fmla="*/ 3308400 h 3355920"/>
              </a:gdLst>
              <a:ahLst/>
              <a:rect l="textAreaLeft" t="textAreaTop" r="textAreaRight" b="textAreaBottom"/>
              <a:pathLst>
                <a:path w="21600" h="26379">
                  <a:moveTo>
                    <a:pt x="1278" y="0"/>
                  </a:moveTo>
                  <a:arcTo wR="1278" hR="1278" stAng="16200000" swAng="-5400000"/>
                  <a:lnTo>
                    <a:pt x="0" y="25101"/>
                  </a:lnTo>
                  <a:arcTo wR="1278" hR="1278" stAng="10800000" swAng="-5400000"/>
                  <a:lnTo>
                    <a:pt x="20322" y="26379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25"/>
          <p:cNvGrpSpPr/>
          <p:nvPr/>
        </p:nvGrpSpPr>
        <p:grpSpPr>
          <a:xfrm>
            <a:off x="6073920" y="1557360"/>
            <a:ext cx="2746080" cy="3355920"/>
            <a:chOff x="6073920" y="1557360"/>
            <a:chExt cx="2746080" cy="3355920"/>
          </a:xfrm>
        </p:grpSpPr>
        <p:sp>
          <p:nvSpPr>
            <p:cNvPr id="615" name="圆角矩形 71"/>
            <p:cNvSpPr/>
            <p:nvPr/>
          </p:nvSpPr>
          <p:spPr>
            <a:xfrm>
              <a:off x="6073920" y="1557360"/>
              <a:ext cx="2746080" cy="3355920"/>
            </a:xfrm>
            <a:custGeom>
              <a:avLst/>
              <a:gdLst>
                <a:gd name="textAreaLeft" fmla="*/ 47520 w 2746080"/>
                <a:gd name="textAreaRight" fmla="*/ 2698560 w 2746080"/>
                <a:gd name="textAreaTop" fmla="*/ 47520 h 3355920"/>
                <a:gd name="textAreaBottom" fmla="*/ 3308400 h 3355920"/>
              </a:gdLst>
              <a:ahLst/>
              <a:rect l="textAreaLeft" t="textAreaTop" r="textAreaRight" b="textAreaBottom"/>
              <a:pathLst>
                <a:path w="21600" h="26396">
                  <a:moveTo>
                    <a:pt x="1278" y="0"/>
                  </a:moveTo>
                  <a:arcTo wR="1278" hR="1278" stAng="16200000" swAng="-5400000"/>
                  <a:lnTo>
                    <a:pt x="0" y="25118"/>
                  </a:lnTo>
                  <a:arcTo wR="1278" hR="1278" stAng="10800000" swAng="-5400000"/>
                  <a:lnTo>
                    <a:pt x="20322" y="26396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617" name="椭圆 90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91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椭圆 92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3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94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椭圆 95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3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24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17"/>
          <p:cNvGrpSpPr/>
          <p:nvPr/>
        </p:nvGrpSpPr>
        <p:grpSpPr>
          <a:xfrm>
            <a:off x="925560" y="1560600"/>
            <a:ext cx="2076480" cy="1044360"/>
            <a:chOff x="925560" y="1560600"/>
            <a:chExt cx="2076480" cy="1044360"/>
          </a:xfrm>
        </p:grpSpPr>
        <p:sp>
          <p:nvSpPr>
            <p:cNvPr id="632" name="椭圆 10"/>
            <p:cNvSpPr/>
            <p:nvPr/>
          </p:nvSpPr>
          <p:spPr>
            <a:xfrm>
              <a:off x="925560" y="1560600"/>
              <a:ext cx="2076480" cy="10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23"/>
          <p:cNvGrpSpPr/>
          <p:nvPr/>
        </p:nvGrpSpPr>
        <p:grpSpPr>
          <a:xfrm>
            <a:off x="838080" y="2855880"/>
            <a:ext cx="2279880" cy="1285920"/>
            <a:chOff x="838080" y="2855880"/>
            <a:chExt cx="2279880" cy="1285920"/>
          </a:xfrm>
        </p:grpSpPr>
        <p:sp>
          <p:nvSpPr>
            <p:cNvPr id="634" name="椭圆 10"/>
            <p:cNvSpPr/>
            <p:nvPr/>
          </p:nvSpPr>
          <p:spPr>
            <a:xfrm>
              <a:off x="838080" y="2855880"/>
              <a:ext cx="2279880" cy="128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29"/>
          <p:cNvGrpSpPr/>
          <p:nvPr/>
        </p:nvGrpSpPr>
        <p:grpSpPr>
          <a:xfrm>
            <a:off x="650880" y="4141800"/>
            <a:ext cx="2622600" cy="1770120"/>
            <a:chOff x="650880" y="4141800"/>
            <a:chExt cx="2622600" cy="1770120"/>
          </a:xfrm>
        </p:grpSpPr>
        <p:sp>
          <p:nvSpPr>
            <p:cNvPr id="636" name="椭圆 10"/>
            <p:cNvSpPr/>
            <p:nvPr/>
          </p:nvSpPr>
          <p:spPr>
            <a:xfrm>
              <a:off x="650880" y="4141800"/>
              <a:ext cx="2622600" cy="177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638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9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Rectangle 32"/>
            <p:cNvSpPr/>
            <p:nvPr/>
          </p:nvSpPr>
          <p:spPr>
            <a:xfrm>
              <a:off x="5162400" y="14796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645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Rectangle 32"/>
            <p:cNvSpPr/>
            <p:nvPr/>
          </p:nvSpPr>
          <p:spPr>
            <a:xfrm>
              <a:off x="5162400" y="29019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652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Rectangle 32"/>
            <p:cNvSpPr/>
            <p:nvPr/>
          </p:nvSpPr>
          <p:spPr>
            <a:xfrm>
              <a:off x="5162400" y="432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662" name="椭圆 75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椭圆 76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椭圆 77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78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椭圆 79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0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8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69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677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678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9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680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2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4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5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6" name="TextBox 60"/>
            <p:cNvSpPr/>
            <p:nvPr/>
          </p:nvSpPr>
          <p:spPr>
            <a:xfrm rot="20959800">
              <a:off x="644004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688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689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0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691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3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4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5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7" name="TextBox 94"/>
            <p:cNvSpPr/>
            <p:nvPr/>
          </p:nvSpPr>
          <p:spPr>
            <a:xfrm rot="20959800">
              <a:off x="3350520" y="3525840"/>
              <a:ext cx="1140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699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700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1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702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04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6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7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8" name="TextBox 95"/>
            <p:cNvSpPr/>
            <p:nvPr/>
          </p:nvSpPr>
          <p:spPr>
            <a:xfrm rot="20959800">
              <a:off x="850680" y="315720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711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0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718" name="椭圆 106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07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108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109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110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111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72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733" name="圆角矩形 52"/>
            <p:cNvSpPr/>
            <p:nvPr/>
          </p:nvSpPr>
          <p:spPr>
            <a:xfrm>
              <a:off x="5216400" y="2155680"/>
              <a:ext cx="3316320" cy="6494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TextBox 57"/>
            <p:cNvSpPr/>
            <p:nvPr/>
          </p:nvSpPr>
          <p:spPr>
            <a:xfrm>
              <a:off x="650952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29"/>
          <p:cNvGrpSpPr/>
          <p:nvPr/>
        </p:nvGrpSpPr>
        <p:grpSpPr>
          <a:xfrm>
            <a:off x="5216400" y="3784680"/>
            <a:ext cx="3316320" cy="659880"/>
            <a:chOff x="5216400" y="3784680"/>
            <a:chExt cx="3316320" cy="659880"/>
          </a:xfrm>
        </p:grpSpPr>
        <p:sp>
          <p:nvSpPr>
            <p:cNvPr id="737" name="圆角矩形 59"/>
            <p:cNvSpPr/>
            <p:nvPr/>
          </p:nvSpPr>
          <p:spPr>
            <a:xfrm>
              <a:off x="5216400" y="3784680"/>
              <a:ext cx="33163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8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TextBox 65"/>
            <p:cNvSpPr/>
            <p:nvPr/>
          </p:nvSpPr>
          <p:spPr>
            <a:xfrm>
              <a:off x="6509520" y="392400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33"/>
          <p:cNvGrpSpPr/>
          <p:nvPr/>
        </p:nvGrpSpPr>
        <p:grpSpPr>
          <a:xfrm>
            <a:off x="411840" y="3798720"/>
            <a:ext cx="3315600" cy="649440"/>
            <a:chOff x="411840" y="3798720"/>
            <a:chExt cx="3315600" cy="649440"/>
          </a:xfrm>
        </p:grpSpPr>
        <p:sp>
          <p:nvSpPr>
            <p:cNvPr id="741" name="圆角矩形 96"/>
            <p:cNvSpPr/>
            <p:nvPr/>
          </p:nvSpPr>
          <p:spPr>
            <a:xfrm>
              <a:off x="411840" y="3798720"/>
              <a:ext cx="331560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TextBox 98"/>
            <p:cNvSpPr/>
            <p:nvPr/>
          </p:nvSpPr>
          <p:spPr>
            <a:xfrm>
              <a:off x="4996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37"/>
          <p:cNvGrpSpPr/>
          <p:nvPr/>
        </p:nvGrpSpPr>
        <p:grpSpPr>
          <a:xfrm>
            <a:off x="411840" y="2171880"/>
            <a:ext cx="3315600" cy="647640"/>
            <a:chOff x="411840" y="2171880"/>
            <a:chExt cx="3315600" cy="647640"/>
          </a:xfrm>
        </p:grpSpPr>
        <p:sp>
          <p:nvSpPr>
            <p:cNvPr id="745" name="圆角矩形 102"/>
            <p:cNvSpPr/>
            <p:nvPr/>
          </p:nvSpPr>
          <p:spPr>
            <a:xfrm>
              <a:off x="411840" y="2171880"/>
              <a:ext cx="331560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6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TextBox 104"/>
            <p:cNvSpPr/>
            <p:nvPr/>
          </p:nvSpPr>
          <p:spPr>
            <a:xfrm>
              <a:off x="4996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Text Box 3"/>
          <p:cNvSpPr/>
          <p:nvPr/>
        </p:nvSpPr>
        <p:spPr>
          <a:xfrm>
            <a:off x="446040" y="5489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750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9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757" name="椭圆 22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椭圆 23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椭圆 24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椭圆 25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椭圆 26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椭圆 27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3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764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772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73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74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75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776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778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780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2" name="TextBox 48"/>
          <p:cNvSpPr/>
          <p:nvPr/>
        </p:nvSpPr>
        <p:spPr>
          <a:xfrm>
            <a:off x="1220760" y="3714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5"/>
          <p:cNvSpPr/>
          <p:nvPr/>
        </p:nvSpPr>
        <p:spPr>
          <a:xfrm>
            <a:off x="870120" y="4386240"/>
            <a:ext cx="73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785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1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792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5"/>
          <p:cNvSpPr/>
          <p:nvPr/>
        </p:nvSpPr>
        <p:spPr>
          <a:xfrm>
            <a:off x="3581640" y="1508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6"/>
          <p:cNvSpPr/>
          <p:nvPr/>
        </p:nvSpPr>
        <p:spPr>
          <a:xfrm>
            <a:off x="36637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94000" y="42696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6608880" y="53496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Windows 用户</dc:creator>
  <dc:description/>
  <cp:keywords/>
  <dc:language>en-US</dc:language>
  <cp:lastModifiedBy>yu wang</cp:lastModifiedBy>
  <cp:lastPrinted>1899-12-30T00:00:00Z</cp:lastPrinted>
  <dcterms:modified xsi:type="dcterms:W3CDTF">2015-08-08T10:05:25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