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B755E-4E98-4DAE-AC5A-D1C0BB7BC3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6B5DF-CC09-48F6-B424-1E8AC26A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0E66D-9287-4457-857B-1517D334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2384C-5A60-43F3-BAAF-25B7A7493D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A7E54-7CB2-4595-AB30-6AA06BCF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BEBBC-9499-40A7-8DD0-49C07AF8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12B6F-7A91-4238-AD33-6F728AA3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974A5-C11F-4E51-B82D-62A26611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9015D-F955-4402-8924-3B1365E1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A39DF-0BF4-49AE-B66D-CA20DEC6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4FBD9-C419-446D-B0DF-E1E142F4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B1895-FAE1-4883-90E4-6304CCFB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17028-D9D6-49F5-8E12-6E779897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BF78D-D5A5-4F5D-BCF4-A1A0AD43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0951A-3C1A-427E-AB26-3799CFD4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7715D-AF03-4C90-A581-6CB11493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FBD50-EFB0-4DF6-B53B-17EDF65C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CE5EF-DE0D-46C0-971A-6FED7E58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D1FEA-9845-44DF-B7C1-1CCC6D05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C3DFC-B369-4038-9998-9C3CBC0F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038C0-B045-4B9B-A967-8215869F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245C2-4D81-446C-99E5-67A57DE0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FD02B-0615-4E83-9076-1ED52233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6DB5C-2C12-42DA-916B-4618A359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39CC-0053-43D1-BB58-2BCBBB54DCB9}" type="datetime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A7AF-4E0A-4B3E-9F72-4D88E3FFD6CB}" type="slidenum"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2528-BD90-4D28-8DF5-88DA8BA452B5}" type="datetime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E9AD-84CA-4445-9239-A632F397BD3D}" type="slidenum"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7772400" cy="12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淡雅花朵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简洁模板免费下载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290520" y="295200"/>
            <a:ext cx="1401840" cy="3970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71640" y="4508640"/>
            <a:ext cx="6975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日期占位符 3"/>
          <p:cNvSpPr/>
          <p:nvPr/>
        </p:nvSpPr>
        <p:spPr>
          <a:xfrm>
            <a:off x="45720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91A6-046D-4E36-8C99-8694E659BF2A}" type="datetime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/7/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灯片编号占位符 4"/>
          <p:cNvSpPr/>
          <p:nvPr/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AC44-1CDF-4767-9872-17091D64C9A8}" type="slidenum"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137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配色方案修改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配色方案在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格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幻灯片设计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配色方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编辑配色方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的添加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添加修改在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下调整。直接选择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图片删除或修改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字体格式的设置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标题和文本格式的设置在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默认设置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首页主标题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4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）加粗加阴影；副标题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2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）加粗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内页标题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4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）加粗加阴影；内页内容文字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3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号（中文微软雅黑）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"/>
          <p:cNvPicPr/>
          <p:nvPr/>
        </p:nvPicPr>
        <p:blipFill>
          <a:blip r:embed="rId1"/>
          <a:stretch/>
        </p:blipFill>
        <p:spPr>
          <a:xfrm>
            <a:off x="2195640" y="3114720"/>
            <a:ext cx="4713120" cy="160956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微软雅黑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微软雅黑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微软雅黑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qiye/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shangwu/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微软雅黑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5:21:49Z</dcterms:created>
  <dc:creator>微软中国</dc:creator>
  <dc:description/>
  <dc:language>en-US</dc:language>
  <cp:lastModifiedBy>yu wang</cp:lastModifiedBy>
  <dcterms:modified xsi:type="dcterms:W3CDTF">2015-08-08T10:07:10Z</dcterms:modified>
  <cp:revision>11</cp:revision>
  <dc:subject/>
  <dc:title>幻灯片 1</dc:title>
</cp:coreProperties>
</file>