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261-A5F9-4954-B919-654880DC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0B9-1F97-4CE0-ACA6-9803857F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DCA-67FB-445E-A36B-D6D5FA39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D66-86B3-4C6D-AAB3-2C4D9FF1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E32-73C6-4F0B-9DF5-21A6DE6B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D5D-3942-4DC5-8B6A-B820A90C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1A9-428C-4AC6-9365-2457168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4FE-E36E-49F3-85F4-0A5B91B2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E08-EEE5-4EC6-AA48-91339909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644-5F36-4A0B-832F-8A8EBEB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E06-CA0D-40CC-8153-18E32D4F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00A-A605-46D2-964C-740545A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6F89-9F26-4566-B9EE-126359445D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7"/>
          <p:cNvSpPr/>
          <p:nvPr/>
        </p:nvSpPr>
        <p:spPr>
          <a:xfrm>
            <a:off x="395280" y="692280"/>
            <a:ext cx="856944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8"/>
          <p:cNvSpPr/>
          <p:nvPr/>
        </p:nvSpPr>
        <p:spPr>
          <a:xfrm>
            <a:off x="3348000" y="6237360"/>
            <a:ext cx="561672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tretch/>
        </p:blipFill>
        <p:spPr>
          <a:xfrm>
            <a:off x="6659640" y="6211800"/>
            <a:ext cx="253800" cy="292320"/>
          </a:xfrm>
          <a:prstGeom prst="rect">
            <a:avLst/>
          </a:prstGeom>
          <a:ln w="0">
            <a:noFill/>
          </a:ln>
        </p:spPr>
      </p:pic>
      <p:sp>
        <p:nvSpPr>
          <p:cNvPr id="161" name="矩形 1"/>
          <p:cNvSpPr/>
          <p:nvPr/>
        </p:nvSpPr>
        <p:spPr>
          <a:xfrm>
            <a:off x="2471760" y="134136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古典桃花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395280" y="115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模板使用说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611280" y="1125360"/>
            <a:ext cx="784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7937640" y="6308640"/>
            <a:ext cx="109836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extBox 1" descr=""/>
          <p:cNvPicPr/>
          <p:nvPr/>
        </p:nvPicPr>
        <p:blipFill>
          <a:blip r:embed="rId1"/>
          <a:stretch/>
        </p:blipFill>
        <p:spPr>
          <a:xfrm>
            <a:off x="1116000" y="2620800"/>
            <a:ext cx="74851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8"/>
          <p:cNvSpPr/>
          <p:nvPr/>
        </p:nvSpPr>
        <p:spPr>
          <a:xfrm>
            <a:off x="971640" y="602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yu wang</cp:lastModifiedBy>
  <dcterms:modified xsi:type="dcterms:W3CDTF">2015-08-08T10:01:57Z</dcterms:modified>
  <cp:revision>11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6000000000001024140</vt:lpwstr>
  </property>
</Properties>
</file>